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F764-288F-4C61-BC74-11665EEDB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AE0D-6FBF-498E-A81C-81E7DE70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B86D-0959-4CFE-9C47-130CD7E2C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646F-8DC2-4172-8AF8-376A21B6E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4FFB-8510-4F1F-BF87-640B57BF8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BDE5-3340-448D-BF80-53FB1AB2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DFD0-9446-4883-8FA3-EF478DC5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4BB8-7B9B-4AD5-9529-84850810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2F2B3-D9A6-4468-BEFF-F8A1B764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8F82-C0D7-4077-9265-14A00B3B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9D3E-31E9-4D30-9E2B-34E9A2EC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C269-CC56-48A7-ACF2-1A8360A8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FABD4-8F80-4602-840B-A87131B1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77BD-6146-43EB-97B0-01A288B5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5CA9-7E06-49FF-98C7-D3C7E104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903D-64F5-4E06-A17F-0C860F101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F651-9CA6-4DC3-9737-4130DD758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04E6-1E39-4189-B5ED-16849D24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9937-AD19-4A9A-9967-1A233EC8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71D0-8441-496D-B5F3-67EEB3E2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E4BA-8746-4AFA-A350-59227D7E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C154-08CE-4DB5-B404-69E1A61A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8F03-3C49-4C9C-A4C5-D7028575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C978-9649-41DB-82FD-0A905D31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B23F-DC84-475E-9F4B-7F1E7697A16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DCB0-D25D-4346-B8A1-45F21842A8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23018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Times New Roman"/>
              </a:rPr>
              <a:t>Тема: Число 8. Цифра 8.</a:t>
            </a: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248520" y="4343400"/>
            <a:ext cx="2666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Verdana"/>
              </a:rPr>
              <a:t>Авто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Verdana"/>
              </a:rPr>
              <a:t>Воробьева Елена Валерьевна</a:t>
            </a:r>
            <a:br>
              <a:rPr sz="2000"/>
            </a:br>
            <a:r>
              <a:rPr b="0" lang="ru-RU" sz="2000" spc="-1" strike="noStrike">
                <a:solidFill>
                  <a:srgbClr val="0066ff"/>
                </a:solidFill>
                <a:latin typeface="Verdana"/>
              </a:rPr>
              <a:t>Образовательное учреждение МОУ</a:t>
            </a:r>
            <a:br>
              <a:rPr sz="2000"/>
            </a:br>
            <a:r>
              <a:rPr b="0" lang="ru-RU" sz="2000" spc="-1" strike="noStrike">
                <a:solidFill>
                  <a:srgbClr val="0066ff"/>
                </a:solidFill>
                <a:latin typeface="Verdana"/>
              </a:rPr>
              <a:t> Гимназия № 26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Verdana"/>
              </a:rPr>
              <a:t>Томск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Arial Black"/>
              </a:rPr>
              <a:t>Гимнастика для глаз «Буратино».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ставьте, что на ваш мизинчик левой руки села красивая бабочка, рассмотрите 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А теперь бабочка вспорхнула и полетела в даль. Посмотрите глазками перед собой в дал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Бабочка вновь вернулась на наш мизинчик. Рассмотрите ее глаз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Вновь бабочка полетела в да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Arial Black"/>
              </a:rPr>
              <a:t>Гимнастика для глаз «Буратино».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еперь на наш мизинчик прилетела стрекоза. Посмотрите на н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рекоза отдохнула и тоже полетела в даль. Проследите глазками за 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ебята, вспомните, когда лиса Алиса спрашивала у Буратино, где золотые монеты, как он отвечал ей моргая глазками: «Не знаю, какие монеты?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вайте мы тоже изобразим вид, будто мы  не понимаем, о чем речь. Поморгаем как Буратино глазками, быстро - быстро. Молодц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Arial Black"/>
              </a:rPr>
              <a:t>Гимнастика для глаз «Буратино».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И последнее наше упражнение для наших глаз. Скажите, Буратино актер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 А все актеры перед выходом на сцену накладывают грим. Давайте и мы с вами представим, что мы актеры. Возьмите на кончики средних пальцев немного грима и нанесите его на веки. Легонечко, не нажимая. Сделайте это 10 раз. Ну вот, теперь можно выходить на сце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4"/>
          <p:cNvSpPr txBox="1"/>
          <p:nvPr/>
        </p:nvSpPr>
        <p:spPr>
          <a:xfrm rot="5400000">
            <a:off x="1409760" y="-495360"/>
            <a:ext cx="6400800" cy="8305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25560">
                  <a:solidFill>
                    <a:srgbClr val="42c723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42c723"/>
                    </a:gs>
                    <a:gs pos="100000">
                      <a:srgbClr val="ffff00"/>
                    </a:gs>
                  </a:gsLst>
                  <a:lin ang="18900000"/>
                </a:gradFill>
                <a:latin typeface="Arial"/>
              </a:rPr>
              <a:t>8</a:t>
            </a:r>
            <a:endParaRPr b="0" lang="en-US" sz="9600" spc="1" strike="noStrike">
              <a:ln w="25560">
                <a:solidFill>
                  <a:srgbClr val="42c723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42c723"/>
                  </a:gs>
                  <a:gs pos="100000">
                    <a:srgbClr val="ffff00"/>
                  </a:gs>
                </a:gsLst>
                <a:lin ang="189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Arial Black"/>
              </a:rPr>
              <a:t>Физминутка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мка, Хомка, Хомячок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сатенький бочок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мка рано вста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ет ушки, чистит р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метает Хомка хатк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ыходит на зарядку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, два, три, четыре, пя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мка сильным хочет ст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img099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838080" y="2133720"/>
            <a:ext cx="746784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097"/>
                <a:gd name="adj2" fmla="val -10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играем в игру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котюша бусы"/>
          <p:cNvPicPr/>
          <p:nvPr/>
        </p:nvPicPr>
        <p:blipFill>
          <a:blip r:embed="rId1"/>
          <a:stretch/>
        </p:blipFill>
        <p:spPr>
          <a:xfrm>
            <a:off x="457200" y="304920"/>
            <a:ext cx="83818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Arial Black"/>
              </a:rPr>
              <a:t>Физминутка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 – подняться, потянутьс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а – согнуться, разогну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и – в ладоши три хлоп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четыре – руки ш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ять – руками помах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есть – на корточки присесть, шею вытянуть, посмотреть на право, а затем – на ле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ь, восемь – лень отброс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4403880" y="3770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DED2E08F"/>
          <p:cNvPicPr/>
          <p:nvPr/>
        </p:nvPicPr>
        <p:blipFill>
          <a:blip r:embed="rId1"/>
          <a:srcRect l="9567" t="58812" r="13386" b="3385"/>
          <a:stretch/>
        </p:blipFill>
        <p:spPr>
          <a:xfrm>
            <a:off x="457200" y="228600"/>
            <a:ext cx="8381880" cy="64771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7"/>
          <p:cNvSpPr/>
          <p:nvPr/>
        </p:nvSpPr>
        <p:spPr>
          <a:xfrm>
            <a:off x="5562720" y="4191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78524C57"/>
          <p:cNvPicPr/>
          <p:nvPr/>
        </p:nvPicPr>
        <p:blipFill>
          <a:blip r:embed="rId1"/>
          <a:srcRect l="19327" t="46162" r="9255" b="16128"/>
          <a:stretch/>
        </p:blipFill>
        <p:spPr>
          <a:xfrm>
            <a:off x="457200" y="228600"/>
            <a:ext cx="84582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Arial Black"/>
              </a:rPr>
              <a:t>Гимнастика для глаз «Буратино».</a:t>
            </a: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ята, вы помните нашего друга Буратин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А помните, как он любил дразнить лису Алису и кота Базилио? Приложит к своему и без того длинному носу оттопыренный палец и дразнится. Попробуйте – ка сделать это сами. Итак, сделай «нос». Теперь посмотри на кончик оттопыренного мизин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ложить руки так, чтобы большой палец правой руки соприкасался носа, а большой палец левой руки, соприкасался мизинца правой рук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2-22T04:52:52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