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362-79AC-4999-A53A-D0B8AB27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93D-B1D6-4BED-8B40-8A60D37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607-8B94-4F08-83C1-1E186F0F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1D6-D55B-45E7-95E8-CFB48E73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B86-F1B4-4E09-A02E-E71EE03B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947-4047-40A6-A441-B8C63A2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C01-9558-4CC1-AC81-6E897BB7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AB50-63D7-43FB-80B9-D1CB463E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55A2-E58A-4D67-BEC1-C586E49C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084-5FEE-4855-BF95-EDBAA9D5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7E4-58D9-4D11-99D1-A441656C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941-5ED9-40B0-BC33-705EDFE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DE22-188B-40A1-AB34-AF14016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22D-E331-49E5-9AD8-0C825BB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D5C-A707-4C13-9E99-A3D930D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8406-B11D-4766-8412-5630064E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4438-888B-48DD-BF61-54ECB071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65BA-3D1D-407D-BCC8-3518850F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BF76-F9EE-4235-8E19-7F324F93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31C1-A252-4A6C-A1DD-F4FDF78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3269-ACFC-416D-880C-9C2B44E4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4AF5-271F-4774-963A-4F8D0FA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8BA-8924-4A4B-9990-9B2BF7F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ECCF-A447-440F-A17A-BA5A1A4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7C16-D4DF-4D16-B11D-5A78C6AF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0F4F-0C00-4B47-912F-9A7874B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5BBF-5E54-469F-B294-878F6A24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9CA2-0D79-4036-A10B-DC6984CA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9B8F-2A25-45F0-997E-011A71EE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8301-78F9-4F8B-ABA1-F6A06BEC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A3D6-2844-420B-82B2-3061DFC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4CC0-1541-49CF-8E8F-F256957C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BC90-EC6A-44D3-83BB-6422598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561-49E4-4864-A505-0B6169A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D56FA-46F2-4BFA-A8C5-3917584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0FE3-8D20-4B73-8516-4C676C38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8D09-B08F-41E9-8C1E-2447511A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D215-C4E4-4861-AE69-D1D5824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5116-26A0-4355-AE57-B8CB3E57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34C3-041B-4234-9136-521E1D6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857B-9A3D-403A-A5EA-8408E4D9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378D-E517-48CE-8EC3-25C12EB7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E3D0-464E-43B3-9358-840874E2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F90C-9090-450F-A47C-E760F925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6DB-9F4C-4D6B-A874-DCF736D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46C0A-3557-4E07-BDDE-6D66DF09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BD76-5193-448F-A257-871FCB2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21E8-A967-44B0-A6AE-2B27C946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4693-CDFA-424D-B69E-01C7832E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FC95-AA3E-4B13-992C-ADC5F4A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57265-0C3D-4789-9A5E-9B26C25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72CB-1836-48A1-8116-7B9F410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A1A2-6EC8-45C2-BE66-8C84401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348E-8D10-4C5F-99AA-EAF4E40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90FC-E1B5-4420-A9F9-9B15D72F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A3A-5FE5-459E-9E46-D5C05BB8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D2EB0-AE6E-4E1C-AAB9-CE183F8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3C03-7A5C-4403-9675-0B8D3A72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86E0-422A-4D6E-BCD5-80FDC04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54A3-02B3-46BE-B886-BF34F47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FDDC9-0F39-4352-B80B-78145BE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CFD6-E84A-4D86-8DC7-5B2210DE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46EDA-0C50-4ADC-A09F-01D1BC6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BC88-A17B-4CD2-A0D5-1168437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9BD18-4A3A-4781-A00D-62A134C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D1BB-F77D-4052-92ED-C8749BD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5EA-2DAF-40AB-B4E2-0941BCE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1989-3515-4751-B721-31F6E0D2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A153-9E57-402A-9D64-EC68A9CE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3D8A6-75BB-49B9-811D-3D92C75B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BE6E-8640-4636-9A20-99743B38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C750-B068-4956-946B-E493FBFE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19D78-1370-4958-9F50-3FB9DD3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BA82-36F1-4842-B7CE-E50E5F6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DFFB-A5BA-4834-AB3D-26A4E2C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1F8A-153C-4DDC-8FF1-252FC1BB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59DF-7FDF-4D1B-BDDA-197F710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B0A-9383-4F06-8891-EF88143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58AF-3A16-4478-8966-7F4E976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46CA-7997-43BE-B6E2-B9F5C175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572A-1363-4C33-BED6-79BFB5D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ADD70-94E2-4E41-BE35-EED7060B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6A8F4-37F5-4826-85AD-FF9B9EB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55E-CC6F-4604-B554-9BD43B2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758-8C0B-4D9E-8BC4-FBA1507912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" name="Rectangle 51"/>
          <p:cNvSpPr/>
          <p:nvPr/>
        </p:nvSpPr>
        <p:spPr>
          <a:xfrm>
            <a:off x="105732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53"/>
          <p:cNvGrpSpPr/>
          <p:nvPr/>
        </p:nvGrpSpPr>
        <p:grpSpPr>
          <a:xfrm>
            <a:off x="5407920" y="63000"/>
            <a:ext cx="3622680" cy="6130440"/>
            <a:chOff x="5407920" y="63000"/>
            <a:chExt cx="3622680" cy="6130440"/>
          </a:xfrm>
        </p:grpSpPr>
        <p:sp>
          <p:nvSpPr>
            <p:cNvPr id="14" name="Freeform 54"/>
            <p:cNvSpPr/>
            <p:nvPr/>
          </p:nvSpPr>
          <p:spPr>
            <a:xfrm flipV="1" rot="11970000">
              <a:off x="6581160" y="348840"/>
              <a:ext cx="2116800" cy="23551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55"/>
            <p:cNvSpPr/>
            <p:nvPr/>
          </p:nvSpPr>
          <p:spPr>
            <a:xfrm flipV="1" rot="11970000">
              <a:off x="7421040" y="1959480"/>
              <a:ext cx="906840" cy="842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56"/>
            <p:cNvSpPr/>
            <p:nvPr/>
          </p:nvSpPr>
          <p:spPr>
            <a:xfrm flipV="1" rot="11970000">
              <a:off x="6824160" y="2591280"/>
              <a:ext cx="439920" cy="3949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57"/>
            <p:cNvSpPr/>
            <p:nvPr/>
          </p:nvSpPr>
          <p:spPr>
            <a:xfrm flipV="1" rot="11970000">
              <a:off x="7251480" y="675000"/>
              <a:ext cx="388800" cy="5504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58"/>
            <p:cNvSpPr/>
            <p:nvPr/>
          </p:nvSpPr>
          <p:spPr>
            <a:xfrm flipV="1" rot="11970000">
              <a:off x="7151400" y="2647080"/>
              <a:ext cx="163440" cy="3315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9"/>
            <p:cNvSpPr/>
            <p:nvPr/>
          </p:nvSpPr>
          <p:spPr>
            <a:xfrm flipV="1" rot="11970000">
              <a:off x="7137360" y="1244160"/>
              <a:ext cx="190440" cy="1425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0"/>
            <p:cNvSpPr/>
            <p:nvPr/>
          </p:nvSpPr>
          <p:spPr>
            <a:xfrm flipV="1" rot="11970000">
              <a:off x="5938200" y="2933280"/>
              <a:ext cx="523800" cy="32662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Freeform 61"/>
          <p:cNvSpPr/>
          <p:nvPr/>
        </p:nvSpPr>
        <p:spPr>
          <a:xfrm flipH="1" rot="373800">
            <a:off x="34200" y="3106440"/>
            <a:ext cx="512640" cy="1030680"/>
          </a:xfrm>
          <a:custGeom>
            <a:avLst/>
            <a:gdLst/>
            <a:ahLst/>
            <a:rect l="l" t="t" r="r" b="b"/>
            <a:pathLst>
              <a:path w="128" h="217">
                <a:moveTo>
                  <a:pt x="94" y="0"/>
                </a:moveTo>
                <a:lnTo>
                  <a:pt x="105" y="9"/>
                </a:lnTo>
                <a:lnTo>
                  <a:pt x="115" y="27"/>
                </a:lnTo>
                <a:lnTo>
                  <a:pt x="123" y="50"/>
                </a:lnTo>
                <a:lnTo>
                  <a:pt x="128" y="78"/>
                </a:lnTo>
                <a:lnTo>
                  <a:pt x="127" y="111"/>
                </a:lnTo>
                <a:lnTo>
                  <a:pt x="116" y="145"/>
                </a:lnTo>
                <a:lnTo>
                  <a:pt x="94" y="181"/>
                </a:lnTo>
                <a:lnTo>
                  <a:pt x="60" y="217"/>
                </a:lnTo>
                <a:lnTo>
                  <a:pt x="49" y="213"/>
                </a:lnTo>
                <a:lnTo>
                  <a:pt x="38" y="210"/>
                </a:lnTo>
                <a:lnTo>
                  <a:pt x="26" y="205"/>
                </a:lnTo>
                <a:lnTo>
                  <a:pt x="16" y="201"/>
                </a:lnTo>
                <a:lnTo>
                  <a:pt x="8" y="196"/>
                </a:lnTo>
                <a:lnTo>
                  <a:pt x="2" y="190"/>
                </a:lnTo>
                <a:lnTo>
                  <a:pt x="0" y="183"/>
                </a:lnTo>
                <a:lnTo>
                  <a:pt x="1" y="178"/>
                </a:lnTo>
                <a:lnTo>
                  <a:pt x="13" y="171"/>
                </a:lnTo>
                <a:lnTo>
                  <a:pt x="29" y="161"/>
                </a:lnTo>
                <a:lnTo>
                  <a:pt x="46" y="150"/>
                </a:lnTo>
                <a:lnTo>
                  <a:pt x="63" y="134"/>
                </a:lnTo>
                <a:lnTo>
                  <a:pt x="79" y="112"/>
                </a:lnTo>
                <a:lnTo>
                  <a:pt x="91" y="83"/>
                </a:lnTo>
                <a:lnTo>
                  <a:pt x="97" y="46"/>
                </a:lnTo>
                <a:lnTo>
                  <a:pt x="94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62"/>
          <p:cNvSpPr/>
          <p:nvPr/>
        </p:nvSpPr>
        <p:spPr>
          <a:xfrm>
            <a:off x="266760" y="2000160"/>
            <a:ext cx="1998720" cy="2432160"/>
          </a:xfrm>
          <a:custGeom>
            <a:avLst/>
            <a:gdLst/>
            <a:ahLst/>
            <a:rect l="l" t="t" r="r" b="b"/>
            <a:pathLst>
              <a:path w="1259" h="1532">
                <a:moveTo>
                  <a:pt x="891" y="1532"/>
                </a:moveTo>
                <a:lnTo>
                  <a:pt x="954" y="1452"/>
                </a:lnTo>
                <a:lnTo>
                  <a:pt x="1032" y="1338"/>
                </a:lnTo>
                <a:lnTo>
                  <a:pt x="1115" y="1188"/>
                </a:lnTo>
                <a:lnTo>
                  <a:pt x="1194" y="1023"/>
                </a:lnTo>
                <a:lnTo>
                  <a:pt x="1244" y="841"/>
                </a:lnTo>
                <a:lnTo>
                  <a:pt x="1259" y="647"/>
                </a:lnTo>
                <a:lnTo>
                  <a:pt x="1230" y="463"/>
                </a:lnTo>
                <a:lnTo>
                  <a:pt x="1140" y="294"/>
                </a:lnTo>
                <a:lnTo>
                  <a:pt x="1043" y="190"/>
                </a:lnTo>
                <a:lnTo>
                  <a:pt x="961" y="109"/>
                </a:lnTo>
                <a:lnTo>
                  <a:pt x="894" y="65"/>
                </a:lnTo>
                <a:lnTo>
                  <a:pt x="786" y="18"/>
                </a:lnTo>
                <a:lnTo>
                  <a:pt x="642" y="0"/>
                </a:lnTo>
                <a:lnTo>
                  <a:pt x="440" y="23"/>
                </a:lnTo>
                <a:lnTo>
                  <a:pt x="366" y="44"/>
                </a:lnTo>
                <a:lnTo>
                  <a:pt x="292" y="58"/>
                </a:lnTo>
                <a:lnTo>
                  <a:pt x="229" y="79"/>
                </a:lnTo>
                <a:lnTo>
                  <a:pt x="178" y="103"/>
                </a:lnTo>
                <a:lnTo>
                  <a:pt x="127" y="127"/>
                </a:lnTo>
                <a:lnTo>
                  <a:pt x="82" y="158"/>
                </a:lnTo>
                <a:lnTo>
                  <a:pt x="41" y="197"/>
                </a:lnTo>
                <a:lnTo>
                  <a:pt x="0" y="243"/>
                </a:lnTo>
                <a:lnTo>
                  <a:pt x="76" y="215"/>
                </a:lnTo>
                <a:lnTo>
                  <a:pt x="144" y="194"/>
                </a:lnTo>
                <a:lnTo>
                  <a:pt x="212" y="179"/>
                </a:lnTo>
                <a:lnTo>
                  <a:pt x="280" y="164"/>
                </a:lnTo>
                <a:lnTo>
                  <a:pt x="336" y="149"/>
                </a:lnTo>
                <a:lnTo>
                  <a:pt x="397" y="149"/>
                </a:lnTo>
                <a:lnTo>
                  <a:pt x="458" y="141"/>
                </a:lnTo>
                <a:lnTo>
                  <a:pt x="511" y="146"/>
                </a:lnTo>
                <a:lnTo>
                  <a:pt x="565" y="152"/>
                </a:lnTo>
                <a:lnTo>
                  <a:pt x="618" y="166"/>
                </a:lnTo>
                <a:lnTo>
                  <a:pt x="669" y="186"/>
                </a:lnTo>
                <a:lnTo>
                  <a:pt x="715" y="205"/>
                </a:lnTo>
                <a:lnTo>
                  <a:pt x="760" y="239"/>
                </a:lnTo>
                <a:lnTo>
                  <a:pt x="811" y="267"/>
                </a:lnTo>
                <a:lnTo>
                  <a:pt x="855" y="307"/>
                </a:lnTo>
                <a:lnTo>
                  <a:pt x="899" y="348"/>
                </a:lnTo>
                <a:lnTo>
                  <a:pt x="971" y="464"/>
                </a:lnTo>
                <a:lnTo>
                  <a:pt x="1016" y="606"/>
                </a:lnTo>
                <a:lnTo>
                  <a:pt x="1027" y="774"/>
                </a:lnTo>
                <a:lnTo>
                  <a:pt x="1022" y="939"/>
                </a:lnTo>
                <a:lnTo>
                  <a:pt x="1002" y="1117"/>
                </a:lnTo>
                <a:lnTo>
                  <a:pt x="966" y="1279"/>
                </a:lnTo>
                <a:lnTo>
                  <a:pt x="933" y="1421"/>
                </a:lnTo>
                <a:lnTo>
                  <a:pt x="891" y="1532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63"/>
          <p:cNvSpPr/>
          <p:nvPr/>
        </p:nvSpPr>
        <p:spPr>
          <a:xfrm>
            <a:off x="0" y="4143240"/>
            <a:ext cx="1271520" cy="728640"/>
          </a:xfrm>
          <a:custGeom>
            <a:avLst/>
            <a:gdLst/>
            <a:ahLst/>
            <a:rect l="l" t="t" r="r" b="b"/>
            <a:pathLst>
              <a:path w="801" h="459">
                <a:moveTo>
                  <a:pt x="0" y="0"/>
                </a:moveTo>
                <a:lnTo>
                  <a:pt x="37" y="69"/>
                </a:lnTo>
                <a:lnTo>
                  <a:pt x="68" y="132"/>
                </a:lnTo>
                <a:lnTo>
                  <a:pt x="110" y="188"/>
                </a:lnTo>
                <a:lnTo>
                  <a:pt x="149" y="229"/>
                </a:lnTo>
                <a:lnTo>
                  <a:pt x="192" y="278"/>
                </a:lnTo>
                <a:lnTo>
                  <a:pt x="250" y="314"/>
                </a:lnTo>
                <a:lnTo>
                  <a:pt x="308" y="336"/>
                </a:lnTo>
                <a:lnTo>
                  <a:pt x="365" y="365"/>
                </a:lnTo>
                <a:lnTo>
                  <a:pt x="430" y="381"/>
                </a:lnTo>
                <a:lnTo>
                  <a:pt x="501" y="390"/>
                </a:lnTo>
                <a:lnTo>
                  <a:pt x="573" y="392"/>
                </a:lnTo>
                <a:lnTo>
                  <a:pt x="646" y="381"/>
                </a:lnTo>
                <a:lnTo>
                  <a:pt x="726" y="362"/>
                </a:lnTo>
                <a:lnTo>
                  <a:pt x="801" y="335"/>
                </a:lnTo>
                <a:lnTo>
                  <a:pt x="731" y="377"/>
                </a:lnTo>
                <a:lnTo>
                  <a:pt x="662" y="404"/>
                </a:lnTo>
                <a:lnTo>
                  <a:pt x="594" y="432"/>
                </a:lnTo>
                <a:lnTo>
                  <a:pt x="532" y="445"/>
                </a:lnTo>
                <a:lnTo>
                  <a:pt x="471" y="459"/>
                </a:lnTo>
                <a:lnTo>
                  <a:pt x="411" y="458"/>
                </a:lnTo>
                <a:lnTo>
                  <a:pt x="350" y="458"/>
                </a:lnTo>
                <a:lnTo>
                  <a:pt x="291" y="450"/>
                </a:lnTo>
                <a:lnTo>
                  <a:pt x="244" y="436"/>
                </a:lnTo>
                <a:lnTo>
                  <a:pt x="192" y="415"/>
                </a:lnTo>
                <a:lnTo>
                  <a:pt x="145" y="394"/>
                </a:lnTo>
                <a:lnTo>
                  <a:pt x="100" y="373"/>
                </a:lnTo>
                <a:lnTo>
                  <a:pt x="60" y="347"/>
                </a:lnTo>
                <a:lnTo>
                  <a:pt x="0" y="294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64"/>
          <p:cNvSpPr/>
          <p:nvPr/>
        </p:nvSpPr>
        <p:spPr>
          <a:xfrm flipH="1" rot="373800">
            <a:off x="1425600" y="4532400"/>
            <a:ext cx="561960" cy="736560"/>
          </a:xfrm>
          <a:custGeom>
            <a:avLst/>
            <a:gdLst/>
            <a:ahLst/>
            <a:rect l="l" t="t" r="r" b="b"/>
            <a:pathLst>
              <a:path w="117" h="132">
                <a:moveTo>
                  <a:pt x="75" y="0"/>
                </a:moveTo>
                <a:lnTo>
                  <a:pt x="0" y="25"/>
                </a:lnTo>
                <a:lnTo>
                  <a:pt x="3" y="26"/>
                </a:lnTo>
                <a:lnTo>
                  <a:pt x="14" y="29"/>
                </a:lnTo>
                <a:lnTo>
                  <a:pt x="29" y="36"/>
                </a:lnTo>
                <a:lnTo>
                  <a:pt x="46" y="47"/>
                </a:lnTo>
                <a:lnTo>
                  <a:pt x="66" y="62"/>
                </a:lnTo>
                <a:lnTo>
                  <a:pt x="84" y="80"/>
                </a:lnTo>
                <a:lnTo>
                  <a:pt x="102" y="103"/>
                </a:lnTo>
                <a:lnTo>
                  <a:pt x="116" y="132"/>
                </a:lnTo>
                <a:lnTo>
                  <a:pt x="117" y="120"/>
                </a:lnTo>
                <a:lnTo>
                  <a:pt x="115" y="107"/>
                </a:lnTo>
                <a:lnTo>
                  <a:pt x="108" y="90"/>
                </a:lnTo>
                <a:lnTo>
                  <a:pt x="99" y="74"/>
                </a:lnTo>
                <a:lnTo>
                  <a:pt x="89" y="58"/>
                </a:lnTo>
                <a:lnTo>
                  <a:pt x="78" y="45"/>
                </a:lnTo>
                <a:lnTo>
                  <a:pt x="67" y="36"/>
                </a:lnTo>
                <a:lnTo>
                  <a:pt x="58" y="32"/>
                </a:lnTo>
                <a:lnTo>
                  <a:pt x="69" y="29"/>
                </a:lnTo>
                <a:lnTo>
                  <a:pt x="79" y="28"/>
                </a:lnTo>
                <a:lnTo>
                  <a:pt x="89" y="26"/>
                </a:lnTo>
                <a:lnTo>
                  <a:pt x="98" y="25"/>
                </a:lnTo>
                <a:lnTo>
                  <a:pt x="105" y="24"/>
                </a:lnTo>
                <a:lnTo>
                  <a:pt x="109" y="22"/>
                </a:lnTo>
                <a:lnTo>
                  <a:pt x="113" y="21"/>
                </a:lnTo>
                <a:lnTo>
                  <a:pt x="114" y="21"/>
                </a:lnTo>
                <a:lnTo>
                  <a:pt x="75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65"/>
          <p:cNvSpPr/>
          <p:nvPr/>
        </p:nvSpPr>
        <p:spPr>
          <a:xfrm flipH="1" rot="373800">
            <a:off x="1267560" y="4728960"/>
            <a:ext cx="138240" cy="434880"/>
          </a:xfrm>
          <a:custGeom>
            <a:avLst/>
            <a:gdLst/>
            <a:ahLst/>
            <a:rect l="l" t="t" r="r" b="b"/>
            <a:pathLst>
              <a:path w="29" h="77">
                <a:moveTo>
                  <a:pt x="29" y="0"/>
                </a:moveTo>
                <a:lnTo>
                  <a:pt x="23" y="0"/>
                </a:lnTo>
                <a:lnTo>
                  <a:pt x="16" y="4"/>
                </a:lnTo>
                <a:lnTo>
                  <a:pt x="9" y="9"/>
                </a:lnTo>
                <a:lnTo>
                  <a:pt x="4" y="19"/>
                </a:lnTo>
                <a:lnTo>
                  <a:pt x="1" y="30"/>
                </a:lnTo>
                <a:lnTo>
                  <a:pt x="0" y="44"/>
                </a:lnTo>
                <a:lnTo>
                  <a:pt x="3" y="60"/>
                </a:lnTo>
                <a:lnTo>
                  <a:pt x="11" y="77"/>
                </a:lnTo>
                <a:lnTo>
                  <a:pt x="15" y="53"/>
                </a:lnTo>
                <a:lnTo>
                  <a:pt x="19" y="37"/>
                </a:lnTo>
                <a:lnTo>
                  <a:pt x="23" y="22"/>
                </a:lnTo>
                <a:lnTo>
                  <a:pt x="29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66"/>
          <p:cNvSpPr/>
          <p:nvPr/>
        </p:nvSpPr>
        <p:spPr>
          <a:xfrm>
            <a:off x="1889280" y="5195880"/>
            <a:ext cx="1758960" cy="1662120"/>
          </a:xfrm>
          <a:custGeom>
            <a:avLst/>
            <a:gdLst/>
            <a:ahLst/>
            <a:rect l="l" t="t" r="r" b="b"/>
            <a:pathLst>
              <a:path w="1108" h="1047">
                <a:moveTo>
                  <a:pt x="784" y="1047"/>
                </a:moveTo>
                <a:lnTo>
                  <a:pt x="692" y="1011"/>
                </a:lnTo>
                <a:lnTo>
                  <a:pt x="607" y="945"/>
                </a:lnTo>
                <a:lnTo>
                  <a:pt x="517" y="861"/>
                </a:lnTo>
                <a:lnTo>
                  <a:pt x="432" y="776"/>
                </a:lnTo>
                <a:lnTo>
                  <a:pt x="350" y="677"/>
                </a:lnTo>
                <a:lnTo>
                  <a:pt x="266" y="563"/>
                </a:lnTo>
                <a:lnTo>
                  <a:pt x="188" y="447"/>
                </a:lnTo>
                <a:lnTo>
                  <a:pt x="122" y="325"/>
                </a:lnTo>
                <a:lnTo>
                  <a:pt x="65" y="211"/>
                </a:lnTo>
                <a:lnTo>
                  <a:pt x="21" y="101"/>
                </a:lnTo>
                <a:lnTo>
                  <a:pt x="0" y="0"/>
                </a:lnTo>
                <a:lnTo>
                  <a:pt x="109" y="217"/>
                </a:lnTo>
                <a:lnTo>
                  <a:pt x="209" y="378"/>
                </a:lnTo>
                <a:lnTo>
                  <a:pt x="294" y="500"/>
                </a:lnTo>
                <a:lnTo>
                  <a:pt x="373" y="590"/>
                </a:lnTo>
                <a:lnTo>
                  <a:pt x="441" y="661"/>
                </a:lnTo>
                <a:lnTo>
                  <a:pt x="506" y="713"/>
                </a:lnTo>
                <a:lnTo>
                  <a:pt x="564" y="754"/>
                </a:lnTo>
                <a:lnTo>
                  <a:pt x="620" y="801"/>
                </a:lnTo>
                <a:lnTo>
                  <a:pt x="754" y="899"/>
                </a:lnTo>
                <a:lnTo>
                  <a:pt x="925" y="977"/>
                </a:lnTo>
                <a:lnTo>
                  <a:pt x="1108" y="1047"/>
                </a:lnTo>
                <a:lnTo>
                  <a:pt x="784" y="1047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67"/>
          <p:cNvGrpSpPr/>
          <p:nvPr/>
        </p:nvGrpSpPr>
        <p:grpSpPr>
          <a:xfrm>
            <a:off x="4140720" y="1039320"/>
            <a:ext cx="1017000" cy="1263240"/>
            <a:chOff x="4140720" y="1039320"/>
            <a:chExt cx="1017000" cy="1263240"/>
          </a:xfrm>
        </p:grpSpPr>
        <p:sp>
          <p:nvSpPr>
            <p:cNvPr id="28" name="Freeform 68"/>
            <p:cNvSpPr/>
            <p:nvPr/>
          </p:nvSpPr>
          <p:spPr>
            <a:xfrm rot="3220200">
              <a:off x="4556520" y="1077120"/>
              <a:ext cx="285840" cy="379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69"/>
            <p:cNvSpPr/>
            <p:nvPr/>
          </p:nvSpPr>
          <p:spPr>
            <a:xfrm rot="3220200">
              <a:off x="4641120" y="1610280"/>
              <a:ext cx="488880" cy="31500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70"/>
            <p:cNvSpPr/>
            <p:nvPr/>
          </p:nvSpPr>
          <p:spPr>
            <a:xfrm rot="3220200">
              <a:off x="4101120" y="1968840"/>
              <a:ext cx="511200" cy="1605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71"/>
          <p:cNvGrpSpPr/>
          <p:nvPr/>
        </p:nvGrpSpPr>
        <p:grpSpPr>
          <a:xfrm>
            <a:off x="5646600" y="305640"/>
            <a:ext cx="888120" cy="826200"/>
            <a:chOff x="5646600" y="305640"/>
            <a:chExt cx="888120" cy="826200"/>
          </a:xfrm>
        </p:grpSpPr>
        <p:sp>
          <p:nvSpPr>
            <p:cNvPr id="32" name="Freeform 72"/>
            <p:cNvSpPr/>
            <p:nvPr/>
          </p:nvSpPr>
          <p:spPr>
            <a:xfrm rot="14908200">
              <a:off x="5758560" y="802800"/>
              <a:ext cx="176040" cy="361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73"/>
            <p:cNvSpPr/>
            <p:nvPr/>
          </p:nvSpPr>
          <p:spPr>
            <a:xfrm rot="14908200">
              <a:off x="5707080" y="478800"/>
              <a:ext cx="301320" cy="3002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74"/>
            <p:cNvSpPr/>
            <p:nvPr/>
          </p:nvSpPr>
          <p:spPr>
            <a:xfrm rot="14908200">
              <a:off x="6248520" y="403920"/>
              <a:ext cx="315000" cy="152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75"/>
          <p:cNvGrpSpPr/>
          <p:nvPr/>
        </p:nvGrpSpPr>
        <p:grpSpPr>
          <a:xfrm>
            <a:off x="954000" y="5282640"/>
            <a:ext cx="1062360" cy="840600"/>
            <a:chOff x="954000" y="5282640"/>
            <a:chExt cx="1062360" cy="840600"/>
          </a:xfrm>
        </p:grpSpPr>
        <p:sp>
          <p:nvSpPr>
            <p:cNvPr id="36" name="Freeform 76"/>
            <p:cNvSpPr/>
            <p:nvPr/>
          </p:nvSpPr>
          <p:spPr>
            <a:xfrm rot="8524800">
              <a:off x="1698120" y="5546520"/>
              <a:ext cx="251640" cy="302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77"/>
            <p:cNvSpPr/>
            <p:nvPr/>
          </p:nvSpPr>
          <p:spPr>
            <a:xfrm rot="8524800">
              <a:off x="1185480" y="5765760"/>
              <a:ext cx="430560" cy="2516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78"/>
            <p:cNvSpPr/>
            <p:nvPr/>
          </p:nvSpPr>
          <p:spPr>
            <a:xfrm rot="8524800">
              <a:off x="945720" y="5407200"/>
              <a:ext cx="450000" cy="1281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79"/>
          <p:cNvGrpSpPr/>
          <p:nvPr/>
        </p:nvGrpSpPr>
        <p:grpSpPr>
          <a:xfrm>
            <a:off x="359640" y="434160"/>
            <a:ext cx="1692720" cy="1147320"/>
            <a:chOff x="359640" y="434160"/>
            <a:chExt cx="1692720" cy="1147320"/>
          </a:xfrm>
        </p:grpSpPr>
        <p:sp>
          <p:nvSpPr>
            <p:cNvPr id="40" name="Freeform 80"/>
            <p:cNvSpPr/>
            <p:nvPr/>
          </p:nvSpPr>
          <p:spPr>
            <a:xfrm flipH="1" rot="4107000">
              <a:off x="1561680" y="1053000"/>
              <a:ext cx="356040" cy="5310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81"/>
            <p:cNvSpPr/>
            <p:nvPr/>
          </p:nvSpPr>
          <p:spPr>
            <a:xfrm flipH="1" rot="4107000">
              <a:off x="1008000" y="577440"/>
              <a:ext cx="609120" cy="4417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2"/>
            <p:cNvSpPr/>
            <p:nvPr/>
          </p:nvSpPr>
          <p:spPr>
            <a:xfrm flipH="1" rot="4107000">
              <a:off x="262440" y="109188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83"/>
          <p:cNvGrpSpPr/>
          <p:nvPr/>
        </p:nvGrpSpPr>
        <p:grpSpPr>
          <a:xfrm>
            <a:off x="7396560" y="3696120"/>
            <a:ext cx="1157400" cy="1609920"/>
            <a:chOff x="7396560" y="3696120"/>
            <a:chExt cx="1157400" cy="1609920"/>
          </a:xfrm>
        </p:grpSpPr>
        <p:sp>
          <p:nvSpPr>
            <p:cNvPr id="44" name="Freeform 84"/>
            <p:cNvSpPr/>
            <p:nvPr/>
          </p:nvSpPr>
          <p:spPr>
            <a:xfrm flipH="1" rot="10015800">
              <a:off x="7451280" y="4741920"/>
              <a:ext cx="356040" cy="5306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5"/>
            <p:cNvSpPr/>
            <p:nvPr/>
          </p:nvSpPr>
          <p:spPr>
            <a:xfrm flipH="1" rot="10015800">
              <a:off x="7902360" y="4440240"/>
              <a:ext cx="609120" cy="4413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6"/>
            <p:cNvSpPr/>
            <p:nvPr/>
          </p:nvSpPr>
          <p:spPr>
            <a:xfrm flipH="1" rot="10015800">
              <a:off x="7595640" y="376524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7"/>
          <p:cNvSpPr/>
          <p:nvPr/>
        </p:nvSpPr>
        <p:spPr>
          <a:xfrm>
            <a:off x="1932120" y="3240"/>
            <a:ext cx="1368360" cy="1406520"/>
          </a:xfrm>
          <a:custGeom>
            <a:avLst/>
            <a:gdLst/>
            <a:ahLst/>
            <a:rect l="l" t="t" r="r" b="b"/>
            <a:pathLst>
              <a:path w="862" h="886">
                <a:moveTo>
                  <a:pt x="0" y="0"/>
                </a:moveTo>
                <a:lnTo>
                  <a:pt x="6" y="107"/>
                </a:lnTo>
                <a:lnTo>
                  <a:pt x="37" y="262"/>
                </a:lnTo>
                <a:lnTo>
                  <a:pt x="83" y="410"/>
                </a:lnTo>
                <a:lnTo>
                  <a:pt x="149" y="546"/>
                </a:lnTo>
                <a:lnTo>
                  <a:pt x="237" y="666"/>
                </a:lnTo>
                <a:lnTo>
                  <a:pt x="338" y="764"/>
                </a:lnTo>
                <a:lnTo>
                  <a:pt x="450" y="838"/>
                </a:lnTo>
                <a:lnTo>
                  <a:pt x="579" y="879"/>
                </a:lnTo>
                <a:lnTo>
                  <a:pt x="714" y="886"/>
                </a:lnTo>
                <a:lnTo>
                  <a:pt x="862" y="851"/>
                </a:lnTo>
                <a:lnTo>
                  <a:pt x="784" y="856"/>
                </a:lnTo>
                <a:lnTo>
                  <a:pt x="700" y="835"/>
                </a:lnTo>
                <a:lnTo>
                  <a:pt x="621" y="794"/>
                </a:lnTo>
                <a:lnTo>
                  <a:pt x="542" y="728"/>
                </a:lnTo>
                <a:lnTo>
                  <a:pt x="466" y="649"/>
                </a:lnTo>
                <a:lnTo>
                  <a:pt x="397" y="557"/>
                </a:lnTo>
                <a:lnTo>
                  <a:pt x="334" y="454"/>
                </a:lnTo>
                <a:lnTo>
                  <a:pt x="279" y="339"/>
                </a:lnTo>
                <a:lnTo>
                  <a:pt x="238" y="225"/>
                </a:lnTo>
                <a:lnTo>
                  <a:pt x="205" y="105"/>
                </a:lnTo>
                <a:lnTo>
                  <a:pt x="184" y="3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8"/>
          <p:cNvSpPr/>
          <p:nvPr/>
        </p:nvSpPr>
        <p:spPr>
          <a:xfrm flipV="1" rot="9832800">
            <a:off x="3425400" y="161280"/>
            <a:ext cx="1081080" cy="941400"/>
          </a:xfrm>
          <a:custGeom>
            <a:avLst/>
            <a:gdLst/>
            <a:ahLst/>
            <a:rect l="l" t="t" r="r" b="b"/>
            <a:pathLst>
              <a:path w="257" h="237">
                <a:moveTo>
                  <a:pt x="0" y="0"/>
                </a:moveTo>
                <a:lnTo>
                  <a:pt x="0" y="25"/>
                </a:lnTo>
                <a:lnTo>
                  <a:pt x="3" y="50"/>
                </a:lnTo>
                <a:lnTo>
                  <a:pt x="6" y="75"/>
                </a:lnTo>
                <a:lnTo>
                  <a:pt x="11" y="98"/>
                </a:lnTo>
                <a:lnTo>
                  <a:pt x="18" y="119"/>
                </a:lnTo>
                <a:lnTo>
                  <a:pt x="27" y="141"/>
                </a:lnTo>
                <a:lnTo>
                  <a:pt x="38" y="161"/>
                </a:lnTo>
                <a:lnTo>
                  <a:pt x="51" y="178"/>
                </a:lnTo>
                <a:lnTo>
                  <a:pt x="67" y="194"/>
                </a:lnTo>
                <a:lnTo>
                  <a:pt x="86" y="208"/>
                </a:lnTo>
                <a:lnTo>
                  <a:pt x="106" y="219"/>
                </a:lnTo>
                <a:lnTo>
                  <a:pt x="131" y="228"/>
                </a:lnTo>
                <a:lnTo>
                  <a:pt x="158" y="234"/>
                </a:lnTo>
                <a:lnTo>
                  <a:pt x="188" y="237"/>
                </a:lnTo>
                <a:lnTo>
                  <a:pt x="220" y="236"/>
                </a:lnTo>
                <a:lnTo>
                  <a:pt x="257" y="232"/>
                </a:lnTo>
                <a:lnTo>
                  <a:pt x="224" y="227"/>
                </a:lnTo>
                <a:lnTo>
                  <a:pt x="195" y="220"/>
                </a:lnTo>
                <a:lnTo>
                  <a:pt x="170" y="212"/>
                </a:lnTo>
                <a:lnTo>
                  <a:pt x="148" y="204"/>
                </a:lnTo>
                <a:lnTo>
                  <a:pt x="128" y="193"/>
                </a:lnTo>
                <a:lnTo>
                  <a:pt x="112" y="182"/>
                </a:lnTo>
                <a:lnTo>
                  <a:pt x="97" y="169"/>
                </a:lnTo>
                <a:lnTo>
                  <a:pt x="84" y="155"/>
                </a:lnTo>
                <a:lnTo>
                  <a:pt x="72" y="141"/>
                </a:lnTo>
                <a:lnTo>
                  <a:pt x="61" y="125"/>
                </a:lnTo>
                <a:lnTo>
                  <a:pt x="52" y="107"/>
                </a:lnTo>
                <a:lnTo>
                  <a:pt x="43" y="88"/>
                </a:lnTo>
                <a:lnTo>
                  <a:pt x="33" y="69"/>
                </a:lnTo>
                <a:lnTo>
                  <a:pt x="23" y="47"/>
                </a:lnTo>
                <a:lnTo>
                  <a:pt x="12" y="2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9"/>
          <p:cNvSpPr/>
          <p:nvPr/>
        </p:nvSpPr>
        <p:spPr>
          <a:xfrm flipV="1" rot="9832800">
            <a:off x="3169440" y="1361160"/>
            <a:ext cx="523800" cy="441000"/>
          </a:xfrm>
          <a:custGeom>
            <a:avLst/>
            <a:gdLst/>
            <a:ahLst/>
            <a:rect l="l" t="t" r="r" b="b"/>
            <a:pathLst>
              <a:path w="124" h="110">
                <a:moveTo>
                  <a:pt x="77" y="0"/>
                </a:moveTo>
                <a:lnTo>
                  <a:pt x="124" y="108"/>
                </a:lnTo>
                <a:lnTo>
                  <a:pt x="120" y="107"/>
                </a:lnTo>
                <a:lnTo>
                  <a:pt x="107" y="105"/>
                </a:lnTo>
                <a:lnTo>
                  <a:pt x="89" y="101"/>
                </a:lnTo>
                <a:lnTo>
                  <a:pt x="68" y="99"/>
                </a:lnTo>
                <a:lnTo>
                  <a:pt x="45" y="97"/>
                </a:lnTo>
                <a:lnTo>
                  <a:pt x="25" y="98"/>
                </a:lnTo>
                <a:lnTo>
                  <a:pt x="9" y="102"/>
                </a:lnTo>
                <a:lnTo>
                  <a:pt x="0" y="110"/>
                </a:lnTo>
                <a:lnTo>
                  <a:pt x="4" y="98"/>
                </a:lnTo>
                <a:lnTo>
                  <a:pt x="8" y="89"/>
                </a:lnTo>
                <a:lnTo>
                  <a:pt x="16" y="82"/>
                </a:lnTo>
                <a:lnTo>
                  <a:pt x="25" y="76"/>
                </a:lnTo>
                <a:lnTo>
                  <a:pt x="36" y="72"/>
                </a:lnTo>
                <a:lnTo>
                  <a:pt x="47" y="71"/>
                </a:lnTo>
                <a:lnTo>
                  <a:pt x="59" y="71"/>
                </a:lnTo>
                <a:lnTo>
                  <a:pt x="72" y="74"/>
                </a:lnTo>
                <a:lnTo>
                  <a:pt x="73" y="71"/>
                </a:lnTo>
                <a:lnTo>
                  <a:pt x="70" y="56"/>
                </a:lnTo>
                <a:lnTo>
                  <a:pt x="67" y="38"/>
                </a:lnTo>
                <a:lnTo>
                  <a:pt x="65" y="30"/>
                </a:lnTo>
                <a:lnTo>
                  <a:pt x="63" y="30"/>
                </a:lnTo>
                <a:lnTo>
                  <a:pt x="61" y="29"/>
                </a:lnTo>
                <a:lnTo>
                  <a:pt x="59" y="26"/>
                </a:lnTo>
                <a:lnTo>
                  <a:pt x="57" y="23"/>
                </a:lnTo>
                <a:lnTo>
                  <a:pt x="57" y="19"/>
                </a:lnTo>
                <a:lnTo>
                  <a:pt x="59" y="14"/>
                </a:lnTo>
                <a:lnTo>
                  <a:pt x="66" y="8"/>
                </a:lnTo>
                <a:lnTo>
                  <a:pt x="77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0"/>
          <p:cNvSpPr/>
          <p:nvPr/>
        </p:nvSpPr>
        <p:spPr>
          <a:xfrm flipV="1" rot="9832800">
            <a:off x="3530160" y="1282320"/>
            <a:ext cx="195480" cy="370080"/>
          </a:xfrm>
          <a:custGeom>
            <a:avLst/>
            <a:gdLst/>
            <a:ahLst/>
            <a:rect l="l" t="t" r="r" b="b"/>
            <a:pathLst>
              <a:path w="46" h="94">
                <a:moveTo>
                  <a:pt x="31" y="0"/>
                </a:moveTo>
                <a:lnTo>
                  <a:pt x="20" y="38"/>
                </a:lnTo>
                <a:lnTo>
                  <a:pt x="15" y="62"/>
                </a:lnTo>
                <a:lnTo>
                  <a:pt x="11" y="79"/>
                </a:lnTo>
                <a:lnTo>
                  <a:pt x="0" y="94"/>
                </a:lnTo>
                <a:lnTo>
                  <a:pt x="12" y="88"/>
                </a:lnTo>
                <a:lnTo>
                  <a:pt x="23" y="80"/>
                </a:lnTo>
                <a:lnTo>
                  <a:pt x="32" y="69"/>
                </a:lnTo>
                <a:lnTo>
                  <a:pt x="40" y="57"/>
                </a:lnTo>
                <a:lnTo>
                  <a:pt x="45" y="44"/>
                </a:lnTo>
                <a:lnTo>
                  <a:pt x="46" y="30"/>
                </a:lnTo>
                <a:lnTo>
                  <a:pt x="42" y="15"/>
                </a:lnTo>
                <a:lnTo>
                  <a:pt x="31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1"/>
          <p:cNvSpPr/>
          <p:nvPr/>
        </p:nvSpPr>
        <p:spPr>
          <a:xfrm>
            <a:off x="2544840" y="0"/>
            <a:ext cx="196920" cy="192240"/>
          </a:xfrm>
          <a:custGeom>
            <a:avLst/>
            <a:gdLst/>
            <a:ahLst/>
            <a:rect l="l" t="t" r="r" b="b"/>
            <a:pathLst>
              <a:path w="124" h="121">
                <a:moveTo>
                  <a:pt x="124" y="0"/>
                </a:moveTo>
                <a:lnTo>
                  <a:pt x="113" y="9"/>
                </a:lnTo>
                <a:lnTo>
                  <a:pt x="99" y="25"/>
                </a:lnTo>
                <a:lnTo>
                  <a:pt x="81" y="41"/>
                </a:lnTo>
                <a:lnTo>
                  <a:pt x="63" y="54"/>
                </a:lnTo>
                <a:lnTo>
                  <a:pt x="41" y="66"/>
                </a:lnTo>
                <a:lnTo>
                  <a:pt x="22" y="74"/>
                </a:lnTo>
                <a:lnTo>
                  <a:pt x="0" y="75"/>
                </a:lnTo>
                <a:lnTo>
                  <a:pt x="10" y="96"/>
                </a:lnTo>
                <a:lnTo>
                  <a:pt x="23" y="113"/>
                </a:lnTo>
                <a:lnTo>
                  <a:pt x="41" y="121"/>
                </a:lnTo>
                <a:lnTo>
                  <a:pt x="60" y="121"/>
                </a:lnTo>
                <a:lnTo>
                  <a:pt x="83" y="111"/>
                </a:lnTo>
                <a:lnTo>
                  <a:pt x="101" y="88"/>
                </a:lnTo>
                <a:lnTo>
                  <a:pt x="116" y="53"/>
                </a:lnTo>
                <a:lnTo>
                  <a:pt x="124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2"/>
          <p:cNvSpPr/>
          <p:nvPr/>
        </p:nvSpPr>
        <p:spPr>
          <a:xfrm flipV="1" rot="9832800">
            <a:off x="3448800" y="1964520"/>
            <a:ext cx="623880" cy="3651480"/>
          </a:xfrm>
          <a:custGeom>
            <a:avLst/>
            <a:gdLst/>
            <a:ahLst/>
            <a:rect l="l" t="t" r="r" b="b"/>
            <a:pathLst>
              <a:path w="149" h="704">
                <a:moveTo>
                  <a:pt x="0" y="0"/>
                </a:moveTo>
                <a:lnTo>
                  <a:pt x="6" y="6"/>
                </a:lnTo>
                <a:lnTo>
                  <a:pt x="16" y="14"/>
                </a:lnTo>
                <a:lnTo>
                  <a:pt x="28" y="24"/>
                </a:lnTo>
                <a:lnTo>
                  <a:pt x="41" y="37"/>
                </a:lnTo>
                <a:lnTo>
                  <a:pt x="58" y="53"/>
                </a:lnTo>
                <a:lnTo>
                  <a:pt x="73" y="70"/>
                </a:lnTo>
                <a:lnTo>
                  <a:pt x="88" y="90"/>
                </a:lnTo>
                <a:lnTo>
                  <a:pt x="100" y="113"/>
                </a:lnTo>
                <a:lnTo>
                  <a:pt x="112" y="137"/>
                </a:lnTo>
                <a:lnTo>
                  <a:pt x="120" y="165"/>
                </a:lnTo>
                <a:lnTo>
                  <a:pt x="124" y="196"/>
                </a:lnTo>
                <a:lnTo>
                  <a:pt x="126" y="228"/>
                </a:lnTo>
                <a:lnTo>
                  <a:pt x="120" y="264"/>
                </a:lnTo>
                <a:lnTo>
                  <a:pt x="109" y="302"/>
                </a:lnTo>
                <a:lnTo>
                  <a:pt x="92" y="342"/>
                </a:lnTo>
                <a:lnTo>
                  <a:pt x="67" y="386"/>
                </a:lnTo>
                <a:lnTo>
                  <a:pt x="39" y="436"/>
                </a:lnTo>
                <a:lnTo>
                  <a:pt x="21" y="482"/>
                </a:lnTo>
                <a:lnTo>
                  <a:pt x="10" y="525"/>
                </a:lnTo>
                <a:lnTo>
                  <a:pt x="6" y="566"/>
                </a:lnTo>
                <a:lnTo>
                  <a:pt x="6" y="605"/>
                </a:lnTo>
                <a:lnTo>
                  <a:pt x="8" y="641"/>
                </a:lnTo>
                <a:lnTo>
                  <a:pt x="12" y="673"/>
                </a:lnTo>
                <a:lnTo>
                  <a:pt x="14" y="704"/>
                </a:lnTo>
                <a:lnTo>
                  <a:pt x="41" y="688"/>
                </a:lnTo>
                <a:lnTo>
                  <a:pt x="39" y="680"/>
                </a:lnTo>
                <a:lnTo>
                  <a:pt x="36" y="657"/>
                </a:lnTo>
                <a:lnTo>
                  <a:pt x="33" y="622"/>
                </a:lnTo>
                <a:lnTo>
                  <a:pt x="35" y="575"/>
                </a:lnTo>
                <a:lnTo>
                  <a:pt x="41" y="519"/>
                </a:lnTo>
                <a:lnTo>
                  <a:pt x="58" y="455"/>
                </a:lnTo>
                <a:lnTo>
                  <a:pt x="86" y="386"/>
                </a:lnTo>
                <a:lnTo>
                  <a:pt x="129" y="313"/>
                </a:lnTo>
                <a:lnTo>
                  <a:pt x="143" y="279"/>
                </a:lnTo>
                <a:lnTo>
                  <a:pt x="149" y="235"/>
                </a:lnTo>
                <a:lnTo>
                  <a:pt x="144" y="184"/>
                </a:lnTo>
                <a:lnTo>
                  <a:pt x="131" y="134"/>
                </a:lnTo>
                <a:lnTo>
                  <a:pt x="109" y="85"/>
                </a:lnTo>
                <a:lnTo>
                  <a:pt x="81" y="44"/>
                </a:lnTo>
                <a:lnTo>
                  <a:pt x="44" y="1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3"/>
          <p:cNvSpPr/>
          <p:nvPr/>
        </p:nvSpPr>
        <p:spPr>
          <a:xfrm>
            <a:off x="0" y="2933640"/>
            <a:ext cx="57240" cy="209520"/>
          </a:xfrm>
          <a:custGeom>
            <a:avLst/>
            <a:gdLst/>
            <a:ahLst/>
            <a:rect l="l" t="t" r="r" b="b"/>
            <a:pathLst>
              <a:path w="36" h="132">
                <a:moveTo>
                  <a:pt x="0" y="0"/>
                </a:moveTo>
                <a:lnTo>
                  <a:pt x="36" y="12"/>
                </a:lnTo>
                <a:lnTo>
                  <a:pt x="0" y="132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480D-A084-46D3-8284-B97641E8BD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A1AC-0100-4E15-BDBF-570AEC4E41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1DA-A452-4531-9DF1-FA5FB98752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3BE-02E9-40E9-A777-F11EA84F8E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F15-869E-4B8E-9AC7-05BF24D6AAD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AE7-2F77-442E-BBEE-C81478FD76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7748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онсультация для родителей.</a:t>
            </a:r>
            <a:br>
              <a:rPr sz="44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апризы, упрямство и способы  их преодол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000" y="4292280"/>
            <a:ext cx="8286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Педагог-психолог ГБДОУ № 30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Семенова Л.В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5480" y="-2145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чины капризо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700280"/>
            <a:ext cx="4209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У детей второго-третьего года жизни капризы часто связаны с неудовлетворением естественных потребностей (хочет есть, пить, спать), с ощущением дискомфорта (замерз, жарко, тесная обувь, одежда, затрудняющая движения, неудобная постель и т. п.). Подобные проявления нельзя считать капризами. Достаточно устранить причины, создающие неудобства, и ребенок снова успокоится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5" name="Picture 5" descr="C:\Users\Лилия\Desktop\картинка 111.jpg"/>
          <p:cNvPicPr/>
          <p:nvPr/>
        </p:nvPicPr>
        <p:blipFill>
          <a:blip r:embed="rId1"/>
          <a:stretch/>
        </p:blipFill>
        <p:spPr>
          <a:xfrm>
            <a:off x="4500720" y="1541520"/>
            <a:ext cx="442908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Что необходимо знать родителям о детско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прямстве и капризност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28640" y="272880"/>
            <a:ext cx="571500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lvl="1" marL="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иод упрямства и капризности начинается примерно с 18 месяцев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равило, эта фаза заканчивается к 3,5- 4 годам. Случайные приступы упрямства в более старшем возрасте – тоже вещь вполне нормальна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к упрямства приходится на 2,5- 3 года жизн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льчики упрямятся сильнее, чем девоч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вочки капризничают чаще, чем мальчи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ризисный период приступы упрямства и капризности случаются у детей по 5 раз в день. У некоторых детей – до 19 раз!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дети по достижению 4 лет всё ещё продолжают часто упрямиться и капризничать, то, вероятнее всего речь идёт о «фиксированном упрямстве», истеричности, как удобных способах манипулирования ребёнком своими родителями. Чаще всего это результат соглашательского поведения родителей, поддавшихся нажиму со стороны ребёнка, нередко ради своего спокойствия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8" name="Picture 2" descr="Картинка 222 из 119245"/>
          <p:cNvPicPr/>
          <p:nvPr/>
        </p:nvPicPr>
        <p:blipFill>
          <a:blip r:embed="rId1"/>
          <a:stretch/>
        </p:blipFill>
        <p:spPr>
          <a:xfrm>
            <a:off x="500040" y="1928880"/>
            <a:ext cx="2857680" cy="40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реагировать на капризы и упрямство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1642680"/>
            <a:ext cx="50036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едавайте большого значения упрямству и капризности. Примите к сведению приступ, но не очень волнуйтесь за ребёнка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приступа оставайтесь рядом, дайте ему почувствовать, что вы его  понимает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ытайтесь в это время что-либо внушать своему ребёнку – это бесполезно. Ругань не имеет смысла, шлепки ещё сильнее его возбуждают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в поведении с ребёнком настойчивы, если сказали "нет", оставайтесь и дальше при этом мн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давайтесь даже тогда, когда приступ ребёнка протекает в общественном месте. Чаще всего помогает только одно – взять его за руку и увест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1" name="Picture 8" descr="Картинка 289 из 118078"/>
          <p:cNvPicPr/>
          <p:nvPr/>
        </p:nvPicPr>
        <p:blipFill>
          <a:blip r:embed="rId1"/>
          <a:stretch/>
        </p:blipFill>
        <p:spPr>
          <a:xfrm>
            <a:off x="5138640" y="2421000"/>
            <a:ext cx="349560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еричность и капризность требует зрителей, не прибегайте к помощи посторонних: "Посмотрите, какая плохая девочка, ай-яй-яй!". Ребёнку только этого и нужно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йтесь схитрить: "Ох, какая у меня есть интересная игрушка (книжка, штучка)!". Подобные отвлекающие манёвры заинтересуют капризулю и он успокоится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ите из арсенала грубый тон, резкость, стремление " сломить силой авторитета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койный тон общения, без раздражительности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упки имеют место быть, если они педагогически целесообразны, оправданы логикой воспитательного процесса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3" name="Picture 4" descr="C:\Users\Лилия\Desktop\мамина школа.jpg"/>
          <p:cNvPicPr/>
          <p:nvPr/>
        </p:nvPicPr>
        <p:blipFill>
          <a:blip r:embed="rId1"/>
          <a:stretch/>
        </p:blipFill>
        <p:spPr>
          <a:xfrm>
            <a:off x="419040" y="1052640"/>
            <a:ext cx="30290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Предупреждение капризности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00280"/>
            <a:ext cx="40384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е моменты очень важны в предупреждении и в борьбе с упрямством и капризами. Речь пойдёт о гуманизации отношений между родителями и детьми, а именно о том, в каких случаях ребёнка нельзя наказывать и ругать, когда можно и нужно хвалить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6" name="Picture 5" descr="C:\Users\Лилия\Desktop\103NIKON\DSCN6847.JPG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охвал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5840" y="1142640"/>
            <a:ext cx="4424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ХВАЛИТЬ ЗА ТО, ЧТО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гнуто не своим трудо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ит похвале (красота, сила, ловкость, ум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жалости или желания понравитьс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О ХВАЛИТЬ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оступок, за свершившееся действи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ть сотрудничать с ребёнком всегда с похвалы, одобре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важно похвалить ребёнка с утра, как можно раньше и на ночь тож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хвалить не хваля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просить о помощи, совет, как у взрослого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9" name="Picture 4" descr="C:\Users\Лилия\Desktop\103NIKON\DSCN6820.JPG"/>
          <p:cNvPicPr/>
          <p:nvPr/>
        </p:nvPicPr>
        <p:blipFill>
          <a:blip r:embed="rId1"/>
          <a:stretch/>
        </p:blipFill>
        <p:spPr>
          <a:xfrm>
            <a:off x="4654440" y="1989000"/>
            <a:ext cx="4365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Не наказывать…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14200" y="1357200"/>
            <a:ext cx="51436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ЛЬЗЯ НАКАЗЫВАТЬ И РУГАТЬ КОГДА: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бёнок болен, испытывает недомогание или оправился после болезни т.к. в это время психика ребёнка уязвима и реакция непредсказуема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ест, сразу после сна и перед сном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 всех случаях, когда что-то не получается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когда вы торопитесь, а ребёнок не может завязать шнурки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физической или душевной травмы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бёнок упал, вы ругаете за это, считая, что он виноват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не справился со страхом, невнимательностью, подвижностью и т.д., но очень старалс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нутренние мотивы его поступка вам не понятны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ы сами не в себе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2" name="Picture 4" descr="C:\Users\Лилия\Desktop\103NIKON\DSCN6827.JPG"/>
          <p:cNvPicPr/>
          <p:nvPr/>
        </p:nvPicPr>
        <p:blipFill>
          <a:blip r:embed="rId1"/>
          <a:stretch/>
        </p:blipFill>
        <p:spPr>
          <a:xfrm>
            <a:off x="5508720" y="2060640"/>
            <a:ext cx="32353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0" y="-28584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7 правил наказания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14200" y="999720"/>
            <a:ext cx="6072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азание не должно вредить здоровью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сть сомнения, то лучше не наказывать (пример: вы не уверены, что проступок совершил именно ваш ребёнок, или вы сомневаетесь в том что совершённое действие вообще достойно наказания, т.е. наказывать "на всякий случай" нельз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1 проступок – одно наказание (нельзя припоминать старые грехи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чше не наказывать, чем наказывать с опоздание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о наказывать и вскоре прощать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ребёнок считает, что вы несправедливы, то не будет эффекта, поэтому важно объяснить ребенку, за что и почему он наказан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ёнок не должен бояться наказа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5" name="Picture 2" descr="http://im5-tub.yandex.net/i?id=4709483&amp;tov=5"/>
          <p:cNvPicPr/>
          <p:nvPr/>
        </p:nvPicPr>
        <p:blipFill>
          <a:blip r:embed="rId1"/>
          <a:stretch/>
        </p:blipFill>
        <p:spPr>
          <a:xfrm>
            <a:off x="6572160" y="2286000"/>
            <a:ext cx="19195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9160" y="1557360"/>
            <a:ext cx="735192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244000" y="7605360"/>
            <a:ext cx="1080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100" spc="-1" strike="noStrike">
              <a:solidFill>
                <a:srgbClr val="1d06ca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тские капризы и упрямств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4200" y="1557000"/>
            <a:ext cx="500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4171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им из наиболее частых запросов, с которым приходится сталкиваться психологу в его повседневной практике, является обращение родителей по поводу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необъяснимого" перевоплощения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"милых ангелочков" в "ужасных монстров"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каждодневно терроризирующих всю семью деспотическими, унижающими достоинство взрослых,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бованиями.</a:t>
            </a:r>
            <a:br>
              <a:rPr sz="22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1" name="Picture 4" descr="C:\Users\Лилия\Desktop\картинки капризы.jpg"/>
          <p:cNvPicPr/>
          <p:nvPr/>
        </p:nvPicPr>
        <p:blipFill>
          <a:blip r:embed="rId1"/>
          <a:stretch/>
        </p:blipFill>
        <p:spPr>
          <a:xfrm>
            <a:off x="4789440" y="1557360"/>
            <a:ext cx="4059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Закономерный этап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762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ий момент, в среде родителей, наиболее распространенной является точка зрения, что капризы и истерики - это закономерный этап в развитии детей младшего дошкольного возраста, что таким образом они познают мир человеческих взаимоотношений, определяют границы дозволенного и недозволенного, и, в конце концов, "само пройдет"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4" name="Picture 4" descr="C:\Users\Лилия\Desktop\купи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524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330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мешение различных понятий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14200" y="1714680"/>
            <a:ext cx="43243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ом деле происходи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шение различных понят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с одной стороны, негативизм, упрямство, строптивость, своеволие, обесценивание взрослых, являющиеся выражением закономерностей детского развития, а с другой - капризы и истерики, являющиеся отражением неправильной стратегии поведения родителей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приз, истерика - это следствие родительского нежелания "идти на поводу у баловника"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Это также сигнал родителям о том, что они ведут себя с ребенком неправильно, не адекватно его возрастным возможностям, предъявляя "неразумные" требования к "маленькому тирану"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7" name="Picture 12" descr="Картинка 73 из 119245"/>
          <p:cNvPicPr/>
          <p:nvPr/>
        </p:nvPicPr>
        <p:blipFill>
          <a:blip r:embed="rId1"/>
          <a:stretch/>
        </p:blipFill>
        <p:spPr>
          <a:xfrm>
            <a:off x="4429080" y="2286000"/>
            <a:ext cx="447984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раст негативизма и упрямств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916280"/>
            <a:ext cx="4030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ретьем-четвертом году жизни мир ребенка, характеризующийся его неотделимой от взрослого позицией, превращается в мир "Я", для построения котор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бходима выработка собственной внутренней позиции ребе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Для того чтобы впоследствии установить новые, более высокие взаимоотношения с окружающим взрослым миром, ребенку необходимо пройти этап отделения себя от предметов и живых существ, с которыми первоначально он ощущал неделимую связь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0" name="Picture 4" descr="C:\Users\Лилия\Desktop\картинки.jpg"/>
          <p:cNvPicPr/>
          <p:nvPr/>
        </p:nvPicPr>
        <p:blipFill>
          <a:blip r:embed="rId1"/>
          <a:stretch/>
        </p:blipFill>
        <p:spPr>
          <a:xfrm>
            <a:off x="4535640" y="2133720"/>
            <a:ext cx="424800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тест ребенка - это не самоцель, это только способ, с помощью которого ребенок отстаивает себ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вое право на отдельное существование. Ведь очень часто малыш, добиваясь именно того, что ему запрещали, ощущает разочарование. Поэтому очень важно разрешить ребенку все, кроме основополагающего запрета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действия, в результате которых может пострадать его собственное здоровье или здоровье и благополучие других люд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2" name="Picture 12" descr="Картинка 126 из 119245"/>
          <p:cNvPicPr/>
          <p:nvPr/>
        </p:nvPicPr>
        <p:blipFill>
          <a:blip r:embed="rId1"/>
          <a:stretch/>
        </p:blipFill>
        <p:spPr>
          <a:xfrm>
            <a:off x="4524480" y="2000160"/>
            <a:ext cx="4100400" cy="33814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ТЕСТ РЕБЕНКА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57760" y="1197000"/>
            <a:ext cx="5286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ЯМСТВО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сихологическое состояние, очень близкое к негативизму. Это отрицательная особенность поведения человека, выражающаяся в необоснованном и нерациональном противодействии просьбам, советам, требованиям других людей. Вид упорного непослушания, для которого нет видимых мотивов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lvl="1"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явления упрямства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ет как психологическая защита и имеет избирательный характер, т.е. ребёнок понял, что совершил ошибку, но не хочет в это признаваться, и поэтому " стоит на своём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6" name="i-main-pic" descr="Картинка 8 из 38"/>
          <p:cNvPicPr/>
          <p:nvPr/>
        </p:nvPicPr>
        <p:blipFill>
          <a:blip r:embed="rId1"/>
          <a:stretch/>
        </p:blipFill>
        <p:spPr>
          <a:xfrm>
            <a:off x="428760" y="1500120"/>
            <a:ext cx="34290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85840" y="1142640"/>
            <a:ext cx="420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ямство может стать чертой характера, если не принять меры к его преодолению. С течением времени оно порождает детскую лживость, может привести к расстройству нервной системы, неврозам, раздражительности. Если такие проявления, ещё в дошкольном возрасте, из реактивных состояний переходят в хронические, то возникает начальная стадия педагогической запущенности.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9" name="Picture 8" descr="Картинка 154 из 119245"/>
          <p:cNvPicPr/>
          <p:nvPr/>
        </p:nvPicPr>
        <p:blipFill>
          <a:blip r:embed="rId1"/>
          <a:stretch/>
        </p:blipFill>
        <p:spPr>
          <a:xfrm>
            <a:off x="4929120" y="1428840"/>
            <a:ext cx="378612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априз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840" y="1356840"/>
            <a:ext cx="47149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КАПРИЗЫ - </a:t>
            </a: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это действия, которые лишены разумного основания, т.е. " Я так хочу и всё!!!". Они вызываются слабостью ребёнка и в определённой степени тоже выступают как форма самозащиты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Проявления капризов: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недовольстве, раздражительности, плач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двигательном перевозбужд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Развитию капризов способствует неокрепшая нервная система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2" name="i-main-pic" descr="Картинка 4 из 38"/>
          <p:cNvPicPr/>
          <p:nvPr/>
        </p:nvPicPr>
        <p:blipFill>
          <a:blip r:embed="rId1"/>
          <a:stretch/>
        </p:blipFill>
        <p:spPr>
          <a:xfrm>
            <a:off x="5148360" y="155736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10:49Z</dcterms:created>
  <dc:creator>игорь</dc:creator>
  <dc:description/>
  <dc:language>en-US</dc:language>
  <cp:lastModifiedBy>Лилия</cp:lastModifiedBy>
  <dcterms:modified xsi:type="dcterms:W3CDTF">2014-04-01T19:35:27Z</dcterms:modified>
  <cp:revision>46</cp:revision>
  <dc:subject/>
  <dc:title>Слайд 1</dc:title>
</cp:coreProperties>
</file>