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78FEA9-1C4D-47AB-BA35-0DC167B35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6C09F0-3B4C-4EE8-96AE-D12BF25098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0D7A0B-4191-4B1E-AF4B-715044016B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10B38B-309B-4916-8A89-486193F2F1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884231-FE62-4FD4-9A67-2188C4AFCE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234943-F67C-4D5C-B21C-60457E3346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EEEB5F-4BE7-4BE4-9D8E-025DE142CB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FAB176-EF12-40E5-9A51-767AFEE08E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A62DCB-5897-4351-87F7-D889E6F869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BA85EC-1A30-4A4B-8A67-A440BA021F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0B3-16CF-4D6A-9D58-C8A20A73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DB0-EFBF-405F-8490-9F11ECC6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606-FCBC-40F8-9D26-389CF2F6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B10-B809-40E7-8FCF-9B005AAE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493D-0D67-414D-941D-DDEA4C75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2A30-1053-442A-8A73-71EFFAE6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F5BE-93F8-41F7-A647-C5B20A42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22C5-1B9D-4E9B-9A3B-0A34D5AE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3455-9C6E-4FD2-A9B0-3FA28332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DF1B-0793-430A-B52F-D24B5FC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7893-3FE6-47E2-BB37-DEDD9E78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523-9433-4F93-84F1-BBB3528D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58E5-6AE9-457C-8936-662ACAE4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F430-943C-48AC-A87D-ABAEF4C6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E37E-96C1-40AB-9892-E052B8C6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AD32-FB4E-43D3-BE97-384C444B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FBE7-9AA9-45E3-ACA6-426757F8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4F0B-3D10-45EA-932C-D78A3871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83AF-C940-498A-A946-7EE58632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67CC-604B-4C3D-AC02-C1DED0E2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7007-7149-4E1F-94F3-C8BAF85B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691E-3EC3-4EEC-B0D0-76AF9F00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BD2-F63C-428A-85EE-138A6DE7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2124-307D-44A9-805E-092B12E9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16EB-E73F-4F33-A143-93B241A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26228-F1AD-4787-A5DB-1370DC81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FCD2-2478-4F35-886F-07F8239D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08763-CA77-4974-B547-9022C182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F9E0-E31D-47FB-BB23-13CE4F9E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2C7E-AC4E-4DBF-A0EB-6A8E1F2E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C64-B329-4A4F-902E-6749C08F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7EF-9C98-4DFF-99C0-3B3E5E4F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6BA-65FC-41E1-9D2F-63BA846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454-C2DF-4153-BA90-9DAC863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A54-AE7A-4B23-BAAC-8387E216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67D-6F40-4EA1-A1EE-0BDF528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01AA44-63B6-4014-BF4C-836565DC4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F66754-DDD9-4308-B1B7-BA03DA09D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E02D05-7D11-442C-BA38-0F8DF86BF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468360" y="404640"/>
            <a:ext cx="5492520" cy="1125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Халқым менің-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6156360" y="404640"/>
            <a:ext cx="2574720" cy="11998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қонақжай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2421000"/>
            <a:ext cx="4750920" cy="2160360"/>
          </a:xfrm>
          <a:prstGeom prst="plaque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100000" t="0" r="0" b="100000"/>
            </a:path>
          </a:gradFill>
          <a:ln w="381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Сабақтың міндет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онақ күту дәстүрі,қонақа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туралы түсінік беру,қонақты сыйл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іскерліктерін дамыту, қонақжайл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дәстүрді құрметтеуге тәрбиел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0" y="1557360"/>
            <a:ext cx="3708000" cy="2231640"/>
          </a:xfrm>
          <a:prstGeom prst="plaque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100000" t="0" r="0" b="100000"/>
            </a:path>
          </a:gradFill>
          <a:ln w="381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Сабақтың мақс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Сыйластық”, ”достық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туыстық”,адамгершілі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ұндылықта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туралы түсінігін кеңей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95280" y="4941720"/>
            <a:ext cx="8064000" cy="1582200"/>
          </a:xfrm>
          <a:prstGeom prst="plaque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100000" t="0" r="0" b="100000"/>
            </a:path>
          </a:gradFill>
          <a:ln w="381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Сабақтың көрнекілігі: сюжетті суреттер, магнитофон (кү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50920" y="404640"/>
            <a:ext cx="2518920" cy="201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15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24000" y="5300640"/>
            <a:ext cx="8640360" cy="1296720"/>
          </a:xfrm>
          <a:prstGeom prst="plaque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5400000"/>
          </a:gradFill>
          <a:ln w="381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916360" y="404640"/>
            <a:ext cx="6048000" cy="4608000"/>
          </a:xfrm>
          <a:prstGeom prst="verticalScroll">
            <a:avLst>
              <a:gd name="adj" fmla="val 6819"/>
            </a:avLst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009900"/>
                </a:solidFill>
                <a:latin typeface="Arial"/>
              </a:rPr>
              <a:t>Қонақжайлылық белгі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Сырттан келген мейманғ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Сәлем беріп қол алса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1-еткен құрметің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Түсіңіз”,-деп түс бер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Шылбырына оралсаң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2-еткен қызметің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Есік ашып енгіз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Көрпе төсеп құп алсаң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3-еткен қызметің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Мейман риза болған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Құрметпен үйге қонғ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50920" y="2781360"/>
            <a:ext cx="2518920" cy="201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15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900000" y="5589720"/>
            <a:ext cx="7343280" cy="612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36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Әңгімелесу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7"/>
          <p:cNvSpPr/>
          <p:nvPr/>
        </p:nvSpPr>
        <p:spPr>
          <a:xfrm>
            <a:off x="539640" y="620640"/>
            <a:ext cx="3526920" cy="194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e7f2"/>
              </a:gs>
              <a:gs pos="50000">
                <a:srgbClr val="f8b049"/>
              </a:gs>
              <a:gs pos="100000">
                <a:srgbClr val="fee7f2"/>
              </a:gs>
            </a:gsLst>
            <a:lin ang="27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Шеңбер құра тұры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әрі қосылып 2 р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қайтал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4284720" y="620640"/>
            <a:ext cx="4176360" cy="3311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e7f2"/>
              </a:gs>
              <a:gs pos="50000">
                <a:srgbClr val="f8b049"/>
              </a:gs>
              <a:gs pos="100000">
                <a:srgbClr val="fee7f2"/>
              </a:gs>
            </a:gsLst>
            <a:lin ang="27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із  ақылды баламы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Айтқан тілді аламы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Үйге келген қонақт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Алғыстарын аламы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468360" y="4797360"/>
            <a:ext cx="2447640" cy="18000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468360" y="2781360"/>
            <a:ext cx="2447640" cy="180000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3635280" y="5589720"/>
            <a:ext cx="5231880" cy="891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27403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шеңбері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4500720" y="4221000"/>
            <a:ext cx="4301640" cy="1368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Шаттық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468360" y="404640"/>
            <a:ext cx="4895640" cy="136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ffff00"/>
              </a:gs>
              <a:gs pos="100000">
                <a:srgbClr val="9999ff"/>
              </a:gs>
            </a:gsLst>
            <a:lin ang="540000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009900"/>
                </a:solidFill>
                <a:latin typeface="Arial"/>
              </a:rPr>
              <a:t>Сұрақ: Не түсіндіңде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009900"/>
                </a:solidFill>
                <a:latin typeface="Arial"/>
              </a:rPr>
              <a:t>Мұғалім толықтырып, сабақт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000" spc="-1" strike="noStrike">
                <a:solidFill>
                  <a:srgbClr val="009900"/>
                </a:solidFill>
                <a:latin typeface="Arial"/>
              </a:rPr>
              <a:t>тақырыбын хабарл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95280" y="1989000"/>
            <a:ext cx="8280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ffff00"/>
              </a:gs>
              <a:gs pos="100000">
                <a:srgbClr val="9999ff"/>
              </a:gs>
            </a:gsLst>
            <a:lin ang="540000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009900"/>
                </a:solidFill>
                <a:latin typeface="Arial"/>
              </a:rPr>
              <a:t>Тақырыпты түсіну “Қонақасы” әңгімесі арқылы түсіндіред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95280" y="2997360"/>
            <a:ext cx="828000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ffff00"/>
              </a:gs>
              <a:gs pos="100000">
                <a:srgbClr val="9999ff"/>
              </a:gs>
            </a:gsLst>
            <a:lin ang="540000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kk-KZ" sz="2000" spc="-1" strike="noStrike">
                <a:solidFill>
                  <a:srgbClr val="009900"/>
                </a:solidFill>
                <a:latin typeface="Arial"/>
              </a:rPr>
              <a:t>Қонақасы” сөзі- “қонақ” және “асы” деген сөздің бірігу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2771640" y="4005360"/>
            <a:ext cx="2376000" cy="2015640"/>
          </a:xfrm>
          <a:prstGeom prst="star24">
            <a:avLst>
              <a:gd name="adj" fmla="val 40866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Қон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кү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арқы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322200" y="4076640"/>
            <a:ext cx="2376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8f"/>
              </a:gs>
              <a:gs pos="100000">
                <a:srgbClr val="ba0066"/>
              </a:gs>
            </a:gsLst>
            <a:lin ang="2700000"/>
          </a:gradFill>
          <a:ln w="381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Жылы жүректіл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322200" y="4724280"/>
            <a:ext cx="2376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8f"/>
              </a:gs>
              <a:gs pos="100000">
                <a:srgbClr val="ba0066"/>
              </a:gs>
            </a:gsLst>
            <a:lin ang="2700000"/>
          </a:gradFill>
          <a:ln w="381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Кең пейілділ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22200" y="5445000"/>
            <a:ext cx="23778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8f"/>
              </a:gs>
              <a:gs pos="100000">
                <a:srgbClr val="ba0066"/>
              </a:gs>
            </a:gsLst>
            <a:lin ang="2700000"/>
          </a:gradFill>
          <a:ln w="381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Сүйіспеншіл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5219640" y="5300640"/>
            <a:ext cx="2447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8f"/>
              </a:gs>
              <a:gs pos="100000">
                <a:srgbClr val="ba0066"/>
              </a:gs>
            </a:gsLst>
            <a:lin ang="2700000"/>
          </a:gradFill>
          <a:ln w="381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сыйласт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5219640" y="4653000"/>
            <a:ext cx="2447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8f"/>
              </a:gs>
              <a:gs pos="100000">
                <a:srgbClr val="ba0066"/>
              </a:gs>
            </a:gsLst>
            <a:lin ang="2700000"/>
          </a:gradFill>
          <a:ln w="381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құр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5219640" y="4005360"/>
            <a:ext cx="2376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8f"/>
              </a:gs>
              <a:gs pos="100000">
                <a:srgbClr val="ba0066"/>
              </a:gs>
            </a:gsLst>
            <a:lin ang="2700000"/>
          </a:gradFill>
          <a:ln w="381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Мейір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324000" y="6093000"/>
            <a:ext cx="2304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8f"/>
              </a:gs>
              <a:gs pos="100000">
                <a:srgbClr val="ba0066"/>
              </a:gs>
            </a:gsLst>
            <a:lin ang="2700000"/>
          </a:gradFill>
          <a:ln w="381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ff00"/>
                </a:solidFill>
                <a:latin typeface="Arial"/>
              </a:rPr>
              <a:t>Жылы жүз,шы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2916360" y="6093000"/>
            <a:ext cx="60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8f"/>
              </a:gs>
              <a:gs pos="100000">
                <a:srgbClr val="ba0066"/>
              </a:gs>
            </a:gsLst>
            <a:lin ang="2700000"/>
          </a:gradFill>
          <a:ln w="381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600" spc="-1" strike="noStrike">
                <a:solidFill>
                  <a:srgbClr val="ffff00"/>
                </a:solidFill>
                <a:latin typeface="Arial"/>
              </a:rPr>
              <a:t>Адамдар арасында адамгершіліктің осын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ff00"/>
                </a:solidFill>
                <a:latin typeface="Arial"/>
              </a:rPr>
              <a:t>құнылықтары пайда бол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250920" y="260280"/>
            <a:ext cx="1152000" cy="19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27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 rot="5400000">
            <a:off x="9720" y="1006560"/>
            <a:ext cx="1584000" cy="523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Ойын</a:t>
            </a:r>
            <a:endParaRPr b="1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619280" y="692280"/>
            <a:ext cx="7056000" cy="93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2050920" y="765000"/>
            <a:ext cx="6192360" cy="701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Қонақты қарсы алу</a:t>
            </a:r>
            <a:endParaRPr b="0" lang="en-US" sz="28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179280" y="2421000"/>
            <a:ext cx="2231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179280" y="3357720"/>
            <a:ext cx="2231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179280" y="4292640"/>
            <a:ext cx="2231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2484360" y="2421000"/>
            <a:ext cx="633528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Қонаққа достары келеді. Қалай қар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алып, шығарып салатындарын көрсетед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2484360" y="3357720"/>
            <a:ext cx="633528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Қонаққа келген жақын-туыстарын қар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алуды көрсетед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484360" y="4292640"/>
            <a:ext cx="633528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Үйде ата-аналары жоқ кезде келі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қалған қонақты күтуді көрсетед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13"/>
          <p:cNvSpPr txBox="1"/>
          <p:nvPr/>
        </p:nvSpPr>
        <p:spPr>
          <a:xfrm>
            <a:off x="395280" y="2556000"/>
            <a:ext cx="1872720" cy="657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361" strike="noStrike">
                <a:ln w="0">
                  <a:noFill/>
                </a:ln>
                <a:solidFill>
                  <a:srgbClr val="33ccff"/>
                </a:solidFill>
                <a:latin typeface="Impact"/>
              </a:rPr>
              <a:t>І топ</a:t>
            </a:r>
            <a:endParaRPr b="0" lang="en-US" sz="3600" spc="-1" strike="noStrike">
              <a:ln w="0">
                <a:noFill/>
              </a:ln>
              <a:solidFill>
                <a:srgbClr val="33ccff"/>
              </a:solidFill>
              <a:latin typeface="Arial"/>
            </a:endParaRPr>
          </a:p>
        </p:txBody>
      </p:sp>
      <p:sp>
        <p:nvSpPr>
          <p:cNvPr id="168" name="WordArt 14"/>
          <p:cNvSpPr txBox="1"/>
          <p:nvPr/>
        </p:nvSpPr>
        <p:spPr>
          <a:xfrm>
            <a:off x="395280" y="3492360"/>
            <a:ext cx="1872720" cy="657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361" strike="noStrike">
                <a:ln w="0">
                  <a:noFill/>
                </a:ln>
                <a:solidFill>
                  <a:srgbClr val="33ccff"/>
                </a:solidFill>
                <a:latin typeface="Impact"/>
              </a:rPr>
              <a:t>ІІ топ</a:t>
            </a:r>
            <a:endParaRPr b="0" lang="en-US" sz="3600" spc="-1" strike="noStrike">
              <a:ln w="0">
                <a:noFill/>
              </a:ln>
              <a:solidFill>
                <a:srgbClr val="33ccff"/>
              </a:solidFill>
              <a:latin typeface="Arial"/>
            </a:endParaRPr>
          </a:p>
        </p:txBody>
      </p:sp>
      <p:sp>
        <p:nvSpPr>
          <p:cNvPr id="169" name="WordArt 15"/>
          <p:cNvSpPr txBox="1"/>
          <p:nvPr/>
        </p:nvSpPr>
        <p:spPr>
          <a:xfrm>
            <a:off x="324000" y="4437000"/>
            <a:ext cx="1872720" cy="657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361" strike="noStrike">
                <a:ln w="0">
                  <a:noFill/>
                </a:ln>
                <a:solidFill>
                  <a:srgbClr val="33ccff"/>
                </a:solidFill>
                <a:latin typeface="Impact"/>
              </a:rPr>
              <a:t>ІІІ топ</a:t>
            </a:r>
            <a:endParaRPr b="0" lang="en-US" sz="3600" spc="-1" strike="noStrike">
              <a:ln w="0">
                <a:noFill/>
              </a:ln>
              <a:solidFill>
                <a:srgbClr val="33ccff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179280" y="5373720"/>
            <a:ext cx="8640360" cy="12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fff00"/>
              </a:gs>
              <a:gs pos="100000">
                <a:srgbClr val="ff0066"/>
              </a:gs>
            </a:gsLst>
            <a:lin ang="540000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1" lang="kk-KZ" sz="2000" spc="-1" strike="noStrike">
                <a:solidFill>
                  <a:srgbClr val="ff0000"/>
                </a:solidFill>
                <a:latin typeface="Arial"/>
              </a:rPr>
              <a:t>Қонақ  күтуге арналған дастарқан үсті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kk-KZ" sz="2000" spc="-1" strike="noStrike">
                <a:solidFill>
                  <a:srgbClr val="ff0000"/>
                </a:solidFill>
                <a:latin typeface="Arial"/>
              </a:rPr>
              <a:t>ұсынылатын тағамдардың суретін салу тапсыры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17"/>
          <p:cNvSpPr txBox="1"/>
          <p:nvPr/>
        </p:nvSpPr>
        <p:spPr>
          <a:xfrm>
            <a:off x="826920" y="5445000"/>
            <a:ext cx="1904760" cy="685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Үйге тапсырма</a:t>
            </a:r>
            <a:endParaRPr b="0" lang="en-US" sz="2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250920" y="189000"/>
            <a:ext cx="1584000" cy="6335280"/>
          </a:xfrm>
          <a:prstGeom prst="plus">
            <a:avLst>
              <a:gd name="adj" fmla="val 10222"/>
            </a:avLst>
          </a:prstGeom>
          <a:gradFill rotWithShape="0">
            <a:gsLst>
              <a:gs pos="0">
                <a:srgbClr val="0099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2050920" y="189000"/>
            <a:ext cx="6768720" cy="1800000"/>
          </a:xfrm>
          <a:prstGeom prst="plus">
            <a:avLst>
              <a:gd name="adj" fmla="val 10222"/>
            </a:avLst>
          </a:prstGeom>
          <a:gradFill rotWithShape="0">
            <a:gsLst>
              <a:gs pos="0">
                <a:srgbClr val="0099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Жақсы қонақ-құт бер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kk-KZ" sz="2000" spc="-1" strike="noStrike">
                <a:solidFill>
                  <a:srgbClr val="ff0000"/>
                </a:solidFill>
                <a:latin typeface="Arial"/>
              </a:rPr>
              <a:t>халық даналығ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2060640"/>
            <a:ext cx="6768720" cy="2881080"/>
          </a:xfrm>
          <a:prstGeom prst="plus">
            <a:avLst>
              <a:gd name="adj" fmla="val 4019"/>
            </a:avLst>
          </a:prstGeom>
          <a:gradFill rotWithShape="0">
            <a:gsLst>
              <a:gs pos="0">
                <a:srgbClr val="0099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ұтты қонақ келсе қой егіз таб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Балалар, ата-бабадан жалғасып келе жатқан дәстүрді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бірі – қонақ күту. Үйге қонақ келсе, қонақпен бі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уанышты хабар, жақсылық, бақыт, береке бір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деп ырым етіп қуанатын болған. Өйткені, қонақ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біреудің дастарқанына барғанда жақсы тілекпе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ейірімді жүрекпен барады, сол үйдің қуаныш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бөлісіп, бірге қуанып, ортақтасады, сондықтан да х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kk-KZ" sz="1800" spc="-1" strike="noStrike">
                <a:solidFill>
                  <a:srgbClr val="009900"/>
                </a:solidFill>
                <a:latin typeface="Arial"/>
              </a:rPr>
              <a:t>Жақсы қонақ – құт, береке”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 деп айтқ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 rot="5400000">
            <a:off x="-1800720" y="2817000"/>
            <a:ext cx="5760720" cy="107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Дәйексөз</a:t>
            </a:r>
            <a:endParaRPr b="1" i="1" lang="en-US" sz="3600" spc="-1" strike="noStrike">
              <a:ln w="0">
                <a:noFill/>
              </a:ln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979640" y="5013360"/>
            <a:ext cx="2879280" cy="1510920"/>
          </a:xfrm>
          <a:prstGeom prst="plus">
            <a:avLst>
              <a:gd name="adj" fmla="val 10222"/>
            </a:avLst>
          </a:prstGeom>
          <a:blipFill rotWithShape="0">
            <a:blip r:embed="rId2"/>
            <a:srcRect/>
            <a:stretch/>
          </a:blipFill>
          <a:ln w="381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i="1" lang="ru-RU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40360" y="5013360"/>
            <a:ext cx="2879280" cy="1510920"/>
          </a:xfrm>
          <a:prstGeom prst="plus">
            <a:avLst>
              <a:gd name="adj" fmla="val 10222"/>
            </a:avLst>
          </a:prstGeom>
          <a:blipFill rotWithShape="0">
            <a:blip r:embed="rId3"/>
            <a:srcRect/>
            <a:stretch/>
          </a:blipFill>
          <a:ln w="381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i="1" lang="ru-RU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3419640" y="476280"/>
            <a:ext cx="2781000" cy="817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scadeUp">
              <a:avLst>
                <a:gd name="adj" fmla="val 100000"/>
              </a:avLst>
            </a:prstTxWarp>
            <a:noAutofit/>
            <a:scene3d>
              <a:camera prst="legacyPerspectiveFront">
                <a:rot lat="20519999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Қорытынды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3"/>
          <p:cNvSpPr txBox="1"/>
          <p:nvPr/>
        </p:nvSpPr>
        <p:spPr>
          <a:xfrm>
            <a:off x="1258920" y="1628640"/>
            <a:ext cx="6695640" cy="610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ff00"/>
                </a:solidFill>
                <a:latin typeface="Times New Roman"/>
              </a:rPr>
              <a:t>Дастарқанға бата</a:t>
            </a:r>
            <a:endParaRPr b="0" lang="en-US" sz="3600" spc="-1" strike="noStrike">
              <a:ln w="0">
                <a:noFill/>
              </a:ln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4572000" y="4149720"/>
            <a:ext cx="3816000" cy="2447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ffff"/>
              </a:gs>
              <a:gs pos="50000">
                <a:srgbClr val="ffff00"/>
              </a:gs>
              <a:gs pos="100000">
                <a:srgbClr val="00ffff"/>
              </a:gs>
            </a:gsLst>
            <a:lin ang="540000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Батадан үзінділ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айтып к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611280" y="2708280"/>
            <a:ext cx="4536720" cy="2736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ffff"/>
              </a:gs>
              <a:gs pos="50000">
                <a:srgbClr val="ffff00"/>
              </a:gs>
              <a:gs pos="100000">
                <a:srgbClr val="00ffff"/>
              </a:gs>
            </a:gsLst>
            <a:lin ang="540000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атаны жасы үлкен, төрдегі е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сыйлы адам береді. Бата-қазақ халқ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үшін қасиетті де қастерлі тіл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Халық арасында бата тіл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орындалады деген сенім б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395280" y="404640"/>
            <a:ext cx="8280000" cy="936360"/>
          </a:xfrm>
          <a:prstGeom prst="plaque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381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1403280" y="1989000"/>
            <a:ext cx="6624360" cy="3384360"/>
          </a:xfrm>
          <a:prstGeom prst="flowChartOffpageConnector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381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- Азамат 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- Халқыңа қалаулы 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- Арманың орындал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- Ата-ананың қуанышы 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- Білімді 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- Денсаулығың зор бол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971640" y="549360"/>
            <a:ext cx="7200720" cy="5331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Жүректен-жүрекке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5508720" y="189000"/>
            <a:ext cx="3455640" cy="2374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179280" y="4221000"/>
            <a:ext cx="3455640" cy="23745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24000" y="189000"/>
            <a:ext cx="475092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270000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Ән “Қазақы дастарқаны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95280" y="1197000"/>
            <a:ext cx="4681080" cy="208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270000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Ей, халайық, халай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Бар өнерге салайы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Уайым қайғы жоқ болсы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уанышың көп болс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4788000" y="3068640"/>
            <a:ext cx="4105080" cy="35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lin ang="2700000"/>
          </a:gra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009900"/>
                </a:solidFill>
                <a:latin typeface="Arial"/>
              </a:rPr>
              <a:t>Дастарқан-ау, дастарқ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009900"/>
                </a:solidFill>
                <a:latin typeface="Arial"/>
              </a:rPr>
              <a:t>Мерекелі дастарқ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009900"/>
                </a:solidFill>
                <a:latin typeface="Arial"/>
              </a:rPr>
              <a:t>Берекелі дастарқан, 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Жақсы келсе, құт бо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Жаман келсе, жұт бо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Жолаушымыз біз деге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Асыл мұра іздег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8172360" y="3500280"/>
            <a:ext cx="286920" cy="1080720"/>
          </a:xfrm>
          <a:prstGeom prst="rightBrace">
            <a:avLst>
              <a:gd name="adj1" fmla="val 31354"/>
              <a:gd name="adj2" fmla="val 50000"/>
            </a:avLst>
          </a:prstGeom>
          <a:noFill/>
          <a:ln w="9525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  <Words>438</Words>
  <Paragraphs>11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8:52:22Z</dcterms:created>
  <dc:creator>Admin</dc:creator>
  <dc:description/>
  <dc:language>en-US</dc:language>
  <cp:lastModifiedBy>игрч</cp:lastModifiedBy>
  <dcterms:modified xsi:type="dcterms:W3CDTF">2009-03-19T09:54:37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