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12.jpeg" ContentType="image/jpeg"/>
  <Override PartName="/ppt/media/image3.gif" ContentType="image/gif"/>
  <Override PartName="/ppt/media/image4.png" ContentType="image/png"/>
  <Override PartName="/ppt/media/image13.jpeg" ContentType="image/jpeg"/>
  <Override PartName="/ppt/media/image5.gif" ContentType="image/gif"/>
  <Override PartName="/ppt/media/image9.png" ContentType="image/png"/>
  <Override PartName="/ppt/media/image7.gif" ContentType="image/gif"/>
  <Override PartName="/ppt/media/image8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2333-48FC-46DE-827C-40F3821D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8BF-8AB5-4CBE-818C-4B3031CC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2AE-46A1-4230-92D1-761F13F4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7397-8F4B-4CCF-8ED3-92C50D2F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086B-9100-47FF-8575-B688224E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56B1-278C-4F9D-83B4-9590A44E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1FA5-E6F7-47BE-8135-CDA1E3E2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418F-1EDB-4BFA-A504-A8A9B0B0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082C-CE78-4649-B7CC-16A4A81F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ADD5-66BE-49C3-A4DF-879F0D3D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E4E3-6E77-4585-BD39-5C3DFB9A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E5B3-2CCB-4CB0-8031-7D6293CF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4BDB-0082-4A33-BC67-18875908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2288-C0BC-4131-B043-B5212887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5ACB-54E8-4CBE-9A5F-A9063417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68ED-60B2-4B75-9825-405EDC6C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572D-D043-403E-AFFA-92C1E85D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9C76-5F05-46CA-99C6-98CA19CE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BFB7-0D0D-4EB9-A4A4-C37B04CA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3DC-224A-492C-A33D-CCAC32BA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1FB-956D-4115-8324-58AC60A2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F1B-3464-4EFF-9CF5-B3A386B8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1A0-9B60-4A02-BCC6-62B249C1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4C5-7805-4122-8A46-A7ACD721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76B4-2B89-44F1-8210-DBA2A2F984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B212-7C33-431A-8654-E5C49097A8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400" y="1143000"/>
            <a:ext cx="68356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Моделирование юбки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одежке встречают, по уму провожаю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2BWP4sbk7k"/>
          <p:cNvPicPr/>
          <p:nvPr/>
        </p:nvPicPr>
        <p:blipFill>
          <a:blip r:embed="rId1"/>
          <a:stretch/>
        </p:blipFill>
        <p:spPr>
          <a:xfrm>
            <a:off x="6659640" y="4287960"/>
            <a:ext cx="2089080" cy="183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47179842_1249529607_5"/>
          <p:cNvPicPr/>
          <p:nvPr/>
        </p:nvPicPr>
        <p:blipFill>
          <a:blip r:embed="rId2"/>
          <a:stretch/>
        </p:blipFill>
        <p:spPr>
          <a:xfrm>
            <a:off x="250920" y="574560"/>
            <a:ext cx="201744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люч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одели юбо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690640" y="1736640"/>
            <a:ext cx="42199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Моделировани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дежды — это творческий процесс создания новой модел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4" name="Organization Chart 7"/>
          <p:cNvGrpSpPr/>
          <p:nvPr/>
        </p:nvGrpSpPr>
        <p:grpSpPr>
          <a:xfrm>
            <a:off x="684360" y="1801800"/>
            <a:ext cx="8279640" cy="4249800"/>
            <a:chOff x="684360" y="1801800"/>
            <a:chExt cx="8279640" cy="4249800"/>
          </a:xfrm>
        </p:grpSpPr>
        <p:cxnSp>
          <p:nvCxnSpPr>
            <p:cNvPr id="105" name="_s1028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512680" y="2811240"/>
              <a:ext cx="850680" cy="2230200"/>
            </a:xfrm>
            <a:prstGeom prst="bentConnector3">
              <a:avLst>
                <a:gd name="adj1" fmla="val 127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29"/>
            <p:cNvCxnSpPr>
              <a:stCxn id="109" idx="0"/>
              <a:endCxn id="107" idx="2"/>
            </p:cNvCxnSpPr>
            <p:nvPr/>
          </p:nvCxnSpPr>
          <p:spPr>
            <a:xfrm flipH="1" flipV="1" rot="5400000">
              <a:off x="3283920" y="2811960"/>
              <a:ext cx="850680" cy="2229120"/>
            </a:xfrm>
            <a:prstGeom prst="bentConnector3">
              <a:avLst>
                <a:gd name="adj1" fmla="val 127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1030"/>
            <p:cNvSpPr/>
            <p:nvPr/>
          </p:nvSpPr>
          <p:spPr>
            <a:xfrm>
              <a:off x="2912760" y="1801800"/>
              <a:ext cx="3821400" cy="1699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Моделировани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1"/>
            <p:cNvSpPr/>
            <p:nvPr/>
          </p:nvSpPr>
          <p:spPr>
            <a:xfrm>
              <a:off x="684360" y="4351680"/>
              <a:ext cx="3821400" cy="1699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</a:rPr>
                <a:t>Художественное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>
              <a:off x="5142600" y="4351680"/>
              <a:ext cx="3821400" cy="1699920"/>
            </a:xfrm>
            <a:prstGeom prst="roundRect">
              <a:avLst>
                <a:gd name="adj" fmla="val 16667"/>
              </a:avLst>
            </a:prstGeom>
            <a:solidFill>
              <a:srgbClr val="c3fb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</a:rPr>
                <a:t>Техническое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17" descr="2145412yvzdsltr7g"/>
          <p:cNvPicPr/>
          <p:nvPr/>
        </p:nvPicPr>
        <p:blipFill>
          <a:blip r:embed="rId1"/>
          <a:stretch/>
        </p:blipFill>
        <p:spPr>
          <a:xfrm>
            <a:off x="7164360" y="1773360"/>
            <a:ext cx="16938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Кто, что выполняет ?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81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удожественным моделированием занимаются художники-модельеры. Они придумывают новые модели одеж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хническим моделированием занимаются художники – конструкторы, которые выполняют замысел художника – модельера в чертеже, лекалах. Они изменяют детали чертежа, соответственно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4"/>
          <p:cNvGraphicFramePr/>
          <p:nvPr/>
        </p:nvGraphicFramePr>
        <p:xfrm>
          <a:off x="4716360" y="1916280"/>
          <a:ext cx="414036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916280"/>
                    <a:ext cx="4140360" cy="4176720"/>
                  </a:xfrm>
                  <a:prstGeom prst="rect">
                    <a:avLst/>
                  </a:prstGeom>
                  <a:ln w="38160">
                    <a:solidFill>
                      <a:srgbClr val="3300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5" name="Rectangle 5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Алгоритм  моделирования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11280" y="1341360"/>
            <a:ext cx="45370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рисовать эскиз моде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вести чертеж шаблона (М1: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нести линии измен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езать по намеченным линия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ести, положив бумагу яркого цвета под разв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дписать все детали  кроя: количество; название, направление нити  основы,   припуски на ш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118022cxsx7puq8v"/>
          <p:cNvPicPr/>
          <p:nvPr/>
        </p:nvPicPr>
        <p:blipFill>
          <a:blip r:embed="rId3"/>
          <a:stretch/>
        </p:blipFill>
        <p:spPr>
          <a:xfrm>
            <a:off x="0" y="152280"/>
            <a:ext cx="1330200" cy="13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Трехцветная коническая юбка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482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готовый чертеж конической юбки нанести линии разрезов, делящих юбку на три полосы равной ширины или в любой произвольной пропор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резать выкройку по намеченным линиям и полученные части использовать как выкройки для трех различных отрезов ткани, подобранных по цветовой гамме и рису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0"/>
          <p:cNvPicPr/>
          <p:nvPr/>
        </p:nvPicPr>
        <p:blipFill>
          <a:blip r:embed="rId1"/>
          <a:stretch/>
        </p:blipFill>
        <p:spPr>
          <a:xfrm>
            <a:off x="5580000" y="1557360"/>
            <a:ext cx="2737080" cy="20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Picture 7" descr="1"/>
          <p:cNvPicPr/>
          <p:nvPr/>
        </p:nvPicPr>
        <p:blipFill>
          <a:blip r:embed="rId2"/>
          <a:stretch/>
        </p:blipFill>
        <p:spPr>
          <a:xfrm>
            <a:off x="5580000" y="4076640"/>
            <a:ext cx="273708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оническая юбка, выполненная в  лоскутной технике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850760"/>
            <a:ext cx="5040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роить чертеж двухшовной  конической юбки и нанести на него линии разреза таким образом,  чтобы они совпали на боковых  швах переднего и заднего  полотни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резать выкройку по наме­ченным линиям и полученные час­ти использовать как выкройки для   вставок, выполненных в лоскутной тех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0"/>
          <p:cNvPicPr/>
          <p:nvPr/>
        </p:nvPicPr>
        <p:blipFill>
          <a:blip r:embed="rId1"/>
          <a:stretch/>
        </p:blipFill>
        <p:spPr>
          <a:xfrm>
            <a:off x="6696000" y="1773360"/>
            <a:ext cx="244800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Picture 8" descr="1"/>
          <p:cNvPicPr/>
          <p:nvPr/>
        </p:nvPicPr>
        <p:blipFill>
          <a:blip r:embed="rId2"/>
          <a:stretch/>
        </p:blipFill>
        <p:spPr>
          <a:xfrm>
            <a:off x="5867280" y="4292640"/>
            <a:ext cx="2665440" cy="20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0"/>
          <p:cNvPicPr/>
          <p:nvPr/>
        </p:nvPicPr>
        <p:blipFill>
          <a:blip r:embed="rId1"/>
          <a:stretch/>
        </p:blipFill>
        <p:spPr>
          <a:xfrm>
            <a:off x="6300720" y="5229360"/>
            <a:ext cx="263520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6" descr="http://0"/>
          <p:cNvPicPr/>
          <p:nvPr/>
        </p:nvPicPr>
        <p:blipFill>
          <a:blip r:embed="rId2"/>
          <a:stretch/>
        </p:blipFill>
        <p:spPr>
          <a:xfrm>
            <a:off x="7093080" y="2565360"/>
            <a:ext cx="1871640" cy="17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актическая работа.  </a:t>
            </a:r>
            <a:br>
              <a:rPr sz="32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Моделирование конических и клиньевых юбок.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81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ние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Занести в тетрадь текст,  выделенный жирным шриф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ние 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Пользуясь алгоритмом моделирования выполнить техническое моделирование фасона данной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ние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мотрите рисунок и нанесите  необходимые фасонные линии клиньево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ю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0"/>
            <a:ext cx="8064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рка ДТС необходима для определения линии бедер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ина изделия измеряется от линии бедер до желаемой длины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м больше клиньев в юбке, тем клинья шире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зультат измерения нужно разделить пополам при записи мерок Ст, Сб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ужно ли снимать мерку Сб для построения чертежа юбки “Солнце”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 ассортименту поясной одежды относится юбка, шорты брюк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рка Ст определяет ширину юбк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штаб 1:1 используется при построении чертежа изделия в натуральную величин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делирование — это творческий процесс создания новых моделе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08:02:21Z</dcterms:created>
  <dc:creator>user</dc:creator>
  <dc:description/>
  <dc:language>en-US</dc:language>
  <cp:lastModifiedBy>Евгения Казанцева</cp:lastModifiedBy>
  <dcterms:modified xsi:type="dcterms:W3CDTF">2014-01-27T14:36:12Z</dcterms:modified>
  <cp:revision>8</cp:revision>
  <dc:subject/>
  <dc:title>Моделирование юбки</dc:title>
</cp:coreProperties>
</file>