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8C81-21CE-4626-8DFF-2743B44837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62EC-9A64-4CE9-97C9-7FDBA09BAD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E95-DBFB-447C-9C89-7A322533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FE9-34DA-44B2-AE50-A35C41ED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9A4-979A-4672-8C0F-EB332EA1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579-3509-4B4A-8F0D-FEDD602C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CF4A-FE0B-4C84-B743-623EBBEC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9C5-296F-4C40-B76D-1128533B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0D9-19A3-4340-933A-558E212E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E52-1BE1-4FC3-8361-F889BF51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A7B6-04C1-4B87-B069-DA3CAD7B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D01-B5AB-4638-B61A-4FA3DE9A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040-467D-4693-A538-A3DBB9F8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316-B2D2-4C7E-8A6B-6A71911E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A1CE-4C5E-44DA-8E2C-E7F220DD7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9720" y="2143080"/>
            <a:ext cx="7286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29520" y="1006200"/>
            <a:ext cx="199800" cy="73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Documents and Settings\Администратор\Мои документы\Мои рисунки\J7BM6CAO1L2Z3CASSJE48CAFEJHIUCA258DAFCADXAL6PCA27TUFLCA0X5Y65CAR7HZ1MCAGBXO35CAJE5HZ0CAHLZZ62CAOQRMS2CA6MPQ3VCAAW8XU3CAXDLLXSCATZCY8WCA7IY12GCAWQKPVO.jpg"/>
          <p:cNvPicPr/>
          <p:nvPr/>
        </p:nvPicPr>
        <p:blipFill>
          <a:blip r:embed="rId1"/>
          <a:stretch/>
        </p:blipFill>
        <p:spPr>
          <a:xfrm>
            <a:off x="0" y="571680"/>
            <a:ext cx="8715240" cy="564336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4" descr=""/>
          <p:cNvPicPr/>
          <p:nvPr/>
        </p:nvPicPr>
        <p:blipFill>
          <a:blip r:embed="rId2"/>
          <a:stretch/>
        </p:blipFill>
        <p:spPr>
          <a:xfrm>
            <a:off x="1073160" y="457200"/>
            <a:ext cx="73944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69"/>
          <p:cNvSpPr txBox="1"/>
          <p:nvPr/>
        </p:nvSpPr>
        <p:spPr>
          <a:xfrm>
            <a:off x="2286000" y="4786200"/>
            <a:ext cx="10000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3355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ЛИ</a:t>
            </a:r>
            <a:endParaRPr b="1" lang="en-US" sz="1800" spc="1" strike="noStrike">
              <a:ln w="12600">
                <a:solidFill>
                  <a:srgbClr val="f3355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500040" y="214200"/>
            <a:ext cx="7858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984807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                           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984807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Rectangle 63"/>
          <p:cNvSpPr/>
          <p:nvPr/>
        </p:nvSpPr>
        <p:spPr>
          <a:xfrm>
            <a:off x="357120" y="1428840"/>
            <a:ext cx="8425080" cy="720720"/>
          </a:xfrm>
          <a:prstGeom prst="rect">
            <a:avLst/>
          </a:prstGeom>
          <a:solidFill>
            <a:srgbClr val="f7feca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Два треугольника равны, если соответственно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6"/>
          <p:cNvSpPr/>
          <p:nvPr/>
        </p:nvSpPr>
        <p:spPr>
          <a:xfrm>
            <a:off x="3000240" y="3143160"/>
            <a:ext cx="2880000" cy="1584360"/>
          </a:xfrm>
          <a:prstGeom prst="rect">
            <a:avLst/>
          </a:prstGeom>
          <a:solidFill>
            <a:srgbClr val="ddfb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орона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 и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прилежащих к 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угла</a:t>
            </a: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  кажд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Ромб 5"/>
          <p:cNvSpPr/>
          <p:nvPr/>
        </p:nvSpPr>
        <p:spPr>
          <a:xfrm>
            <a:off x="0" y="2214720"/>
            <a:ext cx="2928960" cy="3571560"/>
          </a:xfrm>
          <a:prstGeom prst="diamond">
            <a:avLst/>
          </a:prstGeom>
          <a:solidFill>
            <a:srgbClr val="eeece1"/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04360" y="3143160"/>
            <a:ext cx="206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ве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угол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ни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кажд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9"/>
          <p:cNvSpPr txBox="1"/>
          <p:nvPr/>
        </p:nvSpPr>
        <p:spPr>
          <a:xfrm>
            <a:off x="5572080" y="4786200"/>
            <a:ext cx="990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3355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ЛИ</a:t>
            </a:r>
            <a:endParaRPr b="1" lang="en-US" sz="1800" spc="1" strike="noStrike">
              <a:ln w="12600">
                <a:solidFill>
                  <a:srgbClr val="f3355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Ромб 9"/>
          <p:cNvSpPr/>
          <p:nvPr/>
        </p:nvSpPr>
        <p:spPr>
          <a:xfrm>
            <a:off x="6000840" y="2357280"/>
            <a:ext cx="2928960" cy="3571920"/>
          </a:xfrm>
          <a:prstGeom prst="diamond">
            <a:avLst/>
          </a:prstGeom>
          <a:solidFill>
            <a:srgbClr val="eeece1"/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6575760" y="3357720"/>
            <a:ext cx="19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ри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кажд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ая соединительная линия 7"/>
          <p:cNvSpPr/>
          <p:nvPr/>
        </p:nvSpPr>
        <p:spPr>
          <a:xfrm flipH="1" flipV="1">
            <a:off x="2714400" y="856800"/>
            <a:ext cx="142920" cy="235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9"/>
          <p:cNvSpPr/>
          <p:nvPr/>
        </p:nvSpPr>
        <p:spPr>
          <a:xfrm flipV="1">
            <a:off x="1428840" y="3642840"/>
            <a:ext cx="1643040" cy="17146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0"/>
          <p:cNvSpPr/>
          <p:nvPr/>
        </p:nvSpPr>
        <p:spPr>
          <a:xfrm flipH="1" flipV="1">
            <a:off x="9500760" y="1213920"/>
            <a:ext cx="716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1"/>
          <p:cNvSpPr/>
          <p:nvPr/>
        </p:nvSpPr>
        <p:spPr>
          <a:xfrm flipV="1">
            <a:off x="1999440" y="3642840"/>
            <a:ext cx="1071720" cy="30006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2"/>
          <p:cNvSpPr/>
          <p:nvPr/>
        </p:nvSpPr>
        <p:spPr>
          <a:xfrm flipH="1" flipV="1">
            <a:off x="1428480" y="5357880"/>
            <a:ext cx="571320" cy="128592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3"/>
          <p:cNvSpPr/>
          <p:nvPr/>
        </p:nvSpPr>
        <p:spPr>
          <a:xfrm flipH="1" flipV="1">
            <a:off x="1499760" y="571680"/>
            <a:ext cx="1357560" cy="2643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4"/>
          <p:cNvSpPr/>
          <p:nvPr/>
        </p:nvSpPr>
        <p:spPr>
          <a:xfrm>
            <a:off x="1500120" y="571680"/>
            <a:ext cx="1214640" cy="285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Дуга 33"/>
          <p:cNvSpPr/>
          <p:nvPr/>
        </p:nvSpPr>
        <p:spPr>
          <a:xfrm rot="4478400">
            <a:off x="1446840" y="478440"/>
            <a:ext cx="500040" cy="714240"/>
          </a:xfrm>
          <a:custGeom>
            <a:avLst/>
            <a:gdLst/>
            <a:ahLst/>
            <a:rect l="l" t="t" r="r" b="b"/>
            <a:pathLst>
              <a:path stroke="0" w="500062" h="714375">
                <a:moveTo>
                  <a:pt x="250031" y="0"/>
                </a:moveTo>
                <a:cubicBezTo>
                  <a:pt x="388119" y="0"/>
                  <a:pt x="500062" y="159919"/>
                  <a:pt x="500062" y="357188"/>
                </a:cubicBezTo>
                <a:lnTo>
                  <a:pt x="250031" y="357188"/>
                </a:lnTo>
                <a:lnTo>
                  <a:pt x="250031" y="0"/>
                </a:lnTo>
                <a:close/>
              </a:path>
              <a:path fill="none" w="500062" h="714375">
                <a:moveTo>
                  <a:pt x="250031" y="0"/>
                </a:moveTo>
                <a:cubicBezTo>
                  <a:pt x="388119" y="0"/>
                  <a:pt x="500062" y="159919"/>
                  <a:pt x="500062" y="357188"/>
                </a:cubicBezTo>
              </a:path>
            </a:pathLst>
          </a:custGeom>
          <a:noFill/>
          <a:ln w="1260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Дуга 34"/>
          <p:cNvSpPr/>
          <p:nvPr/>
        </p:nvSpPr>
        <p:spPr>
          <a:xfrm rot="4478400">
            <a:off x="1375200" y="407160"/>
            <a:ext cx="500040" cy="714600"/>
          </a:xfrm>
          <a:custGeom>
            <a:avLst/>
            <a:gdLst/>
            <a:ahLst/>
            <a:rect l="l" t="t" r="r" b="b"/>
            <a:pathLst>
              <a:path stroke="0" w="500063" h="714375">
                <a:moveTo>
                  <a:pt x="250031" y="0"/>
                </a:moveTo>
                <a:cubicBezTo>
                  <a:pt x="388120" y="0"/>
                  <a:pt x="500063" y="159919"/>
                  <a:pt x="500063" y="357188"/>
                </a:cubicBezTo>
                <a:lnTo>
                  <a:pt x="250032" y="357188"/>
                </a:lnTo>
                <a:cubicBezTo>
                  <a:pt x="250032" y="238125"/>
                  <a:pt x="250031" y="119063"/>
                  <a:pt x="250031" y="0"/>
                </a:cubicBezTo>
                <a:close/>
              </a:path>
              <a:path fill="none" w="500063" h="714375">
                <a:moveTo>
                  <a:pt x="250031" y="0"/>
                </a:moveTo>
                <a:cubicBezTo>
                  <a:pt x="388120" y="0"/>
                  <a:pt x="500063" y="159919"/>
                  <a:pt x="500063" y="357188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Дуга 35"/>
          <p:cNvSpPr/>
          <p:nvPr/>
        </p:nvSpPr>
        <p:spPr>
          <a:xfrm rot="4478400">
            <a:off x="1446840" y="478440"/>
            <a:ext cx="500040" cy="714240"/>
          </a:xfrm>
          <a:custGeom>
            <a:avLst/>
            <a:gdLst/>
            <a:ahLst/>
            <a:rect l="l" t="t" r="r" b="b"/>
            <a:pathLst>
              <a:path stroke="0" w="500062" h="714375">
                <a:moveTo>
                  <a:pt x="250031" y="0"/>
                </a:moveTo>
                <a:cubicBezTo>
                  <a:pt x="388119" y="0"/>
                  <a:pt x="500062" y="159919"/>
                  <a:pt x="500062" y="357188"/>
                </a:cubicBezTo>
                <a:lnTo>
                  <a:pt x="250031" y="357188"/>
                </a:lnTo>
                <a:lnTo>
                  <a:pt x="250031" y="0"/>
                </a:lnTo>
                <a:close/>
              </a:path>
              <a:path fill="none" w="500062" h="714375">
                <a:moveTo>
                  <a:pt x="250031" y="0"/>
                </a:moveTo>
                <a:cubicBezTo>
                  <a:pt x="388119" y="0"/>
                  <a:pt x="500062" y="159919"/>
                  <a:pt x="500062" y="357188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Дуга 36"/>
          <p:cNvSpPr/>
          <p:nvPr/>
        </p:nvSpPr>
        <p:spPr>
          <a:xfrm rot="17476800">
            <a:off x="2459880" y="2076840"/>
            <a:ext cx="500040" cy="714600"/>
          </a:xfrm>
          <a:custGeom>
            <a:avLst/>
            <a:gdLst/>
            <a:ahLst/>
            <a:rect l="l" t="t" r="r" b="b"/>
            <a:pathLst>
              <a:path stroke="0" w="500063" h="714375">
                <a:moveTo>
                  <a:pt x="250031" y="0"/>
                </a:moveTo>
                <a:cubicBezTo>
                  <a:pt x="388120" y="0"/>
                  <a:pt x="500063" y="159919"/>
                  <a:pt x="500063" y="357188"/>
                </a:cubicBezTo>
                <a:lnTo>
                  <a:pt x="250032" y="357188"/>
                </a:lnTo>
                <a:cubicBezTo>
                  <a:pt x="250032" y="238125"/>
                  <a:pt x="250031" y="119063"/>
                  <a:pt x="250031" y="0"/>
                </a:cubicBezTo>
                <a:close/>
              </a:path>
              <a:path fill="none" w="500063" h="714375">
                <a:moveTo>
                  <a:pt x="250031" y="0"/>
                </a:moveTo>
                <a:cubicBezTo>
                  <a:pt x="388120" y="0"/>
                  <a:pt x="500063" y="159919"/>
                  <a:pt x="500063" y="357188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уга 37"/>
          <p:cNvSpPr/>
          <p:nvPr/>
        </p:nvSpPr>
        <p:spPr>
          <a:xfrm rot="11401800">
            <a:off x="2482560" y="545400"/>
            <a:ext cx="593640" cy="663480"/>
          </a:xfrm>
          <a:custGeom>
            <a:avLst/>
            <a:gdLst/>
            <a:ahLst/>
            <a:rect l="l" t="t" r="r" b="b"/>
            <a:pathLst>
              <a:path stroke="0" w="593725" h="663575">
                <a:moveTo>
                  <a:pt x="296862" y="0"/>
                </a:moveTo>
                <a:cubicBezTo>
                  <a:pt x="460815" y="0"/>
                  <a:pt x="593725" y="148547"/>
                  <a:pt x="593725" y="331788"/>
                </a:cubicBezTo>
                <a:lnTo>
                  <a:pt x="296863" y="331788"/>
                </a:lnTo>
                <a:cubicBezTo>
                  <a:pt x="296863" y="221192"/>
                  <a:pt x="296862" y="110596"/>
                  <a:pt x="296862" y="0"/>
                </a:cubicBezTo>
                <a:close/>
              </a:path>
              <a:path fill="none" w="593725" h="663575">
                <a:moveTo>
                  <a:pt x="296862" y="0"/>
                </a:moveTo>
                <a:cubicBezTo>
                  <a:pt x="460815" y="0"/>
                  <a:pt x="593725" y="148547"/>
                  <a:pt x="593725" y="331788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Дуга 38"/>
          <p:cNvSpPr/>
          <p:nvPr/>
        </p:nvSpPr>
        <p:spPr>
          <a:xfrm rot="17476800">
            <a:off x="2433600" y="2285640"/>
            <a:ext cx="500040" cy="506520"/>
          </a:xfrm>
          <a:custGeom>
            <a:avLst/>
            <a:gdLst/>
            <a:ahLst/>
            <a:rect l="l" t="t" r="r" b="b"/>
            <a:pathLst>
              <a:path stroke="0" w="500063" h="506412">
                <a:moveTo>
                  <a:pt x="250031" y="0"/>
                </a:moveTo>
                <a:cubicBezTo>
                  <a:pt x="388120" y="0"/>
                  <a:pt x="500063" y="113364"/>
                  <a:pt x="500063" y="253206"/>
                </a:cubicBezTo>
                <a:lnTo>
                  <a:pt x="250032" y="253206"/>
                </a:lnTo>
                <a:cubicBezTo>
                  <a:pt x="250032" y="168804"/>
                  <a:pt x="250031" y="84402"/>
                  <a:pt x="250031" y="0"/>
                </a:cubicBezTo>
                <a:close/>
              </a:path>
              <a:path fill="none" w="500063" h="506412">
                <a:moveTo>
                  <a:pt x="250031" y="0"/>
                </a:moveTo>
                <a:cubicBezTo>
                  <a:pt x="388120" y="0"/>
                  <a:pt x="500063" y="113364"/>
                  <a:pt x="500063" y="253206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Дуга 39"/>
          <p:cNvSpPr/>
          <p:nvPr/>
        </p:nvSpPr>
        <p:spPr>
          <a:xfrm rot="16893000">
            <a:off x="2579040" y="2394360"/>
            <a:ext cx="361800" cy="474840"/>
          </a:xfrm>
          <a:custGeom>
            <a:avLst/>
            <a:gdLst/>
            <a:ahLst/>
            <a:rect l="l" t="t" r="r" b="b"/>
            <a:pathLst>
              <a:path stroke="0" w="361950" h="474662">
                <a:moveTo>
                  <a:pt x="180975" y="0"/>
                </a:moveTo>
                <a:cubicBezTo>
                  <a:pt x="280925" y="0"/>
                  <a:pt x="361950" y="106257"/>
                  <a:pt x="361950" y="237331"/>
                </a:cubicBezTo>
                <a:lnTo>
                  <a:pt x="180975" y="237331"/>
                </a:lnTo>
                <a:lnTo>
                  <a:pt x="180975" y="0"/>
                </a:lnTo>
                <a:close/>
              </a:path>
              <a:path fill="none" w="361950" h="474662">
                <a:moveTo>
                  <a:pt x="180975" y="0"/>
                </a:moveTo>
                <a:cubicBezTo>
                  <a:pt x="280925" y="0"/>
                  <a:pt x="361950" y="106257"/>
                  <a:pt x="361950" y="237331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Дуга 40"/>
          <p:cNvSpPr/>
          <p:nvPr/>
        </p:nvSpPr>
        <p:spPr>
          <a:xfrm rot="2475000">
            <a:off x="1072800" y="5114880"/>
            <a:ext cx="593640" cy="662040"/>
          </a:xfrm>
          <a:custGeom>
            <a:avLst/>
            <a:gdLst/>
            <a:ahLst/>
            <a:rect l="l" t="t" r="r" b="b"/>
            <a:pathLst>
              <a:path stroke="0" w="593725" h="661988">
                <a:moveTo>
                  <a:pt x="296862" y="0"/>
                </a:moveTo>
                <a:cubicBezTo>
                  <a:pt x="460815" y="0"/>
                  <a:pt x="593725" y="148191"/>
                  <a:pt x="593725" y="330994"/>
                </a:cubicBezTo>
                <a:lnTo>
                  <a:pt x="296863" y="330994"/>
                </a:lnTo>
                <a:cubicBezTo>
                  <a:pt x="296863" y="220663"/>
                  <a:pt x="296862" y="110331"/>
                  <a:pt x="296862" y="0"/>
                </a:cubicBezTo>
                <a:close/>
              </a:path>
              <a:path fill="none" w="593725" h="661988">
                <a:moveTo>
                  <a:pt x="296862" y="0"/>
                </a:moveTo>
                <a:cubicBezTo>
                  <a:pt x="460815" y="0"/>
                  <a:pt x="593725" y="148191"/>
                  <a:pt x="593725" y="330994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Дуга 41"/>
          <p:cNvSpPr/>
          <p:nvPr/>
        </p:nvSpPr>
        <p:spPr>
          <a:xfrm rot="11401800">
            <a:off x="2553840" y="3903120"/>
            <a:ext cx="593640" cy="663480"/>
          </a:xfrm>
          <a:custGeom>
            <a:avLst/>
            <a:gdLst/>
            <a:ahLst/>
            <a:rect l="l" t="t" r="r" b="b"/>
            <a:pathLst>
              <a:path stroke="0" w="593725" h="663575">
                <a:moveTo>
                  <a:pt x="296862" y="0"/>
                </a:moveTo>
                <a:cubicBezTo>
                  <a:pt x="460815" y="0"/>
                  <a:pt x="593725" y="148547"/>
                  <a:pt x="593725" y="331788"/>
                </a:cubicBezTo>
                <a:lnTo>
                  <a:pt x="296863" y="331788"/>
                </a:lnTo>
                <a:cubicBezTo>
                  <a:pt x="296863" y="221192"/>
                  <a:pt x="296862" y="110596"/>
                  <a:pt x="296862" y="0"/>
                </a:cubicBezTo>
                <a:close/>
              </a:path>
              <a:path fill="none" w="593725" h="663575">
                <a:moveTo>
                  <a:pt x="296862" y="0"/>
                </a:moveTo>
                <a:cubicBezTo>
                  <a:pt x="460815" y="0"/>
                  <a:pt x="593725" y="148547"/>
                  <a:pt x="593725" y="331788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Дуга 42"/>
          <p:cNvSpPr/>
          <p:nvPr/>
        </p:nvSpPr>
        <p:spPr>
          <a:xfrm rot="11401800">
            <a:off x="2625480" y="3747960"/>
            <a:ext cx="441360" cy="663840"/>
          </a:xfrm>
          <a:custGeom>
            <a:avLst/>
            <a:gdLst/>
            <a:ahLst/>
            <a:rect l="l" t="t" r="r" b="b"/>
            <a:pathLst>
              <a:path stroke="0" w="441325" h="663575">
                <a:moveTo>
                  <a:pt x="220662" y="0"/>
                </a:moveTo>
                <a:cubicBezTo>
                  <a:pt x="342531" y="0"/>
                  <a:pt x="441325" y="148547"/>
                  <a:pt x="441325" y="331788"/>
                </a:cubicBezTo>
                <a:lnTo>
                  <a:pt x="220663" y="331788"/>
                </a:lnTo>
                <a:cubicBezTo>
                  <a:pt x="220663" y="221192"/>
                  <a:pt x="220662" y="110596"/>
                  <a:pt x="220662" y="0"/>
                </a:cubicBezTo>
                <a:close/>
              </a:path>
              <a:path fill="none" w="441325" h="663575">
                <a:moveTo>
                  <a:pt x="220662" y="0"/>
                </a:moveTo>
                <a:cubicBezTo>
                  <a:pt x="342531" y="0"/>
                  <a:pt x="441325" y="148547"/>
                  <a:pt x="441325" y="331788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Дуга 43"/>
          <p:cNvSpPr/>
          <p:nvPr/>
        </p:nvSpPr>
        <p:spPr>
          <a:xfrm rot="10178400">
            <a:off x="2698560" y="3606480"/>
            <a:ext cx="301320" cy="663480"/>
          </a:xfrm>
          <a:custGeom>
            <a:avLst/>
            <a:gdLst/>
            <a:ahLst/>
            <a:rect l="l" t="t" r="r" b="b"/>
            <a:pathLst>
              <a:path stroke="0" w="301625" h="663575">
                <a:moveTo>
                  <a:pt x="150812" y="0"/>
                </a:moveTo>
                <a:cubicBezTo>
                  <a:pt x="234104" y="0"/>
                  <a:pt x="301625" y="148547"/>
                  <a:pt x="301625" y="331788"/>
                </a:cubicBezTo>
                <a:lnTo>
                  <a:pt x="150813" y="331788"/>
                </a:lnTo>
                <a:cubicBezTo>
                  <a:pt x="150813" y="221192"/>
                  <a:pt x="150812" y="110596"/>
                  <a:pt x="150812" y="0"/>
                </a:cubicBezTo>
                <a:close/>
              </a:path>
              <a:path fill="none" w="301625" h="663575">
                <a:moveTo>
                  <a:pt x="150812" y="0"/>
                </a:moveTo>
                <a:cubicBezTo>
                  <a:pt x="234104" y="0"/>
                  <a:pt x="301625" y="148547"/>
                  <a:pt x="301625" y="331788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Дуга 44"/>
          <p:cNvSpPr/>
          <p:nvPr/>
        </p:nvSpPr>
        <p:spPr>
          <a:xfrm rot="18360600">
            <a:off x="1616760" y="5934240"/>
            <a:ext cx="718920" cy="663840"/>
          </a:xfrm>
          <a:custGeom>
            <a:avLst/>
            <a:gdLst/>
            <a:ahLst/>
            <a:rect l="l" t="t" r="r" b="b"/>
            <a:pathLst>
              <a:path stroke="0" w="719137" h="663575">
                <a:moveTo>
                  <a:pt x="359568" y="0"/>
                </a:moveTo>
                <a:cubicBezTo>
                  <a:pt x="558152" y="0"/>
                  <a:pt x="719137" y="148547"/>
                  <a:pt x="719137" y="331788"/>
                </a:cubicBezTo>
                <a:lnTo>
                  <a:pt x="359569" y="331788"/>
                </a:lnTo>
                <a:cubicBezTo>
                  <a:pt x="359569" y="221192"/>
                  <a:pt x="359568" y="110596"/>
                  <a:pt x="359568" y="0"/>
                </a:cubicBezTo>
                <a:close/>
              </a:path>
              <a:path fill="none" w="719137" h="663575">
                <a:moveTo>
                  <a:pt x="359568" y="0"/>
                </a:moveTo>
                <a:cubicBezTo>
                  <a:pt x="558152" y="0"/>
                  <a:pt x="719137" y="148547"/>
                  <a:pt x="719137" y="331788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Дуга 45"/>
          <p:cNvSpPr/>
          <p:nvPr/>
        </p:nvSpPr>
        <p:spPr>
          <a:xfrm rot="18522000">
            <a:off x="1718280" y="6087600"/>
            <a:ext cx="595440" cy="663480"/>
          </a:xfrm>
          <a:custGeom>
            <a:avLst/>
            <a:gdLst/>
            <a:ahLst/>
            <a:rect l="l" t="t" r="r" b="b"/>
            <a:pathLst>
              <a:path stroke="0" w="595313" h="663575">
                <a:moveTo>
                  <a:pt x="297656" y="0"/>
                </a:moveTo>
                <a:cubicBezTo>
                  <a:pt x="462047" y="0"/>
                  <a:pt x="595313" y="148547"/>
                  <a:pt x="595313" y="331788"/>
                </a:cubicBezTo>
                <a:lnTo>
                  <a:pt x="297657" y="331788"/>
                </a:lnTo>
                <a:cubicBezTo>
                  <a:pt x="297657" y="221192"/>
                  <a:pt x="297656" y="110596"/>
                  <a:pt x="297656" y="0"/>
                </a:cubicBezTo>
                <a:close/>
              </a:path>
              <a:path fill="none" w="595313" h="663575">
                <a:moveTo>
                  <a:pt x="297656" y="0"/>
                </a:moveTo>
                <a:cubicBezTo>
                  <a:pt x="462047" y="0"/>
                  <a:pt x="595313" y="148547"/>
                  <a:pt x="595313" y="331788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6"/>
          <p:cNvSpPr/>
          <p:nvPr/>
        </p:nvSpPr>
        <p:spPr>
          <a:xfrm>
            <a:off x="3795480" y="2357280"/>
            <a:ext cx="1360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 =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=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=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7"/>
          <p:cNvSpPr/>
          <p:nvPr/>
        </p:nvSpPr>
        <p:spPr>
          <a:xfrm>
            <a:off x="2789280" y="5716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8"/>
          <p:cNvSpPr/>
          <p:nvPr/>
        </p:nvSpPr>
        <p:spPr>
          <a:xfrm>
            <a:off x="2360520" y="314316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9"/>
          <p:cNvSpPr/>
          <p:nvPr/>
        </p:nvSpPr>
        <p:spPr>
          <a:xfrm>
            <a:off x="1428840" y="633420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8"/>
          <p:cNvSpPr/>
          <p:nvPr/>
        </p:nvSpPr>
        <p:spPr>
          <a:xfrm>
            <a:off x="1003680" y="500076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9"/>
          <p:cNvSpPr/>
          <p:nvPr/>
        </p:nvSpPr>
        <p:spPr>
          <a:xfrm>
            <a:off x="3146400" y="32860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0"/>
          <p:cNvSpPr/>
          <p:nvPr/>
        </p:nvSpPr>
        <p:spPr>
          <a:xfrm>
            <a:off x="2288520" y="6334200"/>
            <a:ext cx="3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1"/>
          <p:cNvSpPr/>
          <p:nvPr/>
        </p:nvSpPr>
        <p:spPr>
          <a:xfrm>
            <a:off x="5143680" y="2786040"/>
            <a:ext cx="914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2"/>
          <p:cNvSpPr/>
          <p:nvPr/>
        </p:nvSpPr>
        <p:spPr>
          <a:xfrm>
            <a:off x="5143680" y="3643200"/>
            <a:ext cx="914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0"/>
          <p:cNvSpPr/>
          <p:nvPr/>
        </p:nvSpPr>
        <p:spPr>
          <a:xfrm>
            <a:off x="5143680" y="4500720"/>
            <a:ext cx="91440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51" descr=""/>
          <p:cNvPicPr/>
          <p:nvPr/>
        </p:nvPicPr>
        <p:blipFill>
          <a:blip r:embed="rId1"/>
          <a:stretch/>
        </p:blipFill>
        <p:spPr>
          <a:xfrm>
            <a:off x="3286080" y="285840"/>
            <a:ext cx="5718240" cy="1201680"/>
          </a:xfrm>
          <a:prstGeom prst="rect">
            <a:avLst/>
          </a:prstGeom>
          <a:ln w="0">
            <a:noFill/>
          </a:ln>
        </p:spPr>
      </p:pic>
      <p:sp>
        <p:nvSpPr>
          <p:cNvPr id="92" name="TextBox 52"/>
          <p:cNvSpPr/>
          <p:nvPr/>
        </p:nvSpPr>
        <p:spPr>
          <a:xfrm>
            <a:off x="6578280" y="2714760"/>
            <a:ext cx="85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В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С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3"/>
          <p:cNvSpPr/>
          <p:nvPr/>
        </p:nvSpPr>
        <p:spPr>
          <a:xfrm>
            <a:off x="7429680" y="2786040"/>
            <a:ext cx="914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4"/>
          <p:cNvSpPr/>
          <p:nvPr/>
        </p:nvSpPr>
        <p:spPr>
          <a:xfrm>
            <a:off x="7358040" y="3571920"/>
            <a:ext cx="914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5"/>
          <p:cNvSpPr/>
          <p:nvPr/>
        </p:nvSpPr>
        <p:spPr>
          <a:xfrm>
            <a:off x="7429680" y="4429080"/>
            <a:ext cx="914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6"/>
          <p:cNvSpPr/>
          <p:nvPr/>
        </p:nvSpPr>
        <p:spPr>
          <a:xfrm>
            <a:off x="1075320" y="1429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extBox 1" descr=""/>
          <p:cNvPicPr/>
          <p:nvPr/>
        </p:nvPicPr>
        <p:blipFill>
          <a:blip r:embed="rId2"/>
          <a:stretch/>
        </p:blipFill>
        <p:spPr>
          <a:xfrm>
            <a:off x="1573200" y="262080"/>
            <a:ext cx="7326360" cy="11095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ый треугольник 2"/>
          <p:cNvSpPr/>
          <p:nvPr/>
        </p:nvSpPr>
        <p:spPr>
          <a:xfrm>
            <a:off x="1500120" y="2071800"/>
            <a:ext cx="914400" cy="242892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ый треугольник 3"/>
          <p:cNvSpPr/>
          <p:nvPr/>
        </p:nvSpPr>
        <p:spPr>
          <a:xfrm rot="10419000">
            <a:off x="2488680" y="1685520"/>
            <a:ext cx="914400" cy="242892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ый треугольник 4"/>
          <p:cNvSpPr/>
          <p:nvPr/>
        </p:nvSpPr>
        <p:spPr>
          <a:xfrm rot="20245200">
            <a:off x="4320720" y="3819240"/>
            <a:ext cx="914400" cy="187488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074960" y="450072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2360520" y="450072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216800" y="1500120"/>
            <a:ext cx="3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932120" y="13572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3360600" y="135720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4359960" y="585792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5572080" y="5429160"/>
            <a:ext cx="3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3933000" y="3500280"/>
            <a:ext cx="4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3218040" y="414324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TextBox 14" descr=""/>
          <p:cNvPicPr/>
          <p:nvPr/>
        </p:nvPicPr>
        <p:blipFill>
          <a:blip r:embed="rId3"/>
          <a:stretch/>
        </p:blipFill>
        <p:spPr>
          <a:xfrm>
            <a:off x="5967360" y="3889440"/>
            <a:ext cx="2322720" cy="12859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ая соединительная линия 16"/>
          <p:cNvSpPr/>
          <p:nvPr/>
        </p:nvSpPr>
        <p:spPr>
          <a:xfrm>
            <a:off x="1499400" y="4500720"/>
            <a:ext cx="857160" cy="1440"/>
          </a:xfrm>
          <a:prstGeom prst="line">
            <a:avLst/>
          </a:prstGeom>
          <a:ln w="572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18"/>
          <p:cNvSpPr/>
          <p:nvPr/>
        </p:nvSpPr>
        <p:spPr>
          <a:xfrm flipV="1">
            <a:off x="2357280" y="1644120"/>
            <a:ext cx="857520" cy="70200"/>
          </a:xfrm>
          <a:prstGeom prst="line">
            <a:avLst/>
          </a:prstGeom>
          <a:ln w="572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21"/>
          <p:cNvSpPr/>
          <p:nvPr/>
        </p:nvSpPr>
        <p:spPr>
          <a:xfrm flipV="1">
            <a:off x="4715640" y="5428800"/>
            <a:ext cx="855720" cy="368280"/>
          </a:xfrm>
          <a:prstGeom prst="line">
            <a:avLst/>
          </a:prstGeom>
          <a:ln w="572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Дуга 24"/>
          <p:cNvSpPr/>
          <p:nvPr/>
        </p:nvSpPr>
        <p:spPr>
          <a:xfrm>
            <a:off x="1285920" y="4143240"/>
            <a:ext cx="500040" cy="642960"/>
          </a:xfrm>
          <a:custGeom>
            <a:avLst/>
            <a:gdLst/>
            <a:ahLst/>
            <a:rect l="l" t="t" r="r" b="b"/>
            <a:pathLst>
              <a:path stroke="0" w="500063" h="642938">
                <a:moveTo>
                  <a:pt x="250031" y="0"/>
                </a:moveTo>
                <a:cubicBezTo>
                  <a:pt x="388120" y="0"/>
                  <a:pt x="500063" y="143927"/>
                  <a:pt x="500063" y="321469"/>
                </a:cubicBezTo>
                <a:lnTo>
                  <a:pt x="250032" y="321469"/>
                </a:lnTo>
                <a:cubicBezTo>
                  <a:pt x="250032" y="214313"/>
                  <a:pt x="250031" y="107156"/>
                  <a:pt x="250031" y="0"/>
                </a:cubicBezTo>
                <a:close/>
              </a:path>
              <a:path fill="none" w="500063" h="642938">
                <a:moveTo>
                  <a:pt x="250031" y="0"/>
                </a:moveTo>
                <a:cubicBezTo>
                  <a:pt x="388120" y="0"/>
                  <a:pt x="500063" y="143927"/>
                  <a:pt x="500063" y="321469"/>
                </a:cubicBezTo>
              </a:path>
            </a:pathLst>
          </a:custGeom>
          <a:solidFill>
            <a:srgbClr val="ff0000"/>
          </a:solidFill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Дуга 25"/>
          <p:cNvSpPr/>
          <p:nvPr/>
        </p:nvSpPr>
        <p:spPr>
          <a:xfrm rot="10280400">
            <a:off x="2981160" y="1325160"/>
            <a:ext cx="500400" cy="642960"/>
          </a:xfrm>
          <a:custGeom>
            <a:avLst/>
            <a:gdLst/>
            <a:ahLst/>
            <a:rect l="l" t="t" r="r" b="b"/>
            <a:pathLst>
              <a:path stroke="0" w="500063" h="642937">
                <a:moveTo>
                  <a:pt x="250031" y="0"/>
                </a:moveTo>
                <a:cubicBezTo>
                  <a:pt x="388120" y="0"/>
                  <a:pt x="500063" y="143927"/>
                  <a:pt x="500063" y="321469"/>
                </a:cubicBezTo>
                <a:lnTo>
                  <a:pt x="250032" y="321469"/>
                </a:lnTo>
                <a:cubicBezTo>
                  <a:pt x="250032" y="214313"/>
                  <a:pt x="250031" y="107156"/>
                  <a:pt x="250031" y="0"/>
                </a:cubicBezTo>
                <a:close/>
              </a:path>
              <a:path fill="none" w="500063" h="642937">
                <a:moveTo>
                  <a:pt x="250031" y="0"/>
                </a:moveTo>
                <a:cubicBezTo>
                  <a:pt x="388120" y="0"/>
                  <a:pt x="500063" y="143927"/>
                  <a:pt x="500063" y="321469"/>
                </a:cubicBezTo>
              </a:path>
            </a:pathLst>
          </a:custGeom>
          <a:solidFill>
            <a:srgbClr val="ff0000"/>
          </a:solidFill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уга 26"/>
          <p:cNvSpPr/>
          <p:nvPr/>
        </p:nvSpPr>
        <p:spPr>
          <a:xfrm rot="19876800">
            <a:off x="4468680" y="5444640"/>
            <a:ext cx="536760" cy="714600"/>
          </a:xfrm>
          <a:custGeom>
            <a:avLst/>
            <a:gdLst/>
            <a:ahLst/>
            <a:rect l="l" t="t" r="r" b="b"/>
            <a:pathLst>
              <a:path stroke="0" w="536575" h="714375">
                <a:moveTo>
                  <a:pt x="268287" y="0"/>
                </a:moveTo>
                <a:cubicBezTo>
                  <a:pt x="416458" y="0"/>
                  <a:pt x="536575" y="159919"/>
                  <a:pt x="536575" y="357188"/>
                </a:cubicBezTo>
                <a:lnTo>
                  <a:pt x="268288" y="357188"/>
                </a:lnTo>
                <a:cubicBezTo>
                  <a:pt x="268288" y="238125"/>
                  <a:pt x="268287" y="119063"/>
                  <a:pt x="268287" y="0"/>
                </a:cubicBezTo>
                <a:close/>
              </a:path>
              <a:path fill="none" w="536575" h="714375">
                <a:moveTo>
                  <a:pt x="268287" y="0"/>
                </a:moveTo>
                <a:cubicBezTo>
                  <a:pt x="416458" y="0"/>
                  <a:pt x="536575" y="159919"/>
                  <a:pt x="536575" y="357188"/>
                </a:cubicBezTo>
              </a:path>
            </a:pathLst>
          </a:custGeom>
          <a:solidFill>
            <a:srgbClr val="ff0000"/>
          </a:solidFill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28"/>
          <p:cNvSpPr/>
          <p:nvPr/>
        </p:nvSpPr>
        <p:spPr>
          <a:xfrm flipH="1" flipV="1">
            <a:off x="1499760" y="2071800"/>
            <a:ext cx="34920" cy="23940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9"/>
          <p:cNvSpPr/>
          <p:nvPr/>
        </p:nvSpPr>
        <p:spPr>
          <a:xfrm flipH="1" flipV="1">
            <a:off x="3286080" y="1642680"/>
            <a:ext cx="247680" cy="241452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 flipH="1" flipV="1">
            <a:off x="3997440" y="4067280"/>
            <a:ext cx="1536480" cy="13478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38"/>
          <p:cNvGrpSpPr/>
          <p:nvPr/>
        </p:nvGrpSpPr>
        <p:grpSpPr>
          <a:xfrm>
            <a:off x="571680" y="-285120"/>
            <a:ext cx="5436720" cy="5375160"/>
            <a:chOff x="571680" y="-285120"/>
            <a:chExt cx="5436720" cy="5375160"/>
          </a:xfrm>
        </p:grpSpPr>
        <p:sp>
          <p:nvSpPr>
            <p:cNvPr id="121" name="Freeform 35"/>
            <p:cNvSpPr/>
            <p:nvPr/>
          </p:nvSpPr>
          <p:spPr>
            <a:xfrm rot="19835400">
              <a:off x="1265040" y="458640"/>
              <a:ext cx="4049640" cy="3887640"/>
            </a:xfrm>
            <a:custGeom>
              <a:avLst/>
              <a:gdLst/>
              <a:ahLst/>
              <a:rect l="l" t="t" r="r" b="b"/>
              <a:pathLst>
                <a:path w="3447" h="2449">
                  <a:moveTo>
                    <a:pt x="45" y="1270"/>
                  </a:moveTo>
                  <a:lnTo>
                    <a:pt x="3447" y="1270"/>
                  </a:lnTo>
                  <a:lnTo>
                    <a:pt x="3447" y="2449"/>
                  </a:lnTo>
                  <a:lnTo>
                    <a:pt x="0" y="0"/>
                  </a:lnTo>
                  <a:lnTo>
                    <a:pt x="0" y="1270"/>
                  </a:lnTo>
                  <a:lnTo>
                    <a:pt x="136" y="1270"/>
                  </a:lnTo>
                </a:path>
              </a:pathLst>
            </a:custGeom>
            <a:gradFill rotWithShape="0">
              <a:gsLst>
                <a:gs pos="0">
                  <a:srgbClr val="eeece1"/>
                </a:gs>
                <a:gs pos="50000">
                  <a:srgbClr val="ffffff"/>
                </a:gs>
                <a:gs pos="100000">
                  <a:srgbClr val="eeece1"/>
                </a:gs>
              </a:gsLst>
              <a:lin ang="2700000"/>
            </a:gradFill>
            <a:ln w="57240">
              <a:solidFill>
                <a:srgbClr val="9537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6"/>
            <p:cNvSpPr/>
            <p:nvPr/>
          </p:nvSpPr>
          <p:spPr>
            <a:xfrm rot="19835400">
              <a:off x="1476360" y="3136680"/>
              <a:ext cx="213840" cy="28728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0" y="0"/>
                  </a:moveTo>
                  <a:lnTo>
                    <a:pt x="182" y="0"/>
                  </a:lnTo>
                  <a:lnTo>
                    <a:pt x="182" y="181"/>
                  </a:lnTo>
                  <a:lnTo>
                    <a:pt x="0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3399"/>
            </a:solidFill>
            <a:ln w="57240">
              <a:solidFill>
                <a:srgbClr val="9537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7"/>
            <p:cNvSpPr/>
            <p:nvPr/>
          </p:nvSpPr>
          <p:spPr>
            <a:xfrm rot="19835400">
              <a:off x="4959360" y="1503720"/>
              <a:ext cx="212400" cy="2887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0" y="0"/>
                  </a:moveTo>
                  <a:lnTo>
                    <a:pt x="0" y="182"/>
                  </a:lnTo>
                  <a:lnTo>
                    <a:pt x="182" y="182"/>
                  </a:lnTo>
                  <a:lnTo>
                    <a:pt x="1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3399"/>
            </a:solidFill>
            <a:ln w="57240">
              <a:solidFill>
                <a:srgbClr val="9537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Box 5"/>
          <p:cNvSpPr/>
          <p:nvPr/>
        </p:nvSpPr>
        <p:spPr>
          <a:xfrm>
            <a:off x="1360800" y="37861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360360" y="10717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3145680" y="171468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5075280" y="78588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932440" y="314316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6283080" y="1428840"/>
            <a:ext cx="250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О = 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КАЗАТЬ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ВО = ∆ С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ый треугольник 1"/>
          <p:cNvSpPr/>
          <p:nvPr/>
        </p:nvSpPr>
        <p:spPr>
          <a:xfrm rot="7142400">
            <a:off x="388440" y="2187360"/>
            <a:ext cx="2539800" cy="91440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ый треугольник 2"/>
          <p:cNvSpPr/>
          <p:nvPr/>
        </p:nvSpPr>
        <p:spPr>
          <a:xfrm flipV="1" rot="9549600">
            <a:off x="437760" y="2198160"/>
            <a:ext cx="2487600" cy="91440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359640" y="37861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574640" y="7142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2717280" y="128592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3074040" y="27860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TextBox 7" descr=""/>
          <p:cNvPicPr/>
          <p:nvPr/>
        </p:nvPicPr>
        <p:blipFill>
          <a:blip r:embed="rId2"/>
          <a:stretch/>
        </p:blipFill>
        <p:spPr>
          <a:xfrm>
            <a:off x="5072040" y="1427040"/>
            <a:ext cx="3559320" cy="1571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SUPER043"/>
          <p:cNvPicPr/>
          <p:nvPr/>
        </p:nvPicPr>
        <p:blipFill>
          <a:blip r:embed="rId3"/>
          <a:stretch/>
        </p:blipFill>
        <p:spPr>
          <a:xfrm>
            <a:off x="7000920" y="3643200"/>
            <a:ext cx="1392120" cy="29973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9"/>
          <p:cNvSpPr/>
          <p:nvPr/>
        </p:nvSpPr>
        <p:spPr>
          <a:xfrm>
            <a:off x="1382040" y="4357800"/>
            <a:ext cx="502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пределите по как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изнаку равны тре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1"/>
          <p:cNvSpPr/>
          <p:nvPr/>
        </p:nvSpPr>
        <p:spPr>
          <a:xfrm>
            <a:off x="1285200" y="2143080"/>
            <a:ext cx="142920" cy="214200"/>
          </a:xfrm>
          <a:prstGeom prst="line">
            <a:avLst/>
          </a:prstGeom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4"/>
          <p:cNvSpPr/>
          <p:nvPr/>
        </p:nvSpPr>
        <p:spPr>
          <a:xfrm>
            <a:off x="1856520" y="2928960"/>
            <a:ext cx="142920" cy="214200"/>
          </a:xfrm>
          <a:prstGeom prst="line">
            <a:avLst/>
          </a:prstGeom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5"/>
          <p:cNvSpPr/>
          <p:nvPr/>
        </p:nvSpPr>
        <p:spPr>
          <a:xfrm flipH="1">
            <a:off x="2142720" y="1357200"/>
            <a:ext cx="214200" cy="285840"/>
          </a:xfrm>
          <a:prstGeom prst="line">
            <a:avLst/>
          </a:prstGeom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6"/>
          <p:cNvSpPr/>
          <p:nvPr/>
        </p:nvSpPr>
        <p:spPr>
          <a:xfrm flipH="1">
            <a:off x="2071440" y="1357200"/>
            <a:ext cx="142920" cy="214560"/>
          </a:xfrm>
          <a:prstGeom prst="line">
            <a:avLst/>
          </a:prstGeom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7"/>
          <p:cNvSpPr/>
          <p:nvPr/>
        </p:nvSpPr>
        <p:spPr>
          <a:xfrm flipH="1">
            <a:off x="2785680" y="2214720"/>
            <a:ext cx="214200" cy="71280"/>
          </a:xfrm>
          <a:prstGeom prst="line">
            <a:avLst/>
          </a:prstGeom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18"/>
          <p:cNvSpPr/>
          <p:nvPr/>
        </p:nvSpPr>
        <p:spPr>
          <a:xfrm flipH="1">
            <a:off x="2786040" y="2285280"/>
            <a:ext cx="285840" cy="142920"/>
          </a:xfrm>
          <a:prstGeom prst="line">
            <a:avLst/>
          </a:prstGeom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8"/>
          <p:cNvSpPr/>
          <p:nvPr/>
        </p:nvSpPr>
        <p:spPr>
          <a:xfrm>
            <a:off x="4643280" y="3314880"/>
            <a:ext cx="3395880" cy="1633320"/>
          </a:xfrm>
          <a:custGeom>
            <a:avLst/>
            <a:gdLst/>
            <a:ahLst/>
            <a:rect l="l" t="t" r="r" b="b"/>
            <a:pathLst>
              <a:path w="2139" h="1029">
                <a:moveTo>
                  <a:pt x="0" y="21"/>
                </a:moveTo>
                <a:lnTo>
                  <a:pt x="772" y="1029"/>
                </a:lnTo>
                <a:lnTo>
                  <a:pt x="2139" y="0"/>
                </a:lnTo>
                <a:lnTo>
                  <a:pt x="800" y="17"/>
                </a:lnTo>
                <a:lnTo>
                  <a:pt x="8" y="31"/>
                </a:lnTo>
              </a:path>
            </a:pathLst>
          </a:custGeom>
          <a:blipFill rotWithShape="0">
            <a:blip r:embed="rId1"/>
            <a:srcRect/>
            <a:stretch/>
          </a:blipFill>
          <a:ln w="5724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5"/>
          <p:cNvSpPr/>
          <p:nvPr/>
        </p:nvSpPr>
        <p:spPr>
          <a:xfrm>
            <a:off x="2627280" y="620640"/>
            <a:ext cx="2016000" cy="2735280"/>
          </a:xfrm>
          <a:custGeom>
            <a:avLst/>
            <a:gdLst>
              <a:gd name="textAreaLeft" fmla="*/ 0 w 2016000"/>
              <a:gd name="textAreaRight" fmla="*/ 2016000 w 2016000"/>
              <a:gd name="textAreaTop" fmla="*/ 0 h 2735280"/>
              <a:gd name="textAreaBottom" fmla="*/ 2735640 h 2735280"/>
            </a:gdLst>
            <a:ahLst/>
            <a:rect l="textAreaLeft" t="textAreaTop" r="textAreaRight" b="textAreaBottom"/>
            <a:pathLst>
              <a:path w="1270" h="1723">
                <a:moveTo>
                  <a:pt x="1270" y="1723"/>
                </a:moveTo>
                <a:lnTo>
                  <a:pt x="0" y="1723"/>
                </a:lnTo>
                <a:lnTo>
                  <a:pt x="0" y="0"/>
                </a:lnTo>
                <a:lnTo>
                  <a:pt x="1251" y="1718"/>
                </a:lnTo>
              </a:path>
            </a:pathLst>
          </a:custGeom>
          <a:blipFill rotWithShape="0">
            <a:blip r:embed="rId2"/>
            <a:srcRect/>
            <a:stretch/>
          </a:blip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4"/>
          <p:cNvSpPr/>
          <p:nvPr/>
        </p:nvSpPr>
        <p:spPr>
          <a:xfrm flipV="1">
            <a:off x="2629080" y="214200"/>
            <a:ext cx="14040" cy="408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8"/>
          <p:cNvSpPr/>
          <p:nvPr/>
        </p:nvSpPr>
        <p:spPr>
          <a:xfrm>
            <a:off x="7929720" y="3286080"/>
            <a:ext cx="571320" cy="1800"/>
          </a:xfrm>
          <a:prstGeom prst="line">
            <a:avLst/>
          </a:prstGeom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Дуга 9"/>
          <p:cNvSpPr/>
          <p:nvPr/>
        </p:nvSpPr>
        <p:spPr>
          <a:xfrm rot="1805400">
            <a:off x="2260080" y="240840"/>
            <a:ext cx="642960" cy="928800"/>
          </a:xfrm>
          <a:custGeom>
            <a:avLst/>
            <a:gdLst/>
            <a:ahLst/>
            <a:rect l="l" t="t" r="r" b="b"/>
            <a:pathLst>
              <a:path stroke="0" w="642938" h="928688">
                <a:moveTo>
                  <a:pt x="160738" y="62207"/>
                </a:moveTo>
                <a:cubicBezTo>
                  <a:pt x="285605" y="-41922"/>
                  <a:pt x="443196" y="-13226"/>
                  <a:pt x="546265" y="132408"/>
                </a:cubicBezTo>
                <a:cubicBezTo>
                  <a:pt x="608090" y="219765"/>
                  <a:pt x="642938" y="339420"/>
                  <a:pt x="642938" y="464344"/>
                </a:cubicBezTo>
                <a:lnTo>
                  <a:pt x="321469" y="464344"/>
                </a:lnTo>
                <a:lnTo>
                  <a:pt x="160738" y="62207"/>
                </a:lnTo>
                <a:close/>
              </a:path>
              <a:path fill="none" w="642938" h="928688">
                <a:moveTo>
                  <a:pt x="160738" y="62207"/>
                </a:moveTo>
                <a:cubicBezTo>
                  <a:pt x="285605" y="-41922"/>
                  <a:pt x="443196" y="-13226"/>
                  <a:pt x="546265" y="132408"/>
                </a:cubicBezTo>
                <a:cubicBezTo>
                  <a:pt x="608090" y="219765"/>
                  <a:pt x="642938" y="339420"/>
                  <a:pt x="642938" y="4643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Дуга 10"/>
          <p:cNvSpPr/>
          <p:nvPr/>
        </p:nvSpPr>
        <p:spPr>
          <a:xfrm rot="7804800">
            <a:off x="7598880" y="2866680"/>
            <a:ext cx="642960" cy="928800"/>
          </a:xfrm>
          <a:custGeom>
            <a:avLst/>
            <a:gdLst/>
            <a:ahLst/>
            <a:rect l="l" t="t" r="r" b="b"/>
            <a:pathLst>
              <a:path stroke="0" w="642938" h="928687">
                <a:moveTo>
                  <a:pt x="63244" y="187772"/>
                </a:moveTo>
                <a:cubicBezTo>
                  <a:pt x="163233" y="-7009"/>
                  <a:pt x="350148" y="-57862"/>
                  <a:pt x="492344" y="71030"/>
                </a:cubicBezTo>
                <a:cubicBezTo>
                  <a:pt x="586052" y="155971"/>
                  <a:pt x="642939" y="304544"/>
                  <a:pt x="642939" y="464344"/>
                </a:cubicBezTo>
                <a:lnTo>
                  <a:pt x="321469" y="464344"/>
                </a:lnTo>
                <a:lnTo>
                  <a:pt x="63244" y="187772"/>
                </a:lnTo>
                <a:close/>
              </a:path>
              <a:path fill="none" w="642938" h="928687">
                <a:moveTo>
                  <a:pt x="63244" y="187772"/>
                </a:moveTo>
                <a:cubicBezTo>
                  <a:pt x="163233" y="-7009"/>
                  <a:pt x="350148" y="-57862"/>
                  <a:pt x="492344" y="71030"/>
                </a:cubicBezTo>
                <a:cubicBezTo>
                  <a:pt x="586052" y="155971"/>
                  <a:pt x="642939" y="304544"/>
                  <a:pt x="642939" y="464344"/>
                </a:cubicBezTo>
              </a:path>
            </a:pathLst>
          </a:custGeom>
          <a:noFill/>
          <a:ln w="381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1"/>
          <p:cNvSpPr/>
          <p:nvPr/>
        </p:nvSpPr>
        <p:spPr>
          <a:xfrm>
            <a:off x="3002760" y="357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7931880" y="32860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3"/>
          <p:cNvSpPr/>
          <p:nvPr/>
        </p:nvSpPr>
        <p:spPr>
          <a:xfrm>
            <a:off x="2643120" y="3000240"/>
            <a:ext cx="357120" cy="357480"/>
          </a:xfrm>
          <a:prstGeom prst="rect">
            <a:avLst/>
          </a:prstGeom>
          <a:solidFill>
            <a:srgbClr val="d99694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4"/>
          <p:cNvSpPr/>
          <p:nvPr/>
        </p:nvSpPr>
        <p:spPr>
          <a:xfrm rot="2947200">
            <a:off x="5711400" y="4505040"/>
            <a:ext cx="357120" cy="344520"/>
          </a:xfrm>
          <a:prstGeom prst="rect">
            <a:avLst/>
          </a:prstGeom>
          <a:solidFill>
            <a:srgbClr val="e46c0a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SUPER043"/>
          <p:cNvPicPr/>
          <p:nvPr/>
        </p:nvPicPr>
        <p:blipFill>
          <a:blip r:embed="rId3"/>
          <a:stretch/>
        </p:blipFill>
        <p:spPr>
          <a:xfrm>
            <a:off x="7500960" y="3860640"/>
            <a:ext cx="1392120" cy="29973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6"/>
          <p:cNvSpPr/>
          <p:nvPr/>
        </p:nvSpPr>
        <p:spPr>
          <a:xfrm>
            <a:off x="2288160" y="36432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7"/>
          <p:cNvSpPr/>
          <p:nvPr/>
        </p:nvSpPr>
        <p:spPr>
          <a:xfrm>
            <a:off x="2145960" y="3571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8"/>
          <p:cNvSpPr/>
          <p:nvPr/>
        </p:nvSpPr>
        <p:spPr>
          <a:xfrm>
            <a:off x="4646880" y="27860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9"/>
          <p:cNvSpPr/>
          <p:nvPr/>
        </p:nvSpPr>
        <p:spPr>
          <a:xfrm>
            <a:off x="5574600" y="507204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0"/>
          <p:cNvSpPr/>
          <p:nvPr/>
        </p:nvSpPr>
        <p:spPr>
          <a:xfrm>
            <a:off x="7860240" y="2643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1"/>
          <p:cNvSpPr/>
          <p:nvPr/>
        </p:nvSpPr>
        <p:spPr>
          <a:xfrm>
            <a:off x="5361480" y="1071720"/>
            <a:ext cx="31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КАЗАТЬ: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=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3"/>
          <p:cNvSpPr/>
          <p:nvPr/>
        </p:nvSpPr>
        <p:spPr>
          <a:xfrm flipH="1">
            <a:off x="3569760" y="3214800"/>
            <a:ext cx="18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24"/>
          <p:cNvSpPr/>
          <p:nvPr/>
        </p:nvSpPr>
        <p:spPr>
          <a:xfrm flipH="1">
            <a:off x="5214600" y="4143240"/>
            <a:ext cx="21420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TextBox 28" descr=""/>
          <p:cNvPicPr/>
          <p:nvPr/>
        </p:nvPicPr>
        <p:blipFill>
          <a:blip r:embed="rId4"/>
          <a:stretch/>
        </p:blipFill>
        <p:spPr>
          <a:xfrm>
            <a:off x="523800" y="5114880"/>
            <a:ext cx="381024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reeform 2"/>
          <p:cNvSpPr/>
          <p:nvPr/>
        </p:nvSpPr>
        <p:spPr>
          <a:xfrm>
            <a:off x="1619280" y="1268280"/>
            <a:ext cx="5832360" cy="2952720"/>
          </a:xfrm>
          <a:custGeom>
            <a:avLst/>
            <a:gdLst/>
            <a:ahLst/>
            <a:rect l="l" t="t" r="r" b="b"/>
            <a:pathLst>
              <a:path w="3674" h="1860">
                <a:moveTo>
                  <a:pt x="0" y="1860"/>
                </a:moveTo>
                <a:lnTo>
                  <a:pt x="3674" y="1860"/>
                </a:lnTo>
                <a:lnTo>
                  <a:pt x="1860" y="0"/>
                </a:lnTo>
                <a:lnTo>
                  <a:pt x="0" y="1860"/>
                </a:lnTo>
                <a:close/>
              </a:path>
            </a:pathLst>
          </a:custGeom>
          <a:solidFill>
            <a:srgbClr val="f2dcdb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"/>
          <p:cNvSpPr/>
          <p:nvPr/>
        </p:nvSpPr>
        <p:spPr>
          <a:xfrm flipH="1">
            <a:off x="4572000" y="1214280"/>
            <a:ext cx="1440" cy="300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7"/>
          <p:cNvSpPr/>
          <p:nvPr/>
        </p:nvSpPr>
        <p:spPr>
          <a:xfrm flipH="1">
            <a:off x="4572000" y="2714760"/>
            <a:ext cx="1357200" cy="150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9"/>
          <p:cNvSpPr/>
          <p:nvPr/>
        </p:nvSpPr>
        <p:spPr>
          <a:xfrm>
            <a:off x="3214800" y="2643120"/>
            <a:ext cx="1357200" cy="157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4"/>
          <p:cNvSpPr/>
          <p:nvPr/>
        </p:nvSpPr>
        <p:spPr>
          <a:xfrm rot="19226400">
            <a:off x="3057480" y="2711160"/>
            <a:ext cx="320760" cy="295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5"/>
          <p:cNvSpPr/>
          <p:nvPr/>
        </p:nvSpPr>
        <p:spPr>
          <a:xfrm flipV="1" rot="18712200">
            <a:off x="5767560" y="2777040"/>
            <a:ext cx="304560" cy="30168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17"/>
          <p:cNvSpPr/>
          <p:nvPr/>
        </p:nvSpPr>
        <p:spPr>
          <a:xfrm>
            <a:off x="2214000" y="3357720"/>
            <a:ext cx="214200" cy="21420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9"/>
          <p:cNvSpPr/>
          <p:nvPr/>
        </p:nvSpPr>
        <p:spPr>
          <a:xfrm flipH="1">
            <a:off x="4570560" y="1285920"/>
            <a:ext cx="2880" cy="285912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20"/>
          <p:cNvSpPr/>
          <p:nvPr/>
        </p:nvSpPr>
        <p:spPr>
          <a:xfrm>
            <a:off x="2285280" y="3286080"/>
            <a:ext cx="214200" cy="21420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21"/>
          <p:cNvSpPr/>
          <p:nvPr/>
        </p:nvSpPr>
        <p:spPr>
          <a:xfrm>
            <a:off x="3643200" y="1928880"/>
            <a:ext cx="214560" cy="21420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22"/>
          <p:cNvSpPr/>
          <p:nvPr/>
        </p:nvSpPr>
        <p:spPr>
          <a:xfrm flipH="1">
            <a:off x="5428800" y="2143080"/>
            <a:ext cx="142920" cy="14292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23"/>
          <p:cNvSpPr/>
          <p:nvPr/>
        </p:nvSpPr>
        <p:spPr>
          <a:xfrm flipH="1">
            <a:off x="6643440" y="3357720"/>
            <a:ext cx="142920" cy="21420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24"/>
          <p:cNvSpPr/>
          <p:nvPr/>
        </p:nvSpPr>
        <p:spPr>
          <a:xfrm flipH="1">
            <a:off x="6714720" y="3357720"/>
            <a:ext cx="214200" cy="28548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5"/>
          <p:cNvSpPr/>
          <p:nvPr/>
        </p:nvSpPr>
        <p:spPr>
          <a:xfrm>
            <a:off x="1285920" y="42861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9"/>
          <p:cNvSpPr/>
          <p:nvPr/>
        </p:nvSpPr>
        <p:spPr>
          <a:xfrm>
            <a:off x="4361040" y="43578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0"/>
          <p:cNvSpPr/>
          <p:nvPr/>
        </p:nvSpPr>
        <p:spPr>
          <a:xfrm>
            <a:off x="7574760" y="414324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1"/>
          <p:cNvSpPr/>
          <p:nvPr/>
        </p:nvSpPr>
        <p:spPr>
          <a:xfrm>
            <a:off x="6003000" y="2143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2"/>
          <p:cNvSpPr/>
          <p:nvPr/>
        </p:nvSpPr>
        <p:spPr>
          <a:xfrm>
            <a:off x="4360320" y="7858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3"/>
          <p:cNvSpPr/>
          <p:nvPr/>
        </p:nvSpPr>
        <p:spPr>
          <a:xfrm>
            <a:off x="2788920" y="21430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4"/>
          <p:cNvSpPr/>
          <p:nvPr/>
        </p:nvSpPr>
        <p:spPr>
          <a:xfrm>
            <a:off x="1955160" y="5143680"/>
            <a:ext cx="57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пределите равные тре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1638360" y="1071720"/>
            <a:ext cx="646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одготовке данного урока был использована следу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.С.Атанасян «Геометрия, 7-9: Учеб. для общеобразов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реждений. – М.: Просвещение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же следующие сай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it-n/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ovet.org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zavuch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7:46:10Z</dcterms:created>
  <dc:creator>Елена</dc:creator>
  <dc:description/>
  <dc:language>en-US</dc:language>
  <cp:lastModifiedBy>Ирина</cp:lastModifiedBy>
  <dcterms:modified xsi:type="dcterms:W3CDTF">2015-02-27T16:51:03Z</dcterms:modified>
  <cp:revision>39</cp:revision>
  <dc:subject/>
  <dc:title>Слайд 1</dc:title>
</cp:coreProperties>
</file>