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E878-B5EA-4E0F-A079-FF9C60C90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4244-85EB-48B5-B0CC-1956F2A191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002-7FC0-45F2-8102-0C0D9E76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414-AE0B-48FB-8245-3CDCA7D3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D95-F0DA-431F-BD4F-3A5D318A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9C5-87C0-445C-9FBE-35944892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4F4-C96F-4A7A-917A-31228BEC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EE5-8176-41EA-8C44-65768C49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5EF-E83D-4BB3-BFB1-FB3732C9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9C3-2786-4BB0-AFC4-10F94513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F4A-AD39-490A-AEB4-F9F461EF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F79-B365-4F96-B652-4AB998BB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3F1-3690-41C9-B13D-D2F87874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42D-E681-4B54-8BC5-A06612C1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C045-E43E-45C6-9CE8-61A4364AD3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image" Target="../media/image4.gif"/><Relationship Id="rId8" Type="http://schemas.openxmlformats.org/officeDocument/2006/relationships/slide" Target="slide13.xml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" Target="slide21.xml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6.gif"/><Relationship Id="rId2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Group 70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84" name="Line 7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7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7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74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88" name="Line 75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Text Box 78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79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80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81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82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83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Group 84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98" name="Line 8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Group 87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01" name="Line 88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Line 89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3" name="Picture 90" descr="cif3[1]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91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92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93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94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9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96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10" name="Rectangle 97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Object 98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Text Box 99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Arc 100"/>
          <p:cNvSpPr/>
          <p:nvPr/>
        </p:nvSpPr>
        <p:spPr>
          <a:xfrm flipH="1" flipV="1" rot="17826000">
            <a:off x="794880" y="185544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rc 101"/>
          <p:cNvSpPr/>
          <p:nvPr/>
        </p:nvSpPr>
        <p:spPr>
          <a:xfrm flipH="1" flipV="1" rot="17826000">
            <a:off x="2701440" y="184752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04"/>
          <p:cNvGrpSpPr/>
          <p:nvPr/>
        </p:nvGrpSpPr>
        <p:grpSpPr>
          <a:xfrm>
            <a:off x="3636360" y="3432240"/>
            <a:ext cx="279720" cy="211320"/>
            <a:chOff x="3636360" y="3432240"/>
            <a:chExt cx="279720" cy="211320"/>
          </a:xfrm>
        </p:grpSpPr>
        <p:sp>
          <p:nvSpPr>
            <p:cNvPr id="316" name="Arc 102"/>
            <p:cNvSpPr/>
            <p:nvPr/>
          </p:nvSpPr>
          <p:spPr>
            <a:xfrm flipH="1" flipV="1" rot="4138800">
              <a:off x="3735720" y="3463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Arc 103"/>
            <p:cNvSpPr/>
            <p:nvPr/>
          </p:nvSpPr>
          <p:spPr>
            <a:xfrm flipH="1" flipV="1" rot="4138800">
              <a:off x="3656880" y="3456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Group 105"/>
          <p:cNvGrpSpPr/>
          <p:nvPr/>
        </p:nvGrpSpPr>
        <p:grpSpPr>
          <a:xfrm>
            <a:off x="1737720" y="3459240"/>
            <a:ext cx="279720" cy="211320"/>
            <a:chOff x="1737720" y="3459240"/>
            <a:chExt cx="279720" cy="211320"/>
          </a:xfrm>
        </p:grpSpPr>
        <p:sp>
          <p:nvSpPr>
            <p:cNvPr id="319" name="Arc 106"/>
            <p:cNvSpPr/>
            <p:nvPr/>
          </p:nvSpPr>
          <p:spPr>
            <a:xfrm flipH="1" flipV="1" rot="4138800">
              <a:off x="1837080" y="3490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Arc 107"/>
            <p:cNvSpPr/>
            <p:nvPr/>
          </p:nvSpPr>
          <p:spPr>
            <a:xfrm flipH="1" flipV="1" rot="4138800">
              <a:off x="1758240" y="3483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Group 112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22" name="Rectangle 110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111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Group 117"/>
          <p:cNvGrpSpPr/>
          <p:nvPr/>
        </p:nvGrpSpPr>
        <p:grpSpPr>
          <a:xfrm>
            <a:off x="776160" y="1477800"/>
            <a:ext cx="3203640" cy="2184480"/>
            <a:chOff x="776160" y="1477800"/>
            <a:chExt cx="3203640" cy="2184480"/>
          </a:xfrm>
        </p:grpSpPr>
        <p:grpSp>
          <p:nvGrpSpPr>
            <p:cNvPr id="325" name="Group 116"/>
            <p:cNvGrpSpPr/>
            <p:nvPr/>
          </p:nvGrpSpPr>
          <p:grpSpPr>
            <a:xfrm>
              <a:off x="2682000" y="1482480"/>
              <a:ext cx="1297800" cy="2179800"/>
              <a:chOff x="2682000" y="1482480"/>
              <a:chExt cx="1297800" cy="2179800"/>
            </a:xfrm>
          </p:grpSpPr>
          <p:sp>
            <p:nvSpPr>
              <p:cNvPr id="326" name="Arc 109"/>
              <p:cNvSpPr/>
              <p:nvPr/>
            </p:nvSpPr>
            <p:spPr>
              <a:xfrm flipH="1" flipV="1" rot="17826000">
                <a:off x="2698200" y="186336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Line 113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115"/>
            <p:cNvGrpSpPr/>
            <p:nvPr/>
          </p:nvGrpSpPr>
          <p:grpSpPr>
            <a:xfrm>
              <a:off x="776160" y="1477800"/>
              <a:ext cx="1287360" cy="2179800"/>
              <a:chOff x="776160" y="1477800"/>
              <a:chExt cx="1287360" cy="2179800"/>
            </a:xfrm>
          </p:grpSpPr>
          <p:sp>
            <p:nvSpPr>
              <p:cNvPr id="329" name="Line 108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Arc 114"/>
              <p:cNvSpPr/>
              <p:nvPr/>
            </p:nvSpPr>
            <p:spPr>
              <a:xfrm flipH="1" flipV="1" rot="17826000">
                <a:off x="798120" y="186480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34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13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38" name="Line 14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15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16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Text Box 17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48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51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3" name="Picture 29" descr="cif4[1]"/>
          <p:cNvPicPr/>
          <p:nvPr/>
        </p:nvPicPr>
        <p:blipFill>
          <a:blip r:embed="rId2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33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38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59" name="Rectangle 35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Text Box 37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Group 39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62" name="Line 40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41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42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Text Box 43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45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49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369" name="Line 50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51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372" name="Line 53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54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Line 55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57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59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Arc 61"/>
          <p:cNvSpPr/>
          <p:nvPr/>
        </p:nvSpPr>
        <p:spPr>
          <a:xfrm flipH="1" rot="11792400">
            <a:off x="2682360" y="1948680"/>
            <a:ext cx="277920" cy="26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Group 64"/>
          <p:cNvGrpSpPr/>
          <p:nvPr/>
        </p:nvGrpSpPr>
        <p:grpSpPr>
          <a:xfrm>
            <a:off x="3474720" y="3390840"/>
            <a:ext cx="299880" cy="266760"/>
            <a:chOff x="3474720" y="3390840"/>
            <a:chExt cx="299880" cy="266760"/>
          </a:xfrm>
        </p:grpSpPr>
        <p:sp>
          <p:nvSpPr>
            <p:cNvPr id="381" name="Arc 60"/>
            <p:cNvSpPr/>
            <p:nvPr/>
          </p:nvSpPr>
          <p:spPr>
            <a:xfrm flipH="1">
              <a:off x="3474360" y="3392280"/>
              <a:ext cx="277560" cy="265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Arc 62"/>
            <p:cNvSpPr/>
            <p:nvPr/>
          </p:nvSpPr>
          <p:spPr>
            <a:xfrm flipH="1">
              <a:off x="3614040" y="3390840"/>
              <a:ext cx="16020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Text Box 65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87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391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399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404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407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15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8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19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424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31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36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7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38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44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52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58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470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72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8"/>
          <p:cNvGrpSpPr/>
          <p:nvPr/>
        </p:nvGrpSpPr>
        <p:grpSpPr>
          <a:xfrm>
            <a:off x="800280" y="1806480"/>
            <a:ext cx="7907040" cy="2035440"/>
            <a:chOff x="800280" y="1806480"/>
            <a:chExt cx="7907040" cy="2035440"/>
          </a:xfrm>
        </p:grpSpPr>
        <p:sp>
          <p:nvSpPr>
            <p:cNvPr id="487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Rectangle 7"/>
            <p:cNvSpPr/>
            <p:nvPr/>
          </p:nvSpPr>
          <p:spPr>
            <a:xfrm>
              <a:off x="2314440" y="2600280"/>
              <a:ext cx="34290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" name="Picture 9" descr="124"/>
          <p:cNvPicPr/>
          <p:nvPr/>
        </p:nvPicPr>
        <p:blipFill>
          <a:blip r:embed="rId1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12a"/>
          <p:cNvPicPr/>
          <p:nvPr/>
        </p:nvPicPr>
        <p:blipFill>
          <a:blip r:embed="rId2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099[1]"/>
          <p:cNvPicPr/>
          <p:nvPr/>
        </p:nvPicPr>
        <p:blipFill>
          <a:blip r:embed="rId3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4"/>
          <p:cNvSpPr/>
          <p:nvPr/>
        </p:nvSpPr>
        <p:spPr>
          <a:xfrm>
            <a:off x="2438280" y="41148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AutoShape 16"/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AutoShape 12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5" name="Picture 13" descr="book[1]"/>
          <p:cNvPicPr/>
          <p:nvPr/>
        </p:nvPicPr>
        <p:blipFill>
          <a:blip r:embed="rId2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0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11" descr="01"/>
          <p:cNvPicPr/>
          <p:nvPr/>
        </p:nvPicPr>
        <p:blipFill>
          <a:blip r:embed="rId7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2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Group 25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70" name="Group 15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71" name="Picture 13" descr="07[2]"/>
              <p:cNvPicPr/>
              <p:nvPr/>
            </p:nvPicPr>
            <p:blipFill>
              <a:blip r:embed="rId9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14" descr="07[2]"/>
              <p:cNvPicPr/>
              <p:nvPr/>
            </p:nvPicPr>
            <p:blipFill>
              <a:blip r:embed="rId10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" name="Group 16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74" name="Picture 17" descr="07[2]"/>
              <p:cNvPicPr/>
              <p:nvPr/>
            </p:nvPicPr>
            <p:blipFill>
              <a:blip r:embed="rId11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18" descr="07[2]"/>
              <p:cNvPicPr/>
              <p:nvPr/>
            </p:nvPicPr>
            <p:blipFill>
              <a:blip r:embed="rId12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19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77" name="Picture 20" descr="07[2]"/>
              <p:cNvPicPr/>
              <p:nvPr/>
            </p:nvPicPr>
            <p:blipFill>
              <a:blip r:embed="rId13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21" descr="07[2]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Group 22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80" name="Picture 23" descr="07[2]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24" descr="07[2]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Text Box 26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7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7" descr="07[3]"/>
          <p:cNvPicPr/>
          <p:nvPr/>
        </p:nvPicPr>
        <p:blipFill>
          <a:blip r:embed="rId18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13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Picture 14" descr="roman_speaker[1]"/>
          <p:cNvPicPr/>
          <p:nvPr/>
        </p:nvPicPr>
        <p:blipFill>
          <a:blip r:embed="rId3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AutoShape 4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17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18" name="Picture 21" descr="geo7b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21" name="Picture 7" descr="http://www.bymath.net/studyguide/geo/sec/geo7a.gif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Picture 31" descr="r1[1]"/>
          <p:cNvPicPr/>
          <p:nvPr/>
        </p:nvPicPr>
        <p:blipFill>
          <a:blip r:embed="rId3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7" descr="mangoodpoint[1]"/>
          <p:cNvPicPr/>
          <p:nvPr/>
        </p:nvPicPr>
        <p:blipFill>
          <a:blip r:embed="rId1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30[1]"/>
          <p:cNvPicPr/>
          <p:nvPr/>
        </p:nvPicPr>
        <p:blipFill>
          <a:blip r:embed="rId2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30[1]"/>
          <p:cNvPicPr/>
          <p:nvPr/>
        </p:nvPicPr>
        <p:blipFill>
          <a:blip r:embed="rId3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33" name="Picture 14" descr="ani-lights-left-29x120[1]"/>
            <p:cNvPicPr/>
            <p:nvPr/>
          </p:nvPicPr>
          <p:blipFill>
            <a:blip r:embed="rId1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4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35" name="Picture 15" descr="ani-lights-left-29x120[1]"/>
              <p:cNvPicPr/>
              <p:nvPr/>
            </p:nvPicPr>
            <p:blipFill>
              <a:blip r:embed="rId2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Picture 16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Picture 17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8" name="Picture 19" descr="ani-lights-left-29x120[1]"/>
            <p:cNvPicPr/>
            <p:nvPr/>
          </p:nvPicPr>
          <p:blipFill>
            <a:blip r:embed="rId5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40" name="Picture 24" descr="ani-lights-left-29x120[1]"/>
            <p:cNvPicPr/>
            <p:nvPr/>
          </p:nvPicPr>
          <p:blipFill>
            <a:blip r:embed="rId6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42" name="Picture 26" descr="ani-lights-left-29x120[1]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Picture 27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Picture 28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5" name="Picture 29" descr="ani-lights-left-29x120[1]"/>
            <p:cNvPicPr/>
            <p:nvPr/>
          </p:nvPicPr>
          <p:blipFill>
            <a:blip r:embed="rId10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6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47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48" name="Picture 20" descr="ani-lights-left-29x120[1]"/>
              <p:cNvPicPr/>
              <p:nvPr/>
            </p:nvPicPr>
            <p:blipFill>
              <a:blip r:embed="rId11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Picture 21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0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51" name="Picture 32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Picture 33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3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54" name="Picture 35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Picture 36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56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57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58" name="Picture 40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41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0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61" name="Picture 43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44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3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64" name="Picture 46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47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66" name="Picture 50" descr="mangoodpoint[1]"/>
          <p:cNvPicPr/>
          <p:nvPr/>
        </p:nvPicPr>
        <p:blipFill>
          <a:blip r:embed="rId23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5715720" y="57150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11" descr="angel147[1]"/>
          <p:cNvPicPr/>
          <p:nvPr/>
        </p:nvPicPr>
        <p:blipFill>
          <a:blip r:embed="rId1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570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571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572" name="Picture 17" descr="16"/>
              <p:cNvPicPr/>
              <p:nvPr/>
            </p:nvPicPr>
            <p:blipFill>
              <a:blip r:embed="rId2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Picture 18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4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575" name="Picture 21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Picture 22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7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578" name="Picture 24" descr="16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Picture 25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0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581" name="Picture 27" descr="16"/>
              <p:cNvPicPr/>
              <p:nvPr/>
            </p:nvPicPr>
            <p:blipFill>
              <a:blip r:embed="rId8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Picture 28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10">
            <a:hlinkClick r:id="rId3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5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4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17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20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23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42" name="Text Box 9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14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Group 19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53" name="Text Box 15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Group 14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63" name="Line 1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15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167" name="Line 16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177" name="Line 2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180" name="Line 29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30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Line 31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32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Group 36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185" name="Line 34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Line 35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188" name="Line 38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39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84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191" name="Rectangle 83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Text Box 41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3" name="Picture 43" descr="cif1[1]"/>
          <p:cNvPicPr/>
          <p:nvPr/>
        </p:nvPicPr>
        <p:blipFill>
          <a:blip r:embed="rId2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58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197" name="Line 48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49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199" name="Line 50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51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57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02" name="Line 47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Line 52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53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5" name="Group 54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06" name="Line 55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56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8" name="Group 59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09" name="Line 60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Group 61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11" name="Line 62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Line 63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64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14" name="Line 65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66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67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Group 68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18" name="Line 69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70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" name="Group 71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21" name="Line 72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73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23" name="Line 74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Line 75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76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26" name="Line 77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Line 78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Line 79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Group 80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30" name="Line 81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Line 82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35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13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39" name="Line 14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Text Box 17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49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52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4" name="Picture 29" descr="cif2[1]"/>
          <p:cNvPicPr/>
          <p:nvPr/>
        </p:nvPicPr>
        <p:blipFill>
          <a:blip r:embed="rId2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Group 39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62" name="Rectangle 36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Object 34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4" name="Text Box 38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Rectangle 40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42"/>
          <p:cNvSpPr/>
          <p:nvPr/>
        </p:nvSpPr>
        <p:spPr>
          <a:xfrm rot="6490800">
            <a:off x="774360" y="1909440"/>
            <a:ext cx="23472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rc 48"/>
          <p:cNvSpPr/>
          <p:nvPr/>
        </p:nvSpPr>
        <p:spPr>
          <a:xfrm rot="6490800">
            <a:off x="2704680" y="1917360"/>
            <a:ext cx="23508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Group 60"/>
          <p:cNvGrpSpPr/>
          <p:nvPr/>
        </p:nvGrpSpPr>
        <p:grpSpPr>
          <a:xfrm>
            <a:off x="746280" y="1467000"/>
            <a:ext cx="2213640" cy="2214360"/>
            <a:chOff x="746280" y="1467000"/>
            <a:chExt cx="2213640" cy="2214360"/>
          </a:xfrm>
        </p:grpSpPr>
        <p:grpSp>
          <p:nvGrpSpPr>
            <p:cNvPr id="269" name="Group 53"/>
            <p:cNvGrpSpPr/>
            <p:nvPr/>
          </p:nvGrpSpPr>
          <p:grpSpPr>
            <a:xfrm>
              <a:off x="746280" y="1467000"/>
              <a:ext cx="305640" cy="2195280"/>
              <a:chOff x="746280" y="1467000"/>
              <a:chExt cx="305640" cy="2195280"/>
            </a:xfrm>
          </p:grpSpPr>
          <p:sp>
            <p:nvSpPr>
              <p:cNvPr id="270" name="Line 41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Arc 49"/>
              <p:cNvSpPr/>
              <p:nvPr/>
            </p:nvSpPr>
            <p:spPr>
              <a:xfrm rot="6490800">
                <a:off x="793440" y="189540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Group 50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273" name="Line 51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52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5" name="Group 54"/>
            <p:cNvGrpSpPr/>
            <p:nvPr/>
          </p:nvGrpSpPr>
          <p:grpSpPr>
            <a:xfrm>
              <a:off x="2654280" y="1486080"/>
              <a:ext cx="305640" cy="2195280"/>
              <a:chOff x="2654280" y="1486080"/>
              <a:chExt cx="305640" cy="2195280"/>
            </a:xfrm>
          </p:grpSpPr>
          <p:sp>
            <p:nvSpPr>
              <p:cNvPr id="276" name="Line 55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rc 56"/>
              <p:cNvSpPr/>
              <p:nvPr/>
            </p:nvSpPr>
            <p:spPr>
              <a:xfrm rot="6490800">
                <a:off x="2701440" y="191448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Group 57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279" name="Line 58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59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5-02-27T16:41:50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