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9AB-6FE2-484E-A211-978CADF1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EF4-2A10-45A1-BBBE-19D5E7D0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4C7-4521-419E-B06C-698425DE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DFC-B604-4541-8352-36991E05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808A-7A2F-459F-A99F-CDAD0564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0F54-8820-4556-A6C2-39066D34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1A7C-463E-448D-A09A-D64888C7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8819-5523-4E96-AC86-1478469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970F-C83D-4829-BBBF-E6E48356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3CA6-FDB9-4DD2-8FB6-C02E6787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B3E4-72CE-4F97-B57A-895D3A5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E98-0F7E-4039-8044-2C0671EF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3E11-AAE5-4754-90E0-535C3CD7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5825-6301-471F-9648-44BFB3BB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6F15-A977-4159-A69C-91DE8D71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1AF4-98BE-41C2-B410-F8F1D62C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38AB-CDE2-43AE-830E-4105B68E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715-4ECE-4859-AE53-3540E1B7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D50-32E1-4B32-807E-96857E81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C9D-3202-495E-9222-7A35A392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3CB-47E1-4ED9-B712-EF7FAB92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DE5-B518-40ED-8FE0-ADF4C9B0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DCF-0EC2-467D-A623-0AED8266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1C5-F3F4-4F50-9323-003A3395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7AF1-3186-4999-9F4D-291C8A9726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FB7-4EE0-4B29-9DA9-002FB563C7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иды детских травм  и неотложных состояний в детском саду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часть 2)</a:t>
            </a:r>
            <a:br>
              <a:rPr sz="3200"/>
            </a:b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казание первой доврачебной помощи.</a:t>
            </a:r>
            <a:br>
              <a:rPr sz="2800"/>
            </a:b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(отек Квин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967120" y="171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47640" y="620280"/>
            <a:ext cx="66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БЕЗОПАСНОСТИ ЖИЗНЕДЕЯТЕЛЬНОСТИ ДЕТЕЙ В ДОШКОЛЬНЫХ ОРГАНИЗАЦИЯХ В СООТВЕТСТВИИ С ТРЕБО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ОС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ани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еаним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осстановление жизнедеятельности организма с помощью комплекса различных мероприятий (re - повторение, animatio- оживл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нимация возможна потому, что, прежде, чем окончательно прекратится жизнедеятельность организма, он проходит через стадию, которая называется «терминальное состоян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рминальное состоя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остояние, пограничное между жизнью и смертью или, скорее, состояние перехода от жизни к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терминальным состояниям относятся: преагония, терминальная пауза, агония, клиническая смерть, а также начальные стадии послереанимационного пери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25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иническая смерть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роявления жизнедеятельности исчезают (дыхание, кровообращение). Но необратимых изменений в тканях еще нет. Продолжительность клинической смерт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-6 мину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этот период возможно восстановление жизне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терминальные состояния обрати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всех стадиях умирания возможно ожи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42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ая помощь</a:t>
            </a: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22268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очное выполнение лечебно-профилактических мероприятий, необходимых при несчастных случаях и внезапных заболеваниях, меры срочной помощи раненым или больным людям, предпринимаемые до прибытия врача или до помещения больного в боль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ч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медицинской помощи состоит в том, чтобы путем проведения простейших мероприятий спасти жизнь пострадавшему, уменьшить его страдания, предупредить развития возможных осложнений, облегчить тяжесть учения травмы или заболе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оказания первой помощи - это простые и необходимые каждому знания, которые помогут произвести немедленную помощь пострадавшим. Важность фактора времени обусловлена тем, что среди лиц, получивших первую медицинскую помощь в течение 30 минут после травмы, осложнения возникают в 2 раза реже, чем у лиц, которым этот вид помощи был оказан поз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Укусы пчел, ос и шершн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ервая медицинская помощ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ить жало в первые минуты после ук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жить холод на место ук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аличии аллергической чувствительности к продуктам пчеловодства или ядам ос (и др.) – дать пострадавшему 1-2 таблетки антигистаминного средства (димедрол, супрастин, тавигил, диазолин и др.) и доставить в лечебное учре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ек Квинке</a:t>
            </a: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лергическое заболевание, протекающее с нарушением  дых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чина нарушения дыхания при отеке  Квинке</a:t>
            </a:r>
            <a:br>
              <a:rPr sz="3200"/>
            </a:b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жение просвета дыхательных путей из-за аллергического 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явления отека Квин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ек и покраснение кожных покровов лица и ш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ышка, удуш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жный з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ыпь на коже в виде волдырей (крапивниц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явления отека Кви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F:\Ф-ка ФГОС 16.09.13\курсы ФК ФГОС\загруженное.jpg"/>
          <p:cNvPicPr/>
          <p:nvPr/>
        </p:nvPicPr>
        <p:blipFill>
          <a:blip r:embed="rId1"/>
          <a:stretch/>
        </p:blipFill>
        <p:spPr>
          <a:xfrm>
            <a:off x="250920" y="1700280"/>
            <a:ext cx="2881080" cy="352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F:\Ф-ка ФГОС 16.09.13\курсы ФК ФГОС\загруженное (1).jpg"/>
          <p:cNvPicPr/>
          <p:nvPr/>
        </p:nvPicPr>
        <p:blipFill>
          <a:blip r:embed="rId2"/>
          <a:stretch/>
        </p:blipFill>
        <p:spPr>
          <a:xfrm>
            <a:off x="3203640" y="1700280"/>
            <a:ext cx="2592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F:\Ф-ка ФГОС 16.09.13\курсы ФК ФГОС\1290634055_krapivnica.jpg"/>
          <p:cNvPicPr/>
          <p:nvPr/>
        </p:nvPicPr>
        <p:blipFill>
          <a:blip r:embed="rId3"/>
          <a:stretch/>
        </p:blipFill>
        <p:spPr>
          <a:xfrm>
            <a:off x="6012000" y="1700280"/>
            <a:ext cx="2808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вая помощь при отеке Кви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звать скорую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ть приток свежего воздух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егнуть давящую одеж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дать положение полусид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дать стабильное       боковое полож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тере созн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ать за сознанием, пульсом, дых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 готовым к проведению сердечно- легочной реаним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ранспортное положени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ебенка с отеком Квинк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больной в сознан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полусидя"/>
          <p:cNvPicPr/>
          <p:nvPr/>
        </p:nvPicPr>
        <p:blipFill>
          <a:blip r:embed="rId1"/>
          <a:stretch/>
        </p:blipFill>
        <p:spPr>
          <a:xfrm>
            <a:off x="1763640" y="1773360"/>
            <a:ext cx="5545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незапная смер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рть, наступившая внезапно или не позже 1 часа от начала сердечного приступа в присутствии свиде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изна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еря созн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пульса на сонных артер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хание неспокойное, шумное, частое, затем прекращае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ачки расшир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т отмечаться однократные тонические су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5:41:46Z</dcterms:created>
  <dc:creator>Петий, Гурдина, Катаев</dc:creator>
  <dc:description/>
  <dc:language>en-US</dc:language>
  <cp:lastModifiedBy>.</cp:lastModifiedBy>
  <dcterms:modified xsi:type="dcterms:W3CDTF">2015-01-02T16:36:09Z</dcterms:modified>
  <cp:revision>322</cp:revision>
  <dc:subject/>
  <dc:title> О. кровопотеря. Шок.</dc:title>
</cp:coreProperties>
</file>