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6F6-C0D8-4015-A382-CE941FE6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464-9AA6-4C4C-8A42-B90B615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69C-604B-4D1E-9466-35451866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0B0-450D-4B0A-B538-9E204B39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5609-FB2D-4F6C-92E2-B3230A5C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4B94-1D62-41BD-A5C1-A9CBEE8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1EA0-5224-44E5-B65E-611A5EDD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B47-8571-4EF3-9B2B-5871C281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078-2D68-48D1-A78D-C41E108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18D5-AA1C-4825-8E06-C774CC3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AE2E-F979-4CF6-858A-22D1A8C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D2B-4C39-4623-B182-A9523CD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F045-3157-44DA-872D-E0CD968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1E67-A53F-41B8-9DE2-A5F83D4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DF4-849A-435E-BB3B-FF46477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F58-C9B5-4297-88F9-26D99025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DAB6-7EF5-49AD-98FA-A1571153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3AAC-744A-4A6B-9DCA-273ED0D6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5B2A-D07B-4127-AF75-AD13942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DF02-DF83-4DB2-A967-8E8300C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A35E-9E29-477F-90C3-5B9AB646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BC74-10A3-4B31-982D-83F94535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579-1340-4ED2-94FA-761E596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4360-945D-4987-B89E-E8FCD1BD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F627-455A-4E21-8DD7-B019201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4019-271C-4D46-857A-A1D3451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4C48-1F95-4CE4-B9C4-56227F2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1749-D023-424C-917C-B0A69A86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EBF6-EB9C-4420-9B78-4098A0EB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237A-47EE-4971-ABE8-D172346A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4F61-E22B-43F6-8B90-8AE009B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A8D6-1532-4DA2-8420-48C6AF4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9BD0-E15A-4D85-88F8-6F69F4DD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1D1-06FC-47BD-B6AA-EA8C51DE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9B11-99DF-4A8D-96F6-A8395F92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D8F8-8209-4BFE-AE1A-A68B948D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9FA5-5DFC-4AEA-A2AA-28223D9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AD73-3107-4EE5-9FAB-2269144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236B-99BB-4702-A6D9-888CE4E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317B-7F2C-41E4-BEB6-8F9A768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8F1F-8527-4207-AFFD-0AD5B984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1DDC-78D8-4A1F-A036-59327A3C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6AD6-0BB2-46FF-A326-B10727AE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A3EE-B982-4932-B6E9-271BF752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7B7-AD1F-445B-9A64-164EFF72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6ECF-8124-4102-BF15-02E3898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F8AE-33D7-45E8-B476-EA8B6466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32E4-5BD6-4A62-B0DB-A46F101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EC55-9CC8-4C2E-B968-24DCFB0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EAD6-1362-4BBE-9AAD-933284FF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B804-D453-4BED-9997-A3A9B02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2748-2FA1-406A-B8AC-58CD839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4D53-8D34-48BE-9CE3-6F09294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6A1B-041E-4D15-99EE-11DC2A1D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4957-4DED-430F-8982-562B8073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24F-5A97-428E-9621-D56A61E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757F-3974-47E4-B1AA-2DB644E3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E02-E838-42C4-983E-BADF0BF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A29-5157-40DB-92C7-1D7C24E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0C3-6075-4679-9A58-5CE6CAA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3E05F5-B4BB-461D-8939-6A1583C1D4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D743FD-CD39-438D-BED8-F76617230C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EBED09-E3F2-44A8-A03F-5D5F09A34F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A5F3A6-797E-4751-8117-BD1AC827D4A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926F8A-9F61-4393-9EE6-C3441B9349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ewclub.ru/wp-content/uploads/2012/08/image006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sewclub.ru/wp-content/uploads/2012/08/image007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ewclub.ru/wp-content/uploads/2012/08/image008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sewclub.ru/wp-content/uploads/2012/08/image009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ewclub.ru/wp-content/uploads/2012/08/image011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wclub.ru/wp-content/uploads/2012/08/image005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развития утюг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Выполнила:  Поткина Юл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6 «Б»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Гимназия №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229240" cy="215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с такие утюги известны с 17 века, а на Западе, скорее всего, еще раньше. Первое письменное свидетельство наличия в обиходе утюгов датировано 10 февраля 1636 года. В книге расходов царского двора отмечено: «Кузнецу Ивашке Трофимову выдано 5 алтын, а он за те деньги заделал в царицыну палату утюг железный». В XVIII веке уже было налажено промышленное производство «духовых» утюгов: их производили Демидовский и некоторые другие литейные заводы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Содержимое 4" descr="http://pics.livejournal.com/marinni/pic/000cy7ef"/>
          <p:cNvPicPr/>
          <p:nvPr/>
        </p:nvPicPr>
        <p:blipFill>
          <a:blip r:embed="rId1"/>
          <a:stretch/>
        </p:blipFill>
        <p:spPr>
          <a:xfrm>
            <a:off x="467640" y="3285000"/>
            <a:ext cx="4038120" cy="2766240"/>
          </a:xfrm>
          <a:prstGeom prst="rect">
            <a:avLst/>
          </a:prstGeom>
          <a:ln w="9525">
            <a:noFill/>
          </a:ln>
        </p:spPr>
      </p:pic>
      <p:pic>
        <p:nvPicPr>
          <p:cNvPr id="224" name="Содержимое 5" descr="http://pics.livejournal.com/marinni/pic/000bbxzh"/>
          <p:cNvPicPr/>
          <p:nvPr/>
        </p:nvPicPr>
        <p:blipFill>
          <a:blip r:embed="rId2"/>
          <a:stretch/>
        </p:blipFill>
        <p:spPr>
          <a:xfrm>
            <a:off x="5220000" y="2997000"/>
            <a:ext cx="3285720" cy="3538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одержимое 4" descr="http://pics.livejournal.com/marinni/pic/000c17gg"/>
          <p:cNvPicPr/>
          <p:nvPr/>
        </p:nvPicPr>
        <p:blipFill>
          <a:blip r:embed="rId1"/>
          <a:stretch/>
        </p:blipFill>
        <p:spPr>
          <a:xfrm>
            <a:off x="571320" y="2286000"/>
            <a:ext cx="4428720" cy="4071600"/>
          </a:xfrm>
          <a:prstGeom prst="rect">
            <a:avLst/>
          </a:prstGeom>
          <a:ln w="9525">
            <a:noFill/>
          </a:ln>
        </p:spPr>
      </p:pic>
      <p:pic>
        <p:nvPicPr>
          <p:cNvPr id="226" name="Содержимое 5" descr="http://pics.livejournal.com/marinni/pic/00095f63"/>
          <p:cNvPicPr/>
          <p:nvPr/>
        </p:nvPicPr>
        <p:blipFill>
          <a:blip r:embed="rId2"/>
          <a:stretch/>
        </p:blipFill>
        <p:spPr>
          <a:xfrm>
            <a:off x="5000760" y="571320"/>
            <a:ext cx="3657240" cy="288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65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ьшие чугунные утюги весили до 10 кг и предназначались для глажки грубых тканей. Для проглаживания тонких тканей и мелких деталей одежды — манжет, воротничков, кружев — пользовались маленькими утюжками, размером всего лишь с пол-ладони.</a:t>
            </a:r>
            <a:br>
              <a:rPr sz="44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Содержимое 4" descr="http://pics.livejournal.com/marinni/pic/0009s524"/>
          <p:cNvPicPr/>
          <p:nvPr/>
        </p:nvPicPr>
        <p:blipFill>
          <a:blip r:embed="rId1"/>
          <a:stretch/>
        </p:blipFill>
        <p:spPr>
          <a:xfrm>
            <a:off x="323640" y="2493000"/>
            <a:ext cx="4038120" cy="3333600"/>
          </a:xfrm>
          <a:prstGeom prst="rect">
            <a:avLst/>
          </a:prstGeom>
          <a:ln w="9525">
            <a:noFill/>
          </a:ln>
        </p:spPr>
      </p:pic>
      <p:pic>
        <p:nvPicPr>
          <p:cNvPr id="229" name="Содержимое 5" descr="http://pics.livejournal.com/marinni/pic/0009taqg"/>
          <p:cNvPicPr/>
          <p:nvPr/>
        </p:nvPicPr>
        <p:blipFill>
          <a:blip r:embed="rId2"/>
          <a:stretch/>
        </p:blipFill>
        <p:spPr>
          <a:xfrm>
            <a:off x="4644000" y="1989000"/>
            <a:ext cx="4209840" cy="40381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4" descr="http://pics.livejournal.com/marinni/pic/000ab11p"/>
          <p:cNvPicPr/>
          <p:nvPr/>
        </p:nvPicPr>
        <p:blipFill>
          <a:blip r:embed="rId1"/>
          <a:stretch/>
        </p:blipFill>
        <p:spPr>
          <a:xfrm>
            <a:off x="323640" y="2133000"/>
            <a:ext cx="4252680" cy="3359520"/>
          </a:xfrm>
          <a:prstGeom prst="rect">
            <a:avLst/>
          </a:prstGeom>
          <a:ln w="9525">
            <a:noFill/>
          </a:ln>
        </p:spPr>
      </p:pic>
      <p:pic>
        <p:nvPicPr>
          <p:cNvPr id="231" name="Содержимое 5" descr="http://pics.livejournal.com/marinni/pic/000bad5p"/>
          <p:cNvPicPr/>
          <p:nvPr/>
        </p:nvPicPr>
        <p:blipFill>
          <a:blip r:embed="rId2"/>
          <a:stretch/>
        </p:blipFill>
        <p:spPr>
          <a:xfrm>
            <a:off x="4648320" y="1751400"/>
            <a:ext cx="4038120" cy="422316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7640" y="764640"/>
            <a:ext cx="8229240" cy="286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юги были дорогой вещью. При литье их украшали орнаментом, их передавали по наследству от матери к дочери. Наличие утюга в доме считалось символом достатка и благополучия его хозяев. Иногда утюг даже выставлялся на салфеточке рядом с самоваром в качестве украшения на видном месте и как бы невзначай, но с гордостью демонстрировался всем гостям. Для особо знатных особ могли изготавливаться утюги самых причудливых форм. Могла быть сделана и инкрустация медью по железу, а у утюгов побогаче – даже серебром. Ручки обычно вытачивали из дерева гладкими либо фигурными. Кроме того отливались и утюги маленькие, которые служили для разглаживания кружев и других мелких деталей.</a:t>
            </a:r>
            <a:br>
              <a:rPr sz="4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Содержимое 4" descr="http://sewclub.ru/wp-content/uploads/2012/08/image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640" y="3429000"/>
            <a:ext cx="4252680" cy="2906280"/>
          </a:xfrm>
          <a:prstGeom prst="rect">
            <a:avLst/>
          </a:prstGeom>
          <a:ln w="9525">
            <a:noFill/>
          </a:ln>
        </p:spPr>
      </p:pic>
      <p:pic>
        <p:nvPicPr>
          <p:cNvPr id="234" name="Содержимое 5" descr="http://sewclub.ru/wp-content/uploads/2012/08/image00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4000" y="3645000"/>
            <a:ext cx="4038120" cy="269208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http://sewclub.ru/wp-content/uploads/2012/08/image0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285920"/>
            <a:ext cx="4214520" cy="3071520"/>
          </a:xfrm>
          <a:prstGeom prst="rect">
            <a:avLst/>
          </a:prstGeom>
          <a:ln w="9525">
            <a:noFill/>
          </a:ln>
        </p:spPr>
      </p:pic>
      <p:pic>
        <p:nvPicPr>
          <p:cNvPr id="237" name="Содержимое 5" descr="http://sewclub.ru/wp-content/uploads/2012/08/image00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517120"/>
            <a:ext cx="4038120" cy="2692080"/>
          </a:xfrm>
          <a:prstGeom prst="rect">
            <a:avLst/>
          </a:prstGeom>
          <a:ln w="9525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 веке так же были придуманы утюги со сменным вкладышем, который раскаляли, выхватывали из огня специальным прутом и вставляли внутрь полого корпус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одержимое 4" descr="http://pics.livejournal.com/marinni/pic/000aggky"/>
          <p:cNvPicPr/>
          <p:nvPr/>
        </p:nvPicPr>
        <p:blipFill>
          <a:blip r:embed="rId1"/>
          <a:stretch/>
        </p:blipFill>
        <p:spPr>
          <a:xfrm>
            <a:off x="914400" y="1629720"/>
            <a:ext cx="7314840" cy="446688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3" descr="http://pics.livejournal.com/marinni/pic/0009r87h"/>
          <p:cNvPicPr/>
          <p:nvPr/>
        </p:nvPicPr>
        <p:blipFill>
          <a:blip r:embed="rId1"/>
          <a:stretch/>
        </p:blipFill>
        <p:spPr>
          <a:xfrm>
            <a:off x="395640" y="1917000"/>
            <a:ext cx="4038120" cy="3222000"/>
          </a:xfrm>
          <a:prstGeom prst="rect">
            <a:avLst/>
          </a:prstGeom>
          <a:ln w="9525">
            <a:noFill/>
          </a:ln>
        </p:spPr>
      </p:pic>
      <p:pic>
        <p:nvPicPr>
          <p:cNvPr id="241" name="Содержимое 5" descr="http://pics.livejournal.com/marinni/pic/000af0fr"/>
          <p:cNvPicPr/>
          <p:nvPr/>
        </p:nvPicPr>
        <p:blipFill>
          <a:blip r:embed="rId2"/>
          <a:stretch/>
        </p:blipFill>
        <p:spPr>
          <a:xfrm>
            <a:off x="4714920" y="1628640"/>
            <a:ext cx="4428720" cy="457164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4" descr="http://pics.livejournal.com/marinni/pic/000bp7q1"/>
          <p:cNvPicPr/>
          <p:nvPr/>
        </p:nvPicPr>
        <p:blipFill>
          <a:blip r:embed="rId1"/>
          <a:stretch/>
        </p:blipFill>
        <p:spPr>
          <a:xfrm>
            <a:off x="642960" y="1071720"/>
            <a:ext cx="8072280" cy="507168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640" y="548640"/>
            <a:ext cx="8229240" cy="136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льнолитой утюг выпускался в России до середины 60-х годов 20 века, а самый молодой экземпляр, с двумя сменными подошвами, был выпущен аж в 1989 году.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Содержимое 3" descr="http://sewclub.ru/wp-content/uploads/2012/08/image0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5640" y="1917000"/>
            <a:ext cx="6024240" cy="479628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юг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Рисунок 3" descr="http://pics.livejournal.com/marinni/pic/00098wrx"/>
          <p:cNvPicPr/>
          <p:nvPr/>
        </p:nvPicPr>
        <p:blipFill>
          <a:blip r:embed="rId1"/>
          <a:stretch/>
        </p:blipFill>
        <p:spPr>
          <a:xfrm>
            <a:off x="1115640" y="1196640"/>
            <a:ext cx="7272360" cy="48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уль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Содержимое 5" descr="http://pics.livejournal.com/marinni/pic/0009zs71"/>
          <p:cNvPicPr/>
          <p:nvPr/>
        </p:nvPicPr>
        <p:blipFill>
          <a:blip r:embed="rId1"/>
          <a:stretch/>
        </p:blipFill>
        <p:spPr>
          <a:xfrm>
            <a:off x="357120" y="1071720"/>
            <a:ext cx="3857400" cy="2356920"/>
          </a:xfrm>
          <a:prstGeom prst="rect">
            <a:avLst/>
          </a:prstGeom>
          <a:ln w="9525">
            <a:noFill/>
          </a:ln>
        </p:spPr>
      </p:pic>
      <p:pic>
        <p:nvPicPr>
          <p:cNvPr id="247" name="Содержимое 6" descr="http://pics.livejournal.com/marinni/pic/000a0sdt"/>
          <p:cNvPicPr/>
          <p:nvPr/>
        </p:nvPicPr>
        <p:blipFill>
          <a:blip r:embed="rId2"/>
          <a:stretch/>
        </p:blipFill>
        <p:spPr>
          <a:xfrm>
            <a:off x="4714920" y="1143000"/>
            <a:ext cx="4038120" cy="2231640"/>
          </a:xfrm>
          <a:prstGeom prst="rect">
            <a:avLst/>
          </a:prstGeom>
          <a:ln w="9525">
            <a:noFill/>
          </a:ln>
        </p:spPr>
      </p:pic>
      <p:pic>
        <p:nvPicPr>
          <p:cNvPr id="248" name="Рисунок 7" descr="http://pics.livejournal.com/marinni/pic/000a128c"/>
          <p:cNvPicPr/>
          <p:nvPr/>
        </p:nvPicPr>
        <p:blipFill>
          <a:blip r:embed="rId3"/>
          <a:stretch/>
        </p:blipFill>
        <p:spPr>
          <a:xfrm>
            <a:off x="214200" y="4143240"/>
            <a:ext cx="4142880" cy="1928520"/>
          </a:xfrm>
          <a:prstGeom prst="rect">
            <a:avLst/>
          </a:prstGeom>
          <a:ln w="9525">
            <a:noFill/>
          </a:ln>
        </p:spPr>
      </p:pic>
      <p:pic>
        <p:nvPicPr>
          <p:cNvPr id="249" name="Рисунок 8" descr="http://pics.livejournal.com/marinni/pic/000a6eb0"/>
          <p:cNvPicPr/>
          <p:nvPr/>
        </p:nvPicPr>
        <p:blipFill>
          <a:blip r:embed="rId4"/>
          <a:stretch/>
        </p:blipFill>
        <p:spPr>
          <a:xfrm>
            <a:off x="4929120" y="4000680"/>
            <a:ext cx="3714480" cy="221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4" descr="http://pics.livejournal.com/marinni/pic/0009b0sw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607176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143680"/>
            <a:ext cx="82292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br>
              <a:rPr sz="2400"/>
            </a:b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Рисунок 5" descr="http://www.pdachoice.ru/bb/files/2_203.jpg"/>
          <p:cNvPicPr/>
          <p:nvPr/>
        </p:nvPicPr>
        <p:blipFill>
          <a:blip r:embed="rId1"/>
          <a:stretch/>
        </p:blipFill>
        <p:spPr>
          <a:xfrm>
            <a:off x="1331640" y="1008360"/>
            <a:ext cx="6599880" cy="4824000"/>
          </a:xfrm>
          <a:prstGeom prst="rect">
            <a:avLst/>
          </a:prstGeom>
          <a:ln w="9525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5" descr="НаВ полотне Генри Морланда мыВ видим прачку, гладящую бельё чугунным утюгом"/>
          <p:cNvPicPr/>
          <p:nvPr/>
        </p:nvPicPr>
        <p:blipFill>
          <a:blip r:embed="rId1"/>
          <a:stretch/>
        </p:blipFill>
        <p:spPr>
          <a:xfrm>
            <a:off x="1907640" y="548640"/>
            <a:ext cx="5040360" cy="59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5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древнейших времен люди ухаживали за своей одеждой, чтобы она после стирки выглядела красиво и опрятно. Именно для целей был изобретен утюг, который прошел все стадии эволюционного развития – от слегка обработанного булыжника до современного электрического агрегата с вертикальным отпариванием и регулируемой мощность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м давним из них археологи признают плоский, тяжелый камень. На его относительно ровной поверхности расстилали чуть влажную еще одежду, сверху придавливали другим камнем и оставляли до полного высыхания. В результате часть складок исчезал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ще в четвертом веке до нашей эры древние греки изобрели способ плиссировки своих просторных одежд из полотна с помощью горячего металлического прута, напоминавшего скалку. Через два столетия римляне выбивали морщинки из одежды металлическим молотком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7176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Содержимое 10" descr="http://pics.livejournal.com/marinni/pic/000c0282"/>
          <p:cNvPicPr/>
          <p:nvPr/>
        </p:nvPicPr>
        <p:blipFill>
          <a:blip r:embed="rId1"/>
          <a:stretch/>
        </p:blipFill>
        <p:spPr>
          <a:xfrm>
            <a:off x="1500120" y="214200"/>
            <a:ext cx="6429240" cy="6429240"/>
          </a:xfrm>
          <a:prstGeom prst="rect">
            <a:avLst/>
          </a:prstGeom>
          <a:ln w="9525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2928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устя время появились тонкие ткани. В моду вошли наряды со множеством оборок, рюшек, бантов и т.д. Все эти детали требовали тщательного ухо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том, что белье легче разгладить, если использовать теплый металл, человечество узнало почти так же давно, как и о механических способах глажки. Так, еще в IV в. до н. э. в Греции изобрели способ глажки хитонов и туник с помощью нагретого металлического прута. В средневековье стали использовать иное приспособление. Выглядело оно практически так же, как обычная сковородка: внутрь чугунной жаровни с ручкой закладывались горячие угли и «сковородой» начинали водить по одежде. Ясное дело, что этот «утюг» не отличался удобством и безопасностью: работать с его помощью было неловко, искры и мелкие угольки то и дело вылетали из жаровни, оставляя на одежде опалины и дырки.</a:t>
            </a:r>
            <a:br>
              <a:rPr sz="4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Содержимое 4" descr="http://pics.livejournal.com/marinni/pic/000cfgf4"/>
          <p:cNvPicPr/>
          <p:nvPr/>
        </p:nvPicPr>
        <p:blipFill>
          <a:blip r:embed="rId1"/>
          <a:stretch/>
        </p:blipFill>
        <p:spPr>
          <a:xfrm>
            <a:off x="2357280" y="3786120"/>
            <a:ext cx="4643280" cy="262008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4" descr="http://sewclub.ru/wp-content/uploads/2012/08/image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3640" y="1845000"/>
            <a:ext cx="4320000" cy="4795560"/>
          </a:xfrm>
          <a:prstGeom prst="rect">
            <a:avLst/>
          </a:prstGeom>
          <a:ln w="9525">
            <a:noFill/>
          </a:ln>
        </p:spPr>
      </p:pic>
      <p:pic>
        <p:nvPicPr>
          <p:cNvPr id="217" name="Содержимое 5" descr="http://pics.livejournal.com/marinni/pic/000bd3gw"/>
          <p:cNvPicPr/>
          <p:nvPr/>
        </p:nvPicPr>
        <p:blipFill>
          <a:blip r:embed="rId3"/>
          <a:stretch/>
        </p:blipFill>
        <p:spPr>
          <a:xfrm>
            <a:off x="4788000" y="1412640"/>
            <a:ext cx="4214520" cy="460800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одержимое 4" descr="http://pics.livejournal.com/marinni/pic/000ch9pf"/>
          <p:cNvPicPr/>
          <p:nvPr/>
        </p:nvPicPr>
        <p:blipFill>
          <a:blip r:embed="rId1"/>
          <a:stretch/>
        </p:blipFill>
        <p:spPr>
          <a:xfrm>
            <a:off x="214200" y="928800"/>
            <a:ext cx="4071600" cy="4982760"/>
          </a:xfrm>
          <a:prstGeom prst="rect">
            <a:avLst/>
          </a:prstGeom>
          <a:ln w="9525">
            <a:noFill/>
          </a:ln>
        </p:spPr>
      </p:pic>
      <p:pic>
        <p:nvPicPr>
          <p:cNvPr id="219" name="Содержимое 5" descr="http://pics.livejournal.com/marinni/pic/000bcc34"/>
          <p:cNvPicPr/>
          <p:nvPr/>
        </p:nvPicPr>
        <p:blipFill>
          <a:blip r:embed="rId2"/>
          <a:stretch/>
        </p:blipFill>
        <p:spPr>
          <a:xfrm>
            <a:off x="4643280" y="785880"/>
            <a:ext cx="4352760" cy="49370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Содержимое 4" descr="http://pics.livejournal.com/marinni/pic/0009f4ps"/>
          <p:cNvPicPr/>
          <p:nvPr/>
        </p:nvPicPr>
        <p:blipFill>
          <a:blip r:embed="rId1"/>
          <a:stretch/>
        </p:blipFill>
        <p:spPr>
          <a:xfrm>
            <a:off x="214200" y="500040"/>
            <a:ext cx="4495320" cy="3340440"/>
          </a:xfrm>
          <a:prstGeom prst="rect">
            <a:avLst/>
          </a:prstGeom>
          <a:ln w="9525">
            <a:noFill/>
          </a:ln>
        </p:spPr>
      </p:pic>
      <p:pic>
        <p:nvPicPr>
          <p:cNvPr id="221" name="Содержимое 5" descr="http://pics.livejournal.com/marinni/pic/000bre88"/>
          <p:cNvPicPr/>
          <p:nvPr/>
        </p:nvPicPr>
        <p:blipFill>
          <a:blip r:embed="rId2"/>
          <a:stretch/>
        </p:blipFill>
        <p:spPr>
          <a:xfrm>
            <a:off x="4648320" y="2047680"/>
            <a:ext cx="4038120" cy="3630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колог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колог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колог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колог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колог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Экология</Template>
  <TotalTime>224</TotalTime>
  <Application>LibreOffice/7.4.7.2$Linux_X86_64 LibreOffice_project/40$Build-2</Application>
  <AppVersion>15.0000</AppVersion>
  <Words>381</Words>
  <Paragraphs>1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17:42:35Z</dcterms:created>
  <dc:creator>Иван</dc:creator>
  <dc:description/>
  <dc:language>en-US</dc:language>
  <cp:lastModifiedBy>начальные классы</cp:lastModifiedBy>
  <dcterms:modified xsi:type="dcterms:W3CDTF">2005-01-01T04:39:03Z</dcterms:modified>
  <cp:revision>61</cp:revision>
  <dc:subject/>
  <dc:title>История утюг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