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D6A-0B1E-46B2-B0E8-B2152F41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712-94C7-4997-8E67-4070F7A9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7AF-0829-48A8-B363-3DB447A0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465-2B86-4EEA-9C12-E4D2C32E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8761-E823-4102-BA88-B0A80BDA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62FA-CBE3-4B7B-8E41-08B4D7AF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B979-5BE3-4A82-A9FA-72EF1323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8A95-C517-401F-B49B-7CCD024F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43CE-BAA4-4294-B952-3AAE1A6F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659-42A7-4437-8DD4-147B646C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7870-D0A8-4618-B78D-04243C4D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1F2-D177-43D0-BFF6-CE143FD9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0DF2-AF4F-4334-B834-6A469883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255D-9354-460D-A550-3A8B0AE4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054A-CD18-4F39-A8A6-01436744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2704-951E-44D3-9CBC-AFC35525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3E45-1BD6-43F8-9561-765B6CC5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CBDC-2F03-4CA4-BDD2-69FC5893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2B26-6AE9-4A94-B599-1DFEA306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5C8F-0E5A-43A2-8925-84BDFBEC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45F9-CD2F-4A28-8893-79245EFA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311EE-EA14-4AB5-AC9F-5A2C819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698-DC3E-499E-B43C-1E7E933B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55B8-AFF9-4D58-9684-C00BAD56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7BE6-4CCF-4260-841E-5243FB25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8B65-6D93-4FAB-9797-A8790299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824A-34BD-486D-A9F6-471C634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1CB3-661A-4D76-8F17-39AD0D32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D708-5996-4573-B338-D35616F0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9336-D9C5-4C1E-ABFD-0E96482A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B653F-DCBD-4F5F-BF1F-42B82476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216A3-0611-4E56-8789-FD49994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5E5D-F6F0-48FC-99BF-A1341B6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59B-AC6F-4A60-9D4F-C6ED6A6F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93A6-74B3-4BE9-B450-2C03F3DD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507E3-D30C-4A43-8949-056AA14F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9998-84CC-4E48-900B-F5B87D50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E925-6742-43CD-9F97-6D047E3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4DA2-BE54-4D68-AC56-148D3F6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E3216-C4F7-4857-96B6-256F5AF7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CB67-9501-42A6-981E-7FD6F94E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3D5D-2EF9-4004-8037-663A3077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8348-ABAB-4360-B500-0946AE44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FB4A-C0EA-418E-89C9-9AEB9EA3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852-297C-4B57-9837-AEB48B74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9886C-2D17-4EE0-B11E-ED54C3F9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4D515-6E3C-43CC-8C5E-EAAA610F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D114B-57E6-4E60-A043-95E6D8BD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7CF8D-F285-4697-9F45-64A901FC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9E3E-4DE4-44F5-A6BE-5AE5F86D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10118-E2F6-4FAB-9CD1-49F5937A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E7C4D-8150-4242-AB57-6F75140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2D0A-F5A1-4FFB-8895-AB2B9A31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A302-23DD-476A-B654-B3C506D1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80C9C-A8C0-492C-A683-1C277F13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64A-C3BF-41A3-B15D-AF067682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0CA5C-6E6E-4E80-B265-37B4C311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7C0-D62F-4CC3-A80E-81B01FF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9DF-2F80-4367-AFAC-79D69AD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0BF-F19E-4A46-B084-13B86358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56F-EA2D-4B0B-9132-F2103593851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4AC1-A81E-4F6B-8E7B-1AA01EA5E87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AF4A-49D7-4BFC-8AE5-C1013769C9C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C1EB-19FB-4689-B38D-239BE8EB8B7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D140-0290-4DB9-9E5D-4EF49056E2B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-285840" y="142884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rebuchet MS"/>
              </a:rPr>
              <a:t>Тема </a:t>
            </a:r>
            <a:r>
              <a:rPr b="1" lang="en-US" sz="4400" spc="-1" strike="noStrike">
                <a:solidFill>
                  <a:srgbClr val="0d0d0d"/>
                </a:solidFill>
                <a:latin typeface="Trebuchet MS"/>
              </a:rPr>
              <a:t>6</a:t>
            </a:r>
            <a:r>
              <a:rPr b="1" lang="ru-RU" sz="4400" spc="-1" strike="noStrike">
                <a:solidFill>
                  <a:srgbClr val="0d0d0d"/>
                </a:solidFill>
                <a:latin typeface="Trebuchet MS"/>
              </a:rPr>
              <a:t>: Государство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rebuchet MS"/>
              </a:rPr>
              <a:t>и его признаки. 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Trebuchet MS"/>
              </a:rPr>
              <a:t>Формы государства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ac66bb"/>
          </a:solidFill>
          <a:ln w="11520">
            <a:solidFill>
              <a:srgbClr val="f9b639"/>
            </a:solidFill>
            <a:miter/>
          </a:ln>
          <a:effectLst>
            <a:outerShdw dist="25560" dir="5400000" blurRad="0" rotWithShape="0">
              <a:srgbClr val="986d1f">
                <a:alpha val="83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rebuchet MS"/>
              </a:rPr>
              <a:t>Государство</a:t>
            </a:r>
            <a:r>
              <a:rPr b="0" lang="ru-RU" sz="3100" spc="-1" strike="noStrike">
                <a:solidFill>
                  <a:srgbClr val="ffffff"/>
                </a:solidFill>
                <a:latin typeface="Trebuchet MS"/>
              </a:rPr>
              <a:t> — политико-территориальная суверенная организация публичной власти, располагающая специальным аппаратом в целях осуществления управленческо-обеспечительной,</a:t>
            </a: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Trebuchet MS"/>
              </a:rPr>
              <a:t>охранительной функций и способная делать свои веления обязательными для всего населения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95280" y="1628280"/>
            <a:ext cx="496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Тео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(государства сотворено Богом, правитель подчинен, Божественной воле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Патриархальна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(государство выросло из семьи, подданные относятся к монарху, как дети к отцу. — Р. Филмер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Классова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(государство — продук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лассовой борьбы, орудие в руках господствующих классов. — К. Маркс, В. Ленин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Договорна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(государство — продук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говора между людьми о защите их естественных прав. — Г. Гроций, Ж.-Ж. Руссо, Дж. Локк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Теория насилия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государство создается в процессе завоевания для подчинен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бежденных. — Е. Дюринг Л. Гумплович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3203640" y="5877000"/>
            <a:ext cx="489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95280" y="1483920"/>
            <a:ext cx="496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Публичный характер власти, совпадение государства и общества, наличие органов влаги и управления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Территориальная организация власт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Суверенной характер власт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Принудительный характер власт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Исключительные права на взимание налогов и сборов с населения, денежную эмиссию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Претензия на представительство общества как целого и защиту общих интересов и общего благ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3203640" y="5877000"/>
            <a:ext cx="489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250920" y="2491920"/>
            <a:ext cx="518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По форме 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т. е. по способ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рганизации верховной государственно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ласти) государства подразделяются на монархические и республикански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Монархия как форма правления характеризуется следующими признаками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существование главы государства, 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пользующейся своей властью пожизненно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наследственный (династический) по-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рядок преемственности верховной власти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юридическая безответственность монарха за свои политические действия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особый личный статус монарха (титул, привилегии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3203640" y="5877000"/>
            <a:ext cx="489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468360" y="1268280"/>
            <a:ext cx="75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Форма государства указывает, как организованы и функционируют государство и право. Необходимо различать форму правления, форму государственного устройства и политический реж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8920" y="115920"/>
            <a:ext cx="782172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rebuchet MS"/>
              </a:rPr>
              <a:t>Различают абсолютные и конституционные монархи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Абсолютная монархия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— такая форма правления, при которой верховная власть всецело принадлежит одному лицу. Монарх единолично представляет свае государство. Власть монарха безгранична, абсолютна, она независима от какой-либо иной власти (современные Саудовская Аравия, Катар, Оман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Конституционная монархия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дставляет собой такую форму правления, при которой власть монарха значительно ограничена представительным органом. Обычно это ограничение определяется конституцией государства, утверждаемой парламентом. Конституционная монархия может быть дуалистической и парламентско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6" descr=""/>
          <p:cNvPicPr/>
          <p:nvPr/>
        </p:nvPicPr>
        <p:blipFill>
          <a:blip r:embed="rId1"/>
          <a:stretch/>
        </p:blipFill>
        <p:spPr>
          <a:xfrm>
            <a:off x="5718240" y="5797440"/>
            <a:ext cx="2987640" cy="1067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Trebuchet MS"/>
              </a:rPr>
              <a:t>Республика — такая форма правления, при которой верховная государственная власть осуществляется выборными органами, избираемыми населением на определенный срок.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rebuchet MS"/>
              </a:rPr>
              <a:t>Различают ряд общих признаков республиканской формы правления: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рганы государственной власти избираются населением на определенный срок;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законодательно закрепляется подотчетность и ответственность власти за результаты своей деятельности;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существует взаимное сдерживание различных ветвей власти от возможности злоупотреблений, т. е, наличие системы «сдерживании и противовесов».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rebuchet MS"/>
              </a:rPr>
              <a:t>Основными разновидностями республиканской формы правления являются парламентская, президентская и полупрезидентская (смешанная) республики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rebuchet MS"/>
              </a:rPr>
              <a:t>Парламентская республика</a:t>
            </a: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— это форма государственной власти, при которой: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ерховная роль принадлежит парламенту;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авительство формируется парламентом и несет перед ним ответственность за свою деятельность;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глава государства избирается либо назначается парламентом. Большинство полномочий главы государства формальны, его правовое положение аналогично статусу монарха в парламентской конституционной монархии.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rebuchet MS"/>
              </a:rPr>
              <a:t>Президентская республика</a:t>
            </a:r>
            <a:r>
              <a:rPr b="0" lang="ru-RU" sz="11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— одна из разновидностей современной формы государственного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авления, при которой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езидент, как и парламент, избирается населением;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авительство несет ответственность перед президентом;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езидент имеет более широкие полномочия, чем глава государства в парламентской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спублике (современные США, страны Латинской Америки).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rebuchet MS"/>
              </a:rPr>
              <a:t>В полупрезидентской республике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езидент и парламент избираются всенародным голосованием;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авительство формируется президентом из лидеров победившей на выборах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 парламент партии и должно получить вотум доверия парламента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езидент не ответственен за действия правительства, вотум недоверия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арламента правительству невозможен;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резидент имеет права роспуска парламента, является верховным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главнокомандующим и главой государства (современные Россия, Фракция, Австрия)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5" descr=""/>
          <p:cNvPicPr/>
          <p:nvPr/>
        </p:nvPicPr>
        <p:blipFill>
          <a:blip r:embed="rId1"/>
          <a:stretch/>
        </p:blipFill>
        <p:spPr>
          <a:xfrm>
            <a:off x="5505480" y="828720"/>
            <a:ext cx="3187800" cy="598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79280" y="620640"/>
            <a:ext cx="7964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Trebuchet MS"/>
              </a:rPr>
              <a:t>Форма государственного устройства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определяет соотношение государства в целом и его отдельных частей. Существуют три формы территориально-политического устройства: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rebuchet MS"/>
              </a:rPr>
              <a:t>Унитарное государство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(его административно-территориальные единицы не обладают собственной государственностью).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rebuchet MS"/>
              </a:rPr>
              <a:t>Федеративное государство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(союз государств, имеющих свои законодательные, исполнительные и судебные органы, не противоречащие в своей деятельности федеральной конституции).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rebuchet MS"/>
              </a:rPr>
              <a:t>Конфедеративное государство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(союз самостоятельных государств, созданный для осуществления конкретных целей).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179280" y="2997360"/>
            <a:ext cx="50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Политический режим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овокупность методов и способов осуществления в стране государственной власти управления.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Различают следующие политические режим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емократическ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лассические буржуазные демократии в Англии, Франции, СШ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тоталитарн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фашизм в Италии и Германии, советский социализ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—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авторитарн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оенный режим Пиночета в Чили, теократический режим Хомейни в Иран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36:55Z</dcterms:created>
  <dc:creator>Сергей</dc:creator>
  <dc:description/>
  <dc:language>en-US</dc:language>
  <cp:lastModifiedBy>056</cp:lastModifiedBy>
  <dcterms:modified xsi:type="dcterms:W3CDTF">2014-05-12T14:38:04Z</dcterms:modified>
  <cp:revision>25</cp:revision>
  <dc:subject/>
  <dc:title>Слайд 1</dc:title>
</cp:coreProperties>
</file>