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D66-8CA2-48D3-9961-23327138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959-B99D-40CF-82C3-860C3862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F20-2007-4875-8866-E7DC4434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54D-B6AB-4954-A376-9E94A7E5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E76-EF74-4071-9302-B77E0283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682-CEF5-4912-969A-9FDAF42E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789-5C95-4F06-9E37-7B2F98F5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2B0-D8F7-464B-AABE-648DBEA2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C8C-066A-40EB-B238-AD1606DC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ED6-C261-4122-83C9-30E5A45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E34-A1D3-4632-967D-A891B53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155-A9BD-4552-AF61-B5DBCFA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27CF-C7D7-4ED9-B357-C49F7BB6A1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00880" y="981000"/>
            <a:ext cx="3543120" cy="481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87280" y="155736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ы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да Буквоед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2421000"/>
            <a:ext cx="7921440" cy="2160360"/>
          </a:xfrm>
          <a:prstGeom prst="rect">
            <a:avLst/>
          </a:prstGeom>
          <a:solidFill>
            <a:srgbClr val="ebf9a5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Т Р А Н С П О Р 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84140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867280" y="1324080"/>
            <a:ext cx="2665440" cy="217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4853160"/>
            <a:ext cx="2771640" cy="1704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867280" y="4432320"/>
            <a:ext cx="2592360" cy="152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195640" y="1700280"/>
            <a:ext cx="33336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6720" y="6237360"/>
            <a:ext cx="5256000" cy="360360"/>
          </a:xfrm>
          <a:prstGeom prst="rect">
            <a:avLst/>
          </a:prstGeom>
          <a:solidFill>
            <a:srgbClr val="f7d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ыделить 3-ю букву в словах – назва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125360"/>
            <a:ext cx="57600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076640"/>
            <a:ext cx="57600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221000"/>
            <a:ext cx="64944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125360"/>
            <a:ext cx="57636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042920" y="189000"/>
            <a:ext cx="633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адай цветок</a:t>
            </a:r>
            <a:endParaRPr b="1" lang="en-US" sz="28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32000" y="1125360"/>
            <a:ext cx="3348000" cy="492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19640" y="6165720"/>
            <a:ext cx="5040000" cy="432000"/>
          </a:xfrm>
          <a:prstGeom prst="rect">
            <a:avLst/>
          </a:prstGeom>
          <a:solidFill>
            <a:srgbClr val="f7d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ыделить 2-ю букву в словах – названия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784520"/>
            <a:ext cx="2771640" cy="178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580000" y="1693800"/>
            <a:ext cx="3564000" cy="200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8360" y="4221000"/>
            <a:ext cx="2108160" cy="219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796000" y="4292640"/>
            <a:ext cx="2979720" cy="164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484280"/>
            <a:ext cx="57636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789360"/>
            <a:ext cx="57636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244000" y="3716280"/>
            <a:ext cx="57600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8244000" y="1125360"/>
            <a:ext cx="57600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27840" y="1844640"/>
            <a:ext cx="3116160" cy="4238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6021360"/>
            <a:ext cx="7705800" cy="432000"/>
          </a:xfrm>
          <a:prstGeom prst="rect">
            <a:avLst/>
          </a:prstGeom>
          <a:solidFill>
            <a:srgbClr val="f7d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йти среди букв названия школьных принадлежн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773360"/>
            <a:ext cx="5327640" cy="3743280"/>
          </a:xfrm>
          <a:prstGeom prst="rect">
            <a:avLst/>
          </a:prstGeom>
          <a:solidFill>
            <a:srgbClr val="f1f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КЫЙЦУЛИНЕЙКАКЕНГ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ЖЛАМПИРОРАНЕЦЩЗ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ШЪФЫВЛАСТИКЫВАП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ФДЛЖДКАРАНДАШЩЗХ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ЮРУЧКАФЫВЧЯПЕНАЛ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ЬЭЫУЕПОТЕТРАДЬМ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ПЛАСТИЛИНБЮУЧЕБ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66920" y="404280"/>
            <a:ext cx="302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Часть первая мычит.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ая всё жужжит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 целое спокойно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 голове ле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56000" y="2852640"/>
            <a:ext cx="3961080" cy="1571400"/>
            <a:chOff x="4356000" y="2852640"/>
            <a:chExt cx="3961080" cy="1571400"/>
          </a:xfrm>
        </p:grpSpPr>
        <p:pic>
          <p:nvPicPr>
            <p:cNvPr id="72" name="Picture 5" descr="4 оса"/>
            <p:cNvPicPr/>
            <p:nvPr/>
          </p:nvPicPr>
          <p:blipFill>
            <a:blip r:embed="rId1"/>
            <a:stretch/>
          </p:blipFill>
          <p:spPr>
            <a:xfrm>
              <a:off x="5157720" y="2956680"/>
              <a:ext cx="1285920" cy="72972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  <p:pic>
          <p:nvPicPr>
            <p:cNvPr id="73" name="Picture 6" descr="4 оса"/>
            <p:cNvPicPr/>
            <p:nvPr/>
          </p:nvPicPr>
          <p:blipFill>
            <a:blip r:embed="rId2"/>
            <a:stretch/>
          </p:blipFill>
          <p:spPr>
            <a:xfrm>
              <a:off x="5627160" y="3642480"/>
              <a:ext cx="1285920" cy="72936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  <p:pic>
          <p:nvPicPr>
            <p:cNvPr id="74" name="Picture 7" descr="4 оса"/>
            <p:cNvPicPr/>
            <p:nvPr/>
          </p:nvPicPr>
          <p:blipFill>
            <a:blip r:embed="rId3"/>
            <a:stretch/>
          </p:blipFill>
          <p:spPr>
            <a:xfrm>
              <a:off x="4356000" y="3694680"/>
              <a:ext cx="1285920" cy="72936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  <p:pic>
          <p:nvPicPr>
            <p:cNvPr id="75" name="Picture 8" descr="4 оса"/>
            <p:cNvPicPr/>
            <p:nvPr/>
          </p:nvPicPr>
          <p:blipFill>
            <a:blip r:embed="rId4"/>
            <a:stretch/>
          </p:blipFill>
          <p:spPr>
            <a:xfrm>
              <a:off x="7031160" y="3590280"/>
              <a:ext cx="1285920" cy="72936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  <p:pic>
          <p:nvPicPr>
            <p:cNvPr id="76" name="Picture 9" descr="4 оса"/>
            <p:cNvPicPr/>
            <p:nvPr/>
          </p:nvPicPr>
          <p:blipFill>
            <a:blip r:embed="rId5"/>
            <a:stretch/>
          </p:blipFill>
          <p:spPr>
            <a:xfrm>
              <a:off x="6362640" y="2852640"/>
              <a:ext cx="1285920" cy="72936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sp>
        <p:nvSpPr>
          <p:cNvPr id="77" name="WordArt 11"/>
          <p:cNvSpPr txBox="1"/>
          <p:nvPr/>
        </p:nvSpPr>
        <p:spPr>
          <a:xfrm>
            <a:off x="1258920" y="5373720"/>
            <a:ext cx="655308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ОЛ - ОС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84360" y="1916280"/>
            <a:ext cx="2970000" cy="3051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79" name="WordArt 6"/>
          <p:cNvSpPr txBox="1"/>
          <p:nvPr/>
        </p:nvSpPr>
        <p:spPr>
          <a:xfrm>
            <a:off x="324000" y="189000"/>
            <a:ext cx="53496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ады из</a:t>
            </a:r>
            <a:endParaRPr b="1" lang="en-US" sz="28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шебного сундучка</a:t>
            </a:r>
            <a:endParaRPr b="1" lang="en-US" sz="28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56275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ой первый слог –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число с нулями,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У всех людей – последних два,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 вместе – догадайтесь сами: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сем городам она глава.</a:t>
            </a: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2637000"/>
            <a:ext cx="3024360" cy="1655640"/>
          </a:xfrm>
          <a:prstGeom prst="rect">
            <a:avLst/>
          </a:prstGeom>
          <a:solidFill>
            <a:srgbClr val="f7d1f7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167280" cy="2638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solidFill>
            <a:srgbClr val="f7d1f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●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Кабан – ан + лук =</a:t>
            </a: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каблу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●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Корь - ь + идол – л + р=</a:t>
            </a: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корид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●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Ква + рак – ак + тира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кварти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1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32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6:02:53Z</dcterms:created>
  <dc:creator>A.Klein</dc:creator>
  <dc:description/>
  <dc:language>en-US</dc:language>
  <cp:lastModifiedBy>Артем</cp:lastModifiedBy>
  <dcterms:modified xsi:type="dcterms:W3CDTF">2015-02-28T15:04:58Z</dcterms:modified>
  <cp:revision>39</cp:revision>
  <dc:subject/>
  <dc:title>Слайд 1</dc:title>
</cp:coreProperties>
</file>