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F90-C622-4A80-B3FE-CF85B961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920-546A-44AB-9506-5D86F656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170-16D3-44A4-86D1-BE775F18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B2CD-E8A7-4744-BEF1-3D63FE62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30E6-1EAD-48C6-A4DE-44498C3F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33E5-F2CE-4F92-A190-B3FE3003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79EE-86A4-444D-A7C7-1FA6E077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13D8-80A2-40E7-B980-A4F3BAA7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E494-BEAE-43BE-85EC-AE96CAC7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B7F8-C1C5-420A-B7CA-7780F49E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1B37-E74E-4889-A56A-109F87D4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4C9-47B0-4790-A802-4C67BA0B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D180-90DE-4DE6-AA48-7363A6E8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AC01-95DC-447C-A01B-86124421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F055-CE07-4F38-B7C4-BA829CE6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EE46-1D59-4B49-AC45-EF3B3228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0B6C-B23E-4658-8FD7-628DE0B1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40F-88FB-4A0E-B6F4-79E6BFEE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8F9-82C9-4535-B824-AEB5FD00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CF9-438C-47E2-B7DB-62F24A3C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8CF-F6BA-43CE-BF0D-C60CE4CA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44C-F963-4FFF-9E85-E845EA50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544-C0DF-44DA-AACC-1B90657C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8FD-A604-481F-B4D5-DDD091A0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1763-8BBA-4C4A-9676-12F6090C92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CBBB-6209-47B2-86E7-4AEA6790D3F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228600" y="228600"/>
            <a:ext cx="8763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3a00"/>
                    </a:gs>
                    <a:gs pos="100000">
                      <a:srgbClr val="99ff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Что мы знаем об имунитете?</a:t>
            </a:r>
            <a:endParaRPr b="1" i="1" lang="en-US" sz="18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3a00"/>
                  </a:gs>
                  <a:gs pos="100000">
                    <a:srgbClr val="99ff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914400" y="5486400"/>
            <a:ext cx="7391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Что такое вакцина?</a:t>
            </a:r>
            <a:endParaRPr b="1" i="1" lang="en-US" sz="18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cc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609480" y="2971800"/>
            <a:ext cx="8001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Поговорим о здоровье...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вакцина"/>
          <p:cNvPicPr/>
          <p:nvPr/>
        </p:nvPicPr>
        <p:blipFill>
          <a:blip r:embed="rId1"/>
          <a:stretch/>
        </p:blipFill>
        <p:spPr>
          <a:xfrm>
            <a:off x="3809880" y="2981160"/>
            <a:ext cx="5105520" cy="364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WordArt 4"/>
          <p:cNvSpPr txBox="1"/>
          <p:nvPr/>
        </p:nvSpPr>
        <p:spPr>
          <a:xfrm>
            <a:off x="380880" y="152280"/>
            <a:ext cx="4572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Вакцина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28600" y="109728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 — 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медицинский препарат, предназначенный для создания иммунитета к инфекционным болезням. Вакцина изготавливается из ослабленных или убитых микроорганизмов, продуктов их жизнедеятельности, или из их антигенов, полученных генно-инженерным или химическим путё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CAG3PUGJ"/>
          <p:cNvPicPr/>
          <p:nvPr/>
        </p:nvPicPr>
        <p:blipFill>
          <a:blip r:embed="rId2"/>
          <a:stretch/>
        </p:blipFill>
        <p:spPr>
          <a:xfrm>
            <a:off x="228600" y="3276720"/>
            <a:ext cx="348624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12-foto2"/>
          <p:cNvPicPr/>
          <p:nvPr/>
        </p:nvPicPr>
        <p:blipFill>
          <a:blip r:embed="rId1"/>
          <a:stretch/>
        </p:blipFill>
        <p:spPr>
          <a:xfrm>
            <a:off x="5486400" y="152280"/>
            <a:ext cx="3505320" cy="4267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152280" y="3770640"/>
            <a:ext cx="883944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Georgia"/>
              </a:rPr>
              <a:t>Корпускулярные вакц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Корпускулярные вакцины содержат ослабленные или убитые микро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cc0066"/>
                </a:solidFill>
                <a:latin typeface="Georgia"/>
              </a:rPr>
              <a:t>Химические вакц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Создаются из антигенных компонентов, извлеченных из микробной кл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Georgia"/>
              </a:rPr>
              <a:t>Рекомбинантные вакц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Для производства этих вакцин применяют методы генной инженерии, встраивая генетический материал микроорганизма в дрожжевые клетки, продуцирующие антиген. Примером таких вакцин может служить вакцина против </a:t>
            </a:r>
            <a:r>
              <a:rPr b="0" i="1" lang="ru-RU" sz="1800" spc="-1" strike="noStrike">
                <a:solidFill>
                  <a:srgbClr val="9933ff"/>
                </a:solidFill>
                <a:latin typeface="Georgia"/>
              </a:rPr>
              <a:t>гепатита В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, а также вакцина против </a:t>
            </a:r>
            <a:r>
              <a:rPr b="0" i="1" lang="ru-RU" sz="1800" spc="-1" strike="noStrike">
                <a:solidFill>
                  <a:srgbClr val="9933ff"/>
                </a:solidFill>
                <a:latin typeface="Georgia"/>
              </a:rPr>
              <a:t>вируса папилломы человека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5"/>
          <p:cNvSpPr txBox="1"/>
          <p:nvPr/>
        </p:nvSpPr>
        <p:spPr>
          <a:xfrm>
            <a:off x="380880" y="152280"/>
            <a:ext cx="4572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Виды вакцин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52280" y="1276200"/>
            <a:ext cx="5105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Georgia"/>
              </a:rPr>
              <a:t>Живые вакц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Живые вакцины изготовляют на основе ослабленных видов микроорганизма со стойкой безвредностью. Вакцинный тип после введения размножается в организме привитого и вызывает вакцинальный инфекционный процесс. Примером живых вакцин могут служить вакцины для профилактики </a:t>
            </a:r>
            <a:r>
              <a:rPr b="0" i="1" lang="ru-RU" sz="1800" spc="-1" strike="noStrike">
                <a:solidFill>
                  <a:srgbClr val="9933ff"/>
                </a:solidFill>
                <a:latin typeface="Georgia"/>
              </a:rPr>
              <a:t>краснухи, кори, полиомиелита, туберкулеза, паротита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380880" y="1522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стория вакцинации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52280" y="118440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14 мая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1769 г.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Эдвард Дженнер привил коровью оспу 8-летнему Джеймсу Фип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1881 г.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Луи Пастер создал прививку против сибирской яз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1885 г.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Луи Пастер создал прививку против беш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2133720" y="1295280"/>
            <a:ext cx="4886280" cy="4676760"/>
            <a:chOff x="2133720" y="1295280"/>
            <a:chExt cx="4886280" cy="4676760"/>
          </a:xfrm>
        </p:grpSpPr>
        <p:pic>
          <p:nvPicPr>
            <p:cNvPr id="139" name="Picture 9" descr="Эдвард Дженнер"/>
            <p:cNvPicPr/>
            <p:nvPr/>
          </p:nvPicPr>
          <p:blipFill>
            <a:blip r:embed="rId1"/>
            <a:stretch/>
          </p:blipFill>
          <p:spPr>
            <a:xfrm>
              <a:off x="2133720" y="1295280"/>
              <a:ext cx="4886280" cy="46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10"/>
            <p:cNvSpPr/>
            <p:nvPr/>
          </p:nvSpPr>
          <p:spPr>
            <a:xfrm>
              <a:off x="2209680" y="140004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3300"/>
                  </a:solidFill>
                  <a:latin typeface="Georgia"/>
                </a:rPr>
                <a:t>Эдвард Дженне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2"/>
          <p:cNvSpPr/>
          <p:nvPr/>
        </p:nvSpPr>
        <p:spPr>
          <a:xfrm>
            <a:off x="1523880" y="563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4"/>
          <p:cNvGrpSpPr/>
          <p:nvPr/>
        </p:nvGrpSpPr>
        <p:grpSpPr>
          <a:xfrm>
            <a:off x="1295280" y="1295280"/>
            <a:ext cx="6394680" cy="4838760"/>
            <a:chOff x="1295280" y="1295280"/>
            <a:chExt cx="6394680" cy="4838760"/>
          </a:xfrm>
        </p:grpSpPr>
        <p:pic>
          <p:nvPicPr>
            <p:cNvPr id="143" name="Picture 8" descr="Эдвард Дженнер - борец против ОСПЫ"/>
            <p:cNvPicPr/>
            <p:nvPr/>
          </p:nvPicPr>
          <p:blipFill>
            <a:blip r:embed="rId2"/>
            <a:stretch/>
          </p:blipFill>
          <p:spPr>
            <a:xfrm>
              <a:off x="1295280" y="1295280"/>
              <a:ext cx="6394680" cy="48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3"/>
            <p:cNvSpPr/>
            <p:nvPr/>
          </p:nvSpPr>
          <p:spPr>
            <a:xfrm>
              <a:off x="1460520" y="1371600"/>
              <a:ext cx="59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a8"/>
                  </a:solidFill>
                  <a:latin typeface="Georgia"/>
                </a:rPr>
                <a:t>Эдвард Дженнер - борец против ос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6"/>
          <p:cNvGrpSpPr/>
          <p:nvPr/>
        </p:nvGrpSpPr>
        <p:grpSpPr>
          <a:xfrm>
            <a:off x="5308560" y="2743200"/>
            <a:ext cx="3683160" cy="3976560"/>
            <a:chOff x="5308560" y="2743200"/>
            <a:chExt cx="3683160" cy="3976560"/>
          </a:xfrm>
        </p:grpSpPr>
        <p:pic>
          <p:nvPicPr>
            <p:cNvPr id="146" name="Picture 6" descr="Луи Пастер ( Lui Paster"/>
            <p:cNvPicPr/>
            <p:nvPr/>
          </p:nvPicPr>
          <p:blipFill>
            <a:blip r:embed="rId3"/>
            <a:stretch/>
          </p:blipFill>
          <p:spPr>
            <a:xfrm>
              <a:off x="5308560" y="2743200"/>
              <a:ext cx="368316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5"/>
            <p:cNvSpPr/>
            <p:nvPr/>
          </p:nvSpPr>
          <p:spPr>
            <a:xfrm>
              <a:off x="5522040" y="6173640"/>
              <a:ext cx="21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3300"/>
                  </a:solidFill>
                  <a:latin typeface="Georgia"/>
                </a:rPr>
                <a:t>Луи Пасте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5029200" y="1981080"/>
            <a:ext cx="3965400" cy="4724280"/>
            <a:chOff x="5029200" y="1981080"/>
            <a:chExt cx="3965400" cy="4724280"/>
          </a:xfrm>
        </p:grpSpPr>
        <p:pic>
          <p:nvPicPr>
            <p:cNvPr id="149" name="Picture 7" descr="Луи Пастер ( Lui Paster"/>
            <p:cNvPicPr/>
            <p:nvPr/>
          </p:nvPicPr>
          <p:blipFill>
            <a:blip r:embed="rId4"/>
            <a:stretch/>
          </p:blipFill>
          <p:spPr>
            <a:xfrm>
              <a:off x="5029200" y="1981080"/>
              <a:ext cx="39654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7"/>
            <p:cNvSpPr/>
            <p:nvPr/>
          </p:nvSpPr>
          <p:spPr>
            <a:xfrm>
              <a:off x="6004080" y="6095880"/>
              <a:ext cx="21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Georgia"/>
                </a:rPr>
                <a:t>Луи Пасте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lus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52280" y="1522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Будьте здоровы!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4876920" y="5562720"/>
            <a:ext cx="3352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ививок!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53" name="Picture 6" descr="вакцина2"/>
          <p:cNvPicPr/>
          <p:nvPr/>
        </p:nvPicPr>
        <p:blipFill>
          <a:blip r:embed="rId1"/>
          <a:stretch/>
        </p:blipFill>
        <p:spPr>
          <a:xfrm>
            <a:off x="380880" y="1574640"/>
            <a:ext cx="4038840" cy="2692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hem_lechit_deti2"/>
          <p:cNvPicPr/>
          <p:nvPr/>
        </p:nvPicPr>
        <p:blipFill>
          <a:blip r:embed="rId2"/>
          <a:stretch/>
        </p:blipFill>
        <p:spPr>
          <a:xfrm>
            <a:off x="4876920" y="1219320"/>
            <a:ext cx="3614760" cy="4267080"/>
          </a:xfrm>
          <a:prstGeom prst="rect">
            <a:avLst/>
          </a:prstGeom>
          <a:ln w="0">
            <a:noFill/>
          </a:ln>
        </p:spPr>
      </p:pic>
      <p:sp>
        <p:nvSpPr>
          <p:cNvPr id="155" name="WordArt 8"/>
          <p:cNvSpPr txBox="1"/>
          <p:nvPr/>
        </p:nvSpPr>
        <p:spPr>
          <a:xfrm>
            <a:off x="304920" y="4419720"/>
            <a:ext cx="4038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Не бойтесь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врач"/>
          <p:cNvPicPr/>
          <p:nvPr/>
        </p:nvPicPr>
        <p:blipFill>
          <a:blip r:embed="rId1"/>
          <a:stretch/>
        </p:blipFill>
        <p:spPr>
          <a:xfrm>
            <a:off x="7143840" y="76320"/>
            <a:ext cx="2000160" cy="2057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8839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невосприимчивость организма к инфекционным агентам и чужеродным веществам, несущим чужеродную генетическую информацию. Наиболее частым проявлением И. является невосприимчивость организма к инфекционным заболева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80" indent="136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150000"/>
              <a:buFont typeface="Web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Врождённый 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— невосприимчивость, связанная с врождёнными биологическими особенностями организма, например И. человека к чуме собак и чуме рогатого скота или И. животных к гонорее и прока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80" indent="136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150000"/>
              <a:buFont typeface="Web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Приобретённый 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— невосприимчивость организма к инфекционным заболеваниям, возникающая в течение жизни организма. Различают естественный и искусственный приобретённый 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" indent="136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150000"/>
              <a:buFont typeface="Web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е эти формы И. могут быть </a:t>
            </a: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активным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(организм сам вырабатывает антитела после перенесённого заболевания) и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ассивным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(за счёт готовых антител, искусственно вводимых в организм). </a:t>
            </a: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Активный 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более стойкий и более длительный. При некоторых заболеваниях (например, оспе) он сохраняется всю жизнь, при других (например, корь, скарлатина и т. п.) — многие годы, но по наследству не передаётся. </a:t>
            </a: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Пассивный 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наступает через несколько часов после введения антител и продолжается от 2—3 недель до нескольких меся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533520" y="15228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ммунитет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_orig_434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тод создания искусственного иммунитета у людей и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150000"/>
              <a:buFont typeface="Web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Georgia"/>
              </a:rPr>
              <a:t>Активная И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заключается во введении в организм антигенов. Наиболее широко распространённая форма активной И. — вакцинация, т. е. применение вакцин — препаратов, получаемых из микроорганизмов (бактерий и вирусов) или продуктов их жизнедеятельности (токсинов) для профилактики инфекционных болезней среди людей и животных. Для создания иммунитета антиген обычно вводят несколько раз. Очень эффективны отдалённые и повторные И., проводимые с интервалом в несколько месяцев или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150000"/>
              <a:buFont typeface="Web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Georgia"/>
              </a:rPr>
              <a:t>Пассивную И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проводят введением сывороток или порций  крови иммунных животных и людей подкожно, внутримышечно, а в неотложных случаях — внутривенно. Такие препараты содержат готовые антитела, которые нейтрализуют токсин, убивают возбудителя и препятствуют его распространению. Пассивная И. создаёт кратковременный иммунитет (до 1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мес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); к ней прибегают для предупреждения заболевания в случае контакта с источником инфекции [при кори, дифтерии, столбняке, газовой гангрене, чуме, сибирской язве, гриппе и пр.]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150000"/>
              <a:buFont typeface="Web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огда применяют </a:t>
            </a:r>
            <a:r>
              <a:rPr b="1" i="1" lang="ru-RU" sz="1800" spc="-1" strike="noStrike">
                <a:solidFill>
                  <a:srgbClr val="660066"/>
                </a:solidFill>
                <a:latin typeface="Georgia"/>
              </a:rPr>
              <a:t>комбинированную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660066"/>
                </a:solidFill>
                <a:latin typeface="Georgia"/>
              </a:rPr>
              <a:t>И.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сначала вводят иммунную сыворотку, которая помогает больному справиться с инфекцией, а затем вакцину, создающую стойкий иммуни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533520" y="15228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ммунизация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4" name="Picture 5" descr="врач"/>
          <p:cNvPicPr/>
          <p:nvPr/>
        </p:nvPicPr>
        <p:blipFill>
          <a:blip r:embed="rId1"/>
          <a:stretch/>
        </p:blipFill>
        <p:spPr>
          <a:xfrm>
            <a:off x="7413480" y="0"/>
            <a:ext cx="1730520" cy="17114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К первичным признакам снижения иммунитета относятс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80" indent="13680">
              <a:lnSpc>
                <a:spcPct val="80000"/>
              </a:lnSpc>
              <a:spcBef>
                <a:spcPts val="550"/>
              </a:spcBef>
              <a:buClr>
                <a:srgbClr val="cc0066"/>
              </a:buClr>
              <a:buSzPct val="11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хроническая усталос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13680">
              <a:lnSpc>
                <a:spcPct val="80000"/>
              </a:lnSpc>
              <a:spcBef>
                <a:spcPts val="550"/>
              </a:spcBef>
              <a:buClr>
                <a:srgbClr val="cc0066"/>
              </a:buClr>
              <a:buSzPct val="11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быстрая утомляем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13680">
              <a:lnSpc>
                <a:spcPct val="80000"/>
              </a:lnSpc>
              <a:spcBef>
                <a:spcPts val="550"/>
              </a:spcBef>
              <a:buClr>
                <a:srgbClr val="cc0066"/>
              </a:buClr>
              <a:buSzPct val="11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головные б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13680">
              <a:lnSpc>
                <a:spcPct val="80000"/>
              </a:lnSpc>
              <a:spcBef>
                <a:spcPts val="550"/>
              </a:spcBef>
              <a:buClr>
                <a:srgbClr val="cc0066"/>
              </a:buClr>
              <a:buSzPct val="11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сонливость или бессонниц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13680">
              <a:lnSpc>
                <a:spcPct val="80000"/>
              </a:lnSpc>
              <a:spcBef>
                <a:spcPts val="550"/>
              </a:spcBef>
              <a:buClr>
                <a:srgbClr val="cc0066"/>
              </a:buClr>
              <a:buSzPct val="11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ломота в мышцах и суставах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13680">
              <a:lnSpc>
                <a:spcPct val="80000"/>
              </a:lnSpc>
              <a:spcBef>
                <a:spcPts val="550"/>
              </a:spcBef>
              <a:buClr>
                <a:srgbClr val="cc0066"/>
              </a:buClr>
              <a:buSzPct val="11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частые простудные заболевания, которые длятся больше 2 недель. Беспокоиться нужно, если взрослые болеют ими чаще 5 раз в год, а дети — чаще 6 раз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13680">
              <a:lnSpc>
                <a:spcPct val="80000"/>
              </a:lnSpc>
              <a:spcBef>
                <a:spcPts val="550"/>
              </a:spcBef>
              <a:buClr>
                <a:srgbClr val="cc0066"/>
              </a:buClr>
              <a:buSzPct val="11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обратить внимание следует также на гнойные заболевания полости рта и носоглотки, которые часто повторяются. О снижении иммунитета свидетельствует также длительная субфебрильная температура (37-38 градусов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13680">
              <a:lnSpc>
                <a:spcPct val="80000"/>
              </a:lnSpc>
              <a:spcBef>
                <a:spcPts val="550"/>
              </a:spcBef>
              <a:buClr>
                <a:srgbClr val="cc0066"/>
              </a:buClr>
              <a:buSzPct val="11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частые обострения герпес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13680">
              <a:lnSpc>
                <a:spcPct val="80000"/>
              </a:lnSpc>
              <a:spcBef>
                <a:spcPts val="550"/>
              </a:spcBef>
              <a:buClr>
                <a:srgbClr val="cc0066"/>
              </a:buClr>
              <a:buSzPct val="11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и неполадки в работе желудочно-кишечного трак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533520" y="152280"/>
            <a:ext cx="8381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изнаки снижения иммунитета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7" name="Picture 5" descr="vrac"/>
          <p:cNvPicPr/>
          <p:nvPr/>
        </p:nvPicPr>
        <p:blipFill>
          <a:blip r:embed="rId1"/>
          <a:stretch/>
        </p:blipFill>
        <p:spPr>
          <a:xfrm>
            <a:off x="5562720" y="1603440"/>
            <a:ext cx="3257280" cy="1901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08-28kok1"/>
          <p:cNvPicPr/>
          <p:nvPr/>
        </p:nvPicPr>
        <p:blipFill>
          <a:blip r:embed="rId1"/>
          <a:stretch/>
        </p:blipFill>
        <p:spPr>
          <a:xfrm>
            <a:off x="152280" y="3959280"/>
            <a:ext cx="3962520" cy="27003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1920" y="838080"/>
            <a:ext cx="48769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1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" indent="12240">
              <a:lnSpc>
                <a:spcPct val="80000"/>
              </a:lnSpc>
              <a:spcBef>
                <a:spcPts val="649"/>
              </a:spcBef>
              <a:buClr>
                <a:srgbClr val="cc0066"/>
              </a:buClr>
              <a:buSzPct val="11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лохие экологические условия и радиа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" indent="12240">
              <a:lnSpc>
                <a:spcPct val="80000"/>
              </a:lnSpc>
              <a:spcBef>
                <a:spcPts val="649"/>
              </a:spcBef>
              <a:buClr>
                <a:srgbClr val="cc0066"/>
              </a:buClr>
              <a:buSzPct val="11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Неполноценное пита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" indent="12240">
              <a:lnSpc>
                <a:spcPct val="80000"/>
              </a:lnSpc>
              <a:spcBef>
                <a:spcPts val="649"/>
              </a:spcBef>
              <a:buClr>
                <a:srgbClr val="cc0066"/>
              </a:buClr>
              <a:buSzPct val="11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Недостаток витаминов и микроэлемен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" indent="12240">
              <a:lnSpc>
                <a:spcPct val="80000"/>
              </a:lnSpc>
              <a:spcBef>
                <a:spcPts val="649"/>
              </a:spcBef>
              <a:buClr>
                <a:srgbClr val="cc0066"/>
              </a:buClr>
              <a:buSzPct val="11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ем антибиоти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" indent="12240">
              <a:lnSpc>
                <a:spcPct val="80000"/>
              </a:lnSpc>
              <a:spcBef>
                <a:spcPts val="649"/>
              </a:spcBef>
              <a:buClr>
                <a:srgbClr val="cc0066"/>
              </a:buClr>
              <a:buSzPct val="11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остоянные стресс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533520" y="76320"/>
            <a:ext cx="8381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ичины снижения иммунитета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343400" y="37688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11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Физические и умственные перегру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SzPct val="11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ирусные инфекции, микробы, бакт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SzPct val="11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Хроническое недосып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SzPct val="11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редные привы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SzPct val="11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Дисбактери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SzPct val="11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3369dd90ae"/>
          <p:cNvPicPr/>
          <p:nvPr/>
        </p:nvPicPr>
        <p:blipFill>
          <a:blip r:embed="rId2"/>
          <a:stretch/>
        </p:blipFill>
        <p:spPr>
          <a:xfrm>
            <a:off x="5334120" y="1219320"/>
            <a:ext cx="3657600" cy="243828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p:transition spd="med">
    <p:plus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33a4ad523530526756d81432120f72c9"/>
          <p:cNvPicPr/>
          <p:nvPr/>
        </p:nvPicPr>
        <p:blipFill>
          <a:blip r:embed="rId1"/>
          <a:stretch/>
        </p:blipFill>
        <p:spPr>
          <a:xfrm>
            <a:off x="5543640" y="1371600"/>
            <a:ext cx="3448080" cy="2428920"/>
          </a:xfrm>
          <a:prstGeom prst="rect">
            <a:avLst/>
          </a:prstGeom>
          <a:ln w="57240">
            <a:solidFill>
              <a:srgbClr val="cc0066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5029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1. Правильное пит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2. Витамины и минерал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3. Пробиот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4. Закаливание организ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5. Природные сред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6. Активный образ жиз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7. Расслабл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8. Борьба с дисбактериоз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9. Полноценный с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304920" y="152280"/>
            <a:ext cx="8458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особы укрепления иммунитета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16" name="Picture 5" descr="160913m"/>
          <p:cNvPicPr/>
          <p:nvPr/>
        </p:nvPicPr>
        <p:blipFill>
          <a:blip r:embed="rId2"/>
          <a:stretch/>
        </p:blipFill>
        <p:spPr>
          <a:xfrm>
            <a:off x="4572000" y="3962520"/>
            <a:ext cx="4419720" cy="2800080"/>
          </a:xfrm>
          <a:prstGeom prst="rect">
            <a:avLst/>
          </a:prstGeom>
          <a:ln w="57240">
            <a:solidFill>
              <a:srgbClr val="cc0066"/>
            </a:solidFill>
            <a:miter/>
          </a:ln>
        </p:spPr>
      </p:pic>
    </p:spTree>
  </p:cSld>
  <p:transition spd="med"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685800" y="228600"/>
            <a:ext cx="6858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Немного истории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18" name="Picture 5" descr="dhfx 2"/>
          <p:cNvPicPr/>
          <p:nvPr/>
        </p:nvPicPr>
        <p:blipFill>
          <a:blip r:embed="rId1"/>
          <a:stretch/>
        </p:blipFill>
        <p:spPr>
          <a:xfrm>
            <a:off x="7238880" y="3733920"/>
            <a:ext cx="1747800" cy="30477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228600" y="1109880"/>
            <a:ext cx="891540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 </a:t>
            </a: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1876 г.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Роберт Кох сделал великое открытие: первым описал жизненный цикл микроба, вызывающего у домашних животных страшное заболевание — сибирскую яз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 </a:t>
            </a: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1879 г.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Альберт Нейссер обнаружил первого микроба из группы кокков — гонокок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 </a:t>
            </a: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1880 г.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были открыты брюшнотифозная палочка и стафилококк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52280" y="3733920"/>
            <a:ext cx="70866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 </a:t>
            </a: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1881 г.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— были открыты пневмококк и стрептококк — возбудители сапа и туберкулё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 </a:t>
            </a: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1884 г.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ученик Коха Лёффлер обнаружил дифтерийную палоч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 мире наступил </a:t>
            </a: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«бактериологический бум»,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микроскопы исследователей были объявлены спасителями человечества, не только широкая пресса, но и писатели превозносили охотников за микроб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2743200" y="609480"/>
            <a:ext cx="3925800" cy="5357880"/>
            <a:chOff x="2743200" y="609480"/>
            <a:chExt cx="3925800" cy="5357880"/>
          </a:xfrm>
        </p:grpSpPr>
        <p:pic>
          <p:nvPicPr>
            <p:cNvPr id="122" name="Picture 9" descr="Роберт КОХ"/>
            <p:cNvPicPr/>
            <p:nvPr/>
          </p:nvPicPr>
          <p:blipFill>
            <a:blip r:embed="rId2"/>
            <a:stretch/>
          </p:blipFill>
          <p:spPr>
            <a:xfrm>
              <a:off x="2743200" y="609480"/>
              <a:ext cx="3925800" cy="53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0"/>
            <p:cNvSpPr/>
            <p:nvPr/>
          </p:nvSpPr>
          <p:spPr>
            <a:xfrm>
              <a:off x="2819520" y="548640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3300"/>
                  </a:solidFill>
                  <a:latin typeface="Georgia"/>
                </a:rPr>
                <a:t>Роберт                      Ко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lus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вакцина2"/>
          <p:cNvPicPr/>
          <p:nvPr/>
        </p:nvPicPr>
        <p:blipFill>
          <a:blip r:embed="rId1"/>
          <a:stretch/>
        </p:blipFill>
        <p:spPr>
          <a:xfrm>
            <a:off x="152280" y="914400"/>
            <a:ext cx="4229280" cy="28195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4"/>
          <p:cNvSpPr txBox="1"/>
          <p:nvPr/>
        </p:nvSpPr>
        <p:spPr>
          <a:xfrm>
            <a:off x="228600" y="15228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ак помочь организму?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209680" y="138672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8"/>
                </a:solidFill>
                <a:latin typeface="Georgia"/>
              </a:rPr>
              <a:t>Профилактические прививки – наиболее эффективный способ предупреждения многих инфекционных заболева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52280" y="3732120"/>
            <a:ext cx="8915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Прививка вызывает в организме </a:t>
            </a:r>
            <a:r>
              <a:rPr b="1" i="1" lang="ru-RU" sz="2200" spc="-1" strike="noStrike">
                <a:solidFill>
                  <a:srgbClr val="cc0066"/>
                </a:solidFill>
                <a:latin typeface="Georgia"/>
              </a:rPr>
              <a:t>невосприимчивость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 – иммунитет к заболеванию. Бывают случаи, когда привитой человек может </a:t>
            </a:r>
            <a:r>
              <a:rPr b="1" i="1" lang="ru-RU" sz="2200" spc="-1" strike="noStrike">
                <a:solidFill>
                  <a:srgbClr val="cc0066"/>
                </a:solidFill>
                <a:latin typeface="Georgia"/>
              </a:rPr>
              <a:t>заболеть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 при встрече с инфекцией, но заболевание будет протекать </a:t>
            </a:r>
            <a:r>
              <a:rPr b="1" i="1" lang="ru-RU" sz="2200" spc="-1" strike="noStrike">
                <a:solidFill>
                  <a:srgbClr val="cc0066"/>
                </a:solidFill>
                <a:latin typeface="Georgia"/>
              </a:rPr>
              <a:t>легко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ru-RU" sz="2200" spc="-1" strike="noStrike">
                <a:solidFill>
                  <a:srgbClr val="cc0066"/>
                </a:solidFill>
                <a:latin typeface="Georgia"/>
              </a:rPr>
              <a:t>без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 осложнений. Может быть местная или общая реакция на прививку в виде повышения температуры и покраснения кожи на месте инъекции. Это говорит о том, что организм ответил на вакцинацию, и специальное лечение не требу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01</cp:lastModifiedBy>
  <dcterms:modified xsi:type="dcterms:W3CDTF">2015-02-28T14:19:3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