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2C05-63F9-4315-BFA1-2F755DB7F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605-CCCB-4E02-B541-38CB6B52E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5F4-584C-4FFA-B8E1-E8E5699C1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D2AE-80F9-4904-946D-F2EC5B553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67B-1C7F-4BE6-8F84-C6E654AA3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8453-B21A-4871-B9B9-BAF73D806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556-5AA6-49C5-A675-0BF2B8F6A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CD1-B0C3-4B35-8052-00439191C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0132-0B4D-45D1-891D-40D04FD7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A73-A739-4B8A-8A77-E59860637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753-4B62-43D8-9408-06EDD05B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7A7-C15D-4A7F-8852-110DB41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27AD-8C40-4579-ADB2-65E6510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6F245-2C21-4C20-AA85-3E53537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0141F-CBBB-459B-BB48-8383FBC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777D-B91E-4B11-8A40-0F1795F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44703-BE80-4EA9-BA24-765F922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19F4-E9FF-4538-A087-0DDBCAC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407C7-18C8-4F85-8319-F156528B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AE5DC-C7AE-4B33-870F-B6EA599D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4E82-15D5-4178-86F9-37199888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8F0-A54C-4E47-9DCC-2801FBB5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640-F3E0-46B0-8D67-DBE91E3A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DB41-92B0-462A-A3C4-67B42E9D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BFD8-0E75-4816-A090-DC556EAC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AA58-BE4C-4F0F-83EF-CAF57221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5449-45FB-47B6-9902-1DA7479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1D2-F929-415E-BE2B-0DC93BE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2E6-1D01-4B48-AA9E-87C183D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382-D782-4CDF-BB72-8712A35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703-4FAE-41A3-A3C3-141BF15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EB5C-7B35-46BB-9512-951D8DE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3E2B-AC0F-47B1-8737-F1D42E7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9A04-E8A2-4819-9483-99322BE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8EFF-7331-4E8B-B6B2-41753409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643-ED40-4D6A-AAA1-AD00C5F9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BFAE-91B2-4FFD-B5A5-22569596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B523-3B42-4443-8B67-0BBC99F2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E5B3-3F74-4E66-8B19-D80BDDBC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BCCD-459E-46E1-A04A-2FDA932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9236-35D5-4253-BC02-FAD4EECF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D77-0369-4356-ACD6-CB14C370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B013-4844-4048-B1A0-EDA6E18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308A-C20F-4207-9871-76EBC71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951F-21F1-49AF-B37C-B99B5B1B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533E-2D22-4791-9C95-770C37B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F2D0-C8BC-4E73-B7E7-F6333DE3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E7FC-1CEC-47CF-A459-53E02EA9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9E4C-EB3A-4155-B3D0-CA43F536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9C56-1E2A-45B4-8EED-BB9B2DD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E11E-2AFA-4E83-803F-976A8840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4546-F3FB-48BD-A8A0-8FD077D9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761-C4BD-4688-BEAA-4CA25FA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3A79-73DD-4FD5-9E9A-988A99DF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AFC2-C340-4C15-9ECA-362B2CF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90EB-D530-46E6-9851-150E942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51EE-9EB3-4D00-B942-4DC2055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774B-2053-4554-BDB7-8382994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E028-BF0E-4E7A-8E37-F5AFAA77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6A53-FDDD-44EC-9BB3-1A412C9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E442-437B-4713-973C-79F10D7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44D9-D96F-42AD-B6EE-F40A4141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F808-3778-4F33-B29E-8AF585C4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75A-39C8-4D33-9284-7AB9058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0A05-C23B-4F68-9B66-8B40A8CB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9DC79-5FE5-40F6-B5E1-994D4C12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7C7D-449D-48BD-B700-8F2D3E6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3F44-FB25-4387-BA61-BAD4009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13EA-A288-43EA-B7DD-692A2B5F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F8E9-AA80-4447-918B-B6DD82A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E7BD-B88B-4EB2-9955-A1FA3E6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769D-E193-4DA5-BE44-A9CD2FE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9170-A152-40EA-9146-A86E662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9255-946C-488F-91F3-5CAD7D1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0CB-ED00-44D8-A7EC-1CDAF218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944A-7B9A-49F6-801A-4D52EC60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B033-1340-48B6-9AA0-67FE6B9C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CE7B5-F9C9-4875-A151-F9510CF3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D2B7-A8DB-4E04-85F9-BDD257F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0D58-66A4-48E3-A0D3-DE5FD678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F9328-4119-4FF4-B2A0-79EBAC2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593B-464C-4B86-9216-35D3B34B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E2CA-8F29-44C4-85F8-822D2FF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D100-EAB4-4817-A203-05989D9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E194-228B-42EA-AC66-4CF25AD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BE4-1B9B-4F33-9471-618EDB1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B4D29-3A6C-4369-A931-14BD8F9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C4C6-A007-4B10-A4CD-C337368D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50E9-55EB-4627-885D-A6BA8396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F4BC-C0C9-44C4-BED1-E0F65D4E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37B7-D4C8-4167-AF48-445DA684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10DD-7E7C-41CB-95DC-D7D63ED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8E8A-D03F-47E9-A58E-33B68F6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9164-C09A-4AA0-BFA2-2FB83406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C99B-E000-42E3-8CFB-C725CAA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6ACB4-9941-4895-9B41-DBF680A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887-70E6-42EC-9FCC-E5E8D19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F084-3B1B-4734-8F29-A77AA6C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4A4D4-2AD7-41AD-B96E-E46C712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7101D-E9CB-4F7F-8913-6D7703F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FF29-4042-45CC-9E4C-03D429D3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B4321-5455-4169-BE0D-6C7B4DA6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9884-BF1E-433E-8AA4-E8C923CF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9C48-A6B4-4063-892F-EA2B038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BEDA-0C6A-495A-9783-5CC01717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8E9A9-0773-41C3-B55A-A7272FE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AF14-D9FF-48EB-8B74-7C5FD5F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140-94A3-4DFC-AD9F-3EC88E1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F1C8-1E1F-483E-8A78-5AD954D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59CB-34D7-4FBB-9218-850605A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F916-7040-4820-968D-AF0A4C4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A797B-4BBA-426F-8EC5-CAAD3BE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49CFA-B604-40E7-8A81-83170BF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B942-6497-43E7-BB46-D5AFEFE0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1BDFD-09B6-47CA-849A-57B6DD3F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2C70-9A85-4B2F-9BDB-A7277ADC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4E13D-18B7-416F-A1CC-2188159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E5AB2-3017-4A73-8D10-EE927AD6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D6D-C4D0-4C12-A076-81B697037980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3679-FE0E-4AAF-88C8-F583083BDDA9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2D9C-11F3-4F3B-9CC0-ACC9537039BA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1ADE-3FB6-4F1C-8A68-DE84402F8530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CE56-4D0D-4051-B954-949380CE4E62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464-34FD-41D4-BFBE-0B2BEBFE858C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271-3BA3-4075-90DB-5AA2709ED560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474-841B-4CF8-AA0A-E7AD4A2EA0E4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5EB-A49A-41E2-BFDA-DC04E54BB846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5" descr=""/>
          <p:cNvPicPr/>
          <p:nvPr/>
        </p:nvPicPr>
        <p:blipFill>
          <a:blip r:embed="rId1"/>
          <a:stretch/>
        </p:blipFill>
        <p:spPr>
          <a:xfrm>
            <a:off x="103320" y="1908000"/>
            <a:ext cx="90471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1047600"/>
            <a:ext cx="8699400" cy="781200"/>
          </a:xfrm>
          <a:prstGeom prst="rect">
            <a:avLst/>
          </a:prstGeom>
          <a:ln w="0">
            <a:noFill/>
          </a:ln>
        </p:spPr>
      </p:pic>
      <p:pic>
        <p:nvPicPr>
          <p:cNvPr id="408" name="Схема 5" descr=""/>
          <p:cNvPicPr/>
          <p:nvPr/>
        </p:nvPicPr>
        <p:blipFill>
          <a:blip r:embed="rId2"/>
          <a:stretch/>
        </p:blipFill>
        <p:spPr>
          <a:xfrm>
            <a:off x="1530360" y="2127240"/>
            <a:ext cx="61326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90600" y="66600"/>
            <a:ext cx="8448480" cy="99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1\Documents\Методическая неделя\DSC_0070.JPG"/>
          <p:cNvPicPr/>
          <p:nvPr/>
        </p:nvPicPr>
        <p:blipFill>
          <a:blip r:embed="rId2"/>
          <a:stretch/>
        </p:blipFill>
        <p:spPr>
          <a:xfrm>
            <a:off x="2771640" y="2276640"/>
            <a:ext cx="3357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Схема 5" descr=""/>
          <p:cNvPicPr/>
          <p:nvPr/>
        </p:nvPicPr>
        <p:blipFill>
          <a:blip r:embed="rId1"/>
          <a:stretch/>
        </p:blipFill>
        <p:spPr>
          <a:xfrm>
            <a:off x="590400" y="171360"/>
            <a:ext cx="7529760" cy="18334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" descr="P1020011.JPG"/>
          <p:cNvPicPr/>
          <p:nvPr/>
        </p:nvPicPr>
        <p:blipFill>
          <a:blip r:embed="rId2"/>
          <a:stretch/>
        </p:blipFill>
        <p:spPr>
          <a:xfrm>
            <a:off x="2868480" y="270828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Схема 3" descr=""/>
          <p:cNvPicPr/>
          <p:nvPr/>
        </p:nvPicPr>
        <p:blipFill>
          <a:blip r:embed="rId1"/>
          <a:stretch/>
        </p:blipFill>
        <p:spPr>
          <a:xfrm>
            <a:off x="231840" y="182520"/>
            <a:ext cx="8680320" cy="2316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Пользователь\Мои документы\Последние фотки с панасоника\P1110102.JPG"/>
          <p:cNvPicPr/>
          <p:nvPr/>
        </p:nvPicPr>
        <p:blipFill>
          <a:blip r:embed="rId2"/>
          <a:stretch/>
        </p:blipFill>
        <p:spPr>
          <a:xfrm>
            <a:off x="1403280" y="2565360"/>
            <a:ext cx="2737080" cy="2050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C:\Documents and Settings\Пользователь\Мои документы\Последние фотки с панасоника\P1110107.JPG"/>
          <p:cNvPicPr/>
          <p:nvPr/>
        </p:nvPicPr>
        <p:blipFill>
          <a:blip r:embed="rId3"/>
          <a:stretch/>
        </p:blipFill>
        <p:spPr>
          <a:xfrm>
            <a:off x="6205680" y="2565360"/>
            <a:ext cx="268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хема 1" descr=""/>
          <p:cNvPicPr/>
          <p:nvPr/>
        </p:nvPicPr>
        <p:blipFill>
          <a:blip r:embed="rId1"/>
          <a:stretch/>
        </p:blipFill>
        <p:spPr>
          <a:xfrm>
            <a:off x="1096920" y="171360"/>
            <a:ext cx="6735960" cy="1333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Пользователь\Мои документы\Последние фотки с панасоника\P1110112.JPG"/>
          <p:cNvPicPr/>
          <p:nvPr/>
        </p:nvPicPr>
        <p:blipFill>
          <a:blip r:embed="rId2"/>
          <a:stretch/>
        </p:blipFill>
        <p:spPr>
          <a:xfrm>
            <a:off x="3132000" y="1844640"/>
            <a:ext cx="2460600" cy="1846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Documents and Settings\Пользователь\Мои документы\Последние фотки с панасоника\P1110113.JPG"/>
          <p:cNvPicPr/>
          <p:nvPr/>
        </p:nvPicPr>
        <p:blipFill>
          <a:blip r:embed="rId3"/>
          <a:stretch/>
        </p:blipFill>
        <p:spPr>
          <a:xfrm>
            <a:off x="468360" y="3933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Пользователь\Мои документы\Последние фотки с панасоника\P1110126.JPG"/>
          <p:cNvPicPr/>
          <p:nvPr/>
        </p:nvPicPr>
        <p:blipFill>
          <a:blip r:embed="rId4"/>
          <a:stretch/>
        </p:blipFill>
        <p:spPr>
          <a:xfrm>
            <a:off x="5796000" y="4005360"/>
            <a:ext cx="2398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хема 3" descr=""/>
          <p:cNvPicPr/>
          <p:nvPr/>
        </p:nvPicPr>
        <p:blipFill>
          <a:blip r:embed="rId1"/>
          <a:stretch/>
        </p:blipFill>
        <p:spPr>
          <a:xfrm>
            <a:off x="92160" y="244440"/>
            <a:ext cx="8893080" cy="82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Пользователь\Мои документы\Последние фотки с панасоника\P1110105.JPG"/>
          <p:cNvPicPr/>
          <p:nvPr/>
        </p:nvPicPr>
        <p:blipFill>
          <a:blip r:embed="rId2"/>
          <a:stretch/>
        </p:blipFill>
        <p:spPr>
          <a:xfrm>
            <a:off x="1258920" y="3141720"/>
            <a:ext cx="259380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697960" cy="8542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" descr="C:\Documents and Settings\Пользователь\Local Settings\Temporary Internet Files\Content.Word\Отсканировано 21.02.2015 14-50.jpg"/>
          <p:cNvPicPr/>
          <p:nvPr/>
        </p:nvPicPr>
        <p:blipFill>
          <a:blip r:embed="rId2"/>
          <a:stretch/>
        </p:blipFill>
        <p:spPr>
          <a:xfrm>
            <a:off x="250920" y="1125360"/>
            <a:ext cx="2520720" cy="18288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Пользователь\Local Settings\Temporary Internet Files\Content.Word\Отсканировано 21.02.2015 14-50 (2).jpg"/>
          <p:cNvPicPr/>
          <p:nvPr/>
        </p:nvPicPr>
        <p:blipFill>
          <a:blip r:embed="rId3"/>
          <a:stretch/>
        </p:blipFill>
        <p:spPr>
          <a:xfrm>
            <a:off x="6413400" y="4581360"/>
            <a:ext cx="2551320" cy="1800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" descr="C:\Documents and Settings\Пользователь\Local Settings\Temporary Internet Files\Content.Word\Отсканировано 20.01.2015 20-18 (3).jpg"/>
          <p:cNvPicPr/>
          <p:nvPr/>
        </p:nvPicPr>
        <p:blipFill>
          <a:blip r:embed="rId4"/>
          <a:stretch/>
        </p:blipFill>
        <p:spPr>
          <a:xfrm>
            <a:off x="3389400" y="1916280"/>
            <a:ext cx="2187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697960" cy="993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Users\1\Documents\Методическая неделя\DSC_0014.JPG"/>
          <p:cNvPicPr/>
          <p:nvPr/>
        </p:nvPicPr>
        <p:blipFill>
          <a:blip r:embed="rId2"/>
          <a:stretch/>
        </p:blipFill>
        <p:spPr>
          <a:xfrm>
            <a:off x="1908000" y="4365720"/>
            <a:ext cx="2521080" cy="1676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Users\1\Documents\Методическая неделя\DSC_0016.JPG"/>
          <p:cNvPicPr/>
          <p:nvPr/>
        </p:nvPicPr>
        <p:blipFill>
          <a:blip r:embed="rId3"/>
          <a:stretch/>
        </p:blipFill>
        <p:spPr>
          <a:xfrm>
            <a:off x="6227640" y="1989000"/>
            <a:ext cx="270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7:45:54Z</dcterms:created>
  <dc:creator>HOME</dc:creator>
  <dc:description/>
  <dc:language>en-US</dc:language>
  <cp:lastModifiedBy>HOME</cp:lastModifiedBy>
  <dcterms:modified xsi:type="dcterms:W3CDTF">2015-02-28T13:41:46Z</dcterms:modified>
  <cp:revision>47</cp:revision>
  <dc:subject/>
  <dc:title>Использование методов формирования   универсальных учебных  действий   на   уроках иностранного языка</dc:title>
</cp:coreProperties>
</file>