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C38-2597-45FF-8C82-C38818F8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C47-8201-4283-B64C-2DC3EFBF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125-1370-4132-B031-9DD33C03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039-D260-4F21-85DA-42B9DED5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B24D-93B5-4722-98C5-A10B4BA7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BA6-F071-494E-BEE0-B06CA83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E8BE-1E5D-467A-80DF-A8B9A4B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30C7-3EEE-4EE7-93CA-474166AF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12B7-1FAF-48A6-B3AD-801B2A3A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9DDC-D412-4577-A74B-0794597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AD4A-CA46-4467-B854-EBD976ED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C07-3D67-4522-9DB7-EEF20078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92EC-BF75-4554-9DE9-8654919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4F39-ACC4-47D7-B5C5-07CC9A4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A33F-8CAE-4301-AE46-44C96A4C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2566-00ED-40EA-A4DA-623895F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144D-D920-4F49-BFF2-4F977F47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61C-F462-492F-8D91-32B6BB00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26E-CFF6-4E58-953D-E1991B5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410-4C73-4196-B6AD-39525262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8D1-33DC-4BD1-9C80-3D8F528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CFE-AA11-4690-A806-B871483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756-884C-4678-9CD5-131ADAC4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F97-8EF9-4C4E-BFD4-AD04A66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64C-8CF5-4201-A11D-343979E27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7B8-6C8E-4599-833A-DFF3FD82C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416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Афанасий </a:t>
            </a:r>
            <a:br>
              <a:rPr sz="4800"/>
            </a:b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       Афанасьевич</a:t>
            </a:r>
            <a:br>
              <a:rPr sz="4800"/>
            </a:b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             Фет</a:t>
            </a:r>
            <a:br>
              <a:rPr sz="4800"/>
            </a:b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«Я пришёл к тебе с приветом…»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6255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ришёл к тебе с привет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, что солнце вста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оно горячим све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листам затрепета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608640" cy="2703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81636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, что лес проснул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ь проснулся, веткой кажд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ой птицей встрепенул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есенней полон жажд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46418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, что с той же страст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чера, пришёл я сно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уша всё так же сча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тебе служить гото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751280" cy="356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260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, что отовсю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меня весельем ве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е знаю сам, что бу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ть,- но только песня зр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131080" cy="342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Спасибо за внимание!!!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33744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15:39:09Z</dcterms:created>
  <dc:creator>Lencik</dc:creator>
  <dc:description/>
  <dc:language>en-US</dc:language>
  <cp:lastModifiedBy>Lencik</cp:lastModifiedBy>
  <dcterms:modified xsi:type="dcterms:W3CDTF">2015-02-28T15:42:45Z</dcterms:modified>
  <cp:revision>3</cp:revision>
  <dc:subject/>
  <dc:title>          А. А. Фет      Я пришёл к тебе с приветом</dc:title>
</cp:coreProperties>
</file>