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4.jpeg" ContentType="image/jpeg"/>
  <Override PartName="/ppt/media/image5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15.gif" ContentType="image/gif"/>
  <Override PartName="/ppt/media/image7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3E734-0CD6-4988-827A-7DDA305553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41108-0A0E-448A-9317-739C4146D1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7C22-D3B7-4B17-B1BF-336F6014F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C5C6-A86A-4470-898A-755439057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59D9-D7D4-4C6C-B165-7B9501B6C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3166-BFCA-4804-953F-0DD8881CB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71B99-D033-4D19-899D-D0A8D4BAD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7E327-26E2-46C8-A2CC-754DA96D0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F1ABB-BCC9-4C97-9790-5DD90AD4D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88C0C-D2D5-407D-8EF8-1D2CDA743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6579D-049C-4AF4-A85C-DC72B7D82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8B752-7D26-47AA-82F5-2DA1674E4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67661-1E5D-4AE9-B512-1395A4C5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A480-5EC1-4345-A860-9F7762CA8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B5FF2-E3C4-4848-80A3-C24FE124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7B229-3983-4CBF-9612-09E0A6EA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2BA4C-78ED-40AE-B48B-FC7FD63FE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C298D-FB3C-44B3-8BBC-53B9AEDAA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A28A6-4C1E-4532-ADF6-A546E2E03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7ED87-5ED0-489A-A58B-86E183AD3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F10FE-F4B5-431E-B3BD-869D09A41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3D596-6225-4AA1-9F57-27A2494DD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1ABE7-45B0-4478-9BED-DA44A9429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6C486-129C-4A34-A60B-0B01E78A4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A32F-9BC0-4B53-80F7-EE790FB75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6D2C4-75C6-4D34-B7E6-617BB9091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D76FF-671D-49DF-AF78-7E80846A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C131D-4D1C-4A47-82EF-3D73D22D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74CB0-8450-4317-8D1D-E63A2CD9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FFD29-3058-4566-96A2-A5B4A8593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47C93-DAFD-48BA-8914-A8606E2BC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CCFC7-2F7F-49E0-8048-88BEB6397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9499B-DE50-4CFD-98BD-2015F55AB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408A5-A7D9-47B2-BDAA-B6550A502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DA318-C8C2-4377-822F-95BC0CAFF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2E29-8CCD-4FC5-B5FB-D5DCE4192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2018F-2E6E-4A4C-8223-965FE01BE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5EEFC-696A-40AA-98BB-7CF6D82F5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A03D6-37E8-4076-ABEF-1E427A396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D5860-9569-49D8-A75D-30DF5328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D55C0-F8BF-45D1-9A28-7CA8CF89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3A352-4BBD-496E-868D-3B1C0D67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B3697-5241-4150-9248-802CE9D40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EA7AB-588F-41E9-923D-D8F9FF3A4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17D82-CCF8-4B2D-86FB-E6AD66DB0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AB78E-4372-48DD-AF52-613280EFF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10FB-337B-4B33-AF89-B522E20D6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3B310-3AF7-4201-B209-6908635F1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E0067-300E-4751-80AE-1D11D6DA8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03537-7871-4AFB-A402-ADEEBE582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A5E36-FD40-47B4-8285-088897F0C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265F6-5D98-4E08-904D-5694CF0E6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1A5FD-CBB2-4EAA-82E2-E8D45D30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ABECB-1064-46F2-821A-5BE24117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6D7D7-9171-4783-86A9-4EB72ABD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138D1-124E-4150-BB89-91842CCB0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BFECB-63F0-48AC-B8CB-A373E52B9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3E12-8C16-4CDC-9F85-749FE55EB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7CDC8-F26F-4784-855D-267042A9B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9E86-218A-4304-9685-50AD7D18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B858-5666-40D0-9AE4-796DCC1A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304E-E243-477C-B4B1-C36EEB35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79944-B0E1-497A-88BB-C4C8B2F7D2C2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1A266-32B8-4D44-8776-C0B569D69284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E9584-C9BC-47BA-ABEA-F4693CBC7322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8FF7F-1EAF-49F3-A37E-5BC68DAF4B46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9E774-A219-4F65-96C2-291DADBC4156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Презентация на конкурс «Правила дорожного движения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алышев Михаил Сергеевич, 8 а класс, МБОУ Еткульская СОШ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428760" y="285840"/>
            <a:ext cx="842940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9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857232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8040" y="579240"/>
            <a:ext cx="3930480" cy="184932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Спозаранку за окошком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Стук и звон и кутерьма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Verdana"/>
              </a:rPr>
              <a:t>По прямым стальным 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дорожкам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Ходят красные дом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177768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Не летает, не бежит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Verdana"/>
              </a:rPr>
              <a:t>Жук по улице бежит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50"/>
                </a:solidFill>
                <a:latin typeface="Verdana"/>
              </a:rPr>
              <a:t>И горит в глазах жук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Два блестящих </a:t>
            </a:r>
            <a:r>
              <a:rPr b="1" lang="ru-RU" sz="2200" spc="-1" strike="noStrike">
                <a:solidFill>
                  <a:srgbClr val="ffff00"/>
                </a:solidFill>
                <a:latin typeface="Verdana"/>
              </a:rPr>
              <a:t>огонька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5072040" y="2571840"/>
            <a:ext cx="3357720" cy="23572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H:\транспорт\трамвай.jpg"/>
          <p:cNvPicPr/>
          <p:nvPr/>
        </p:nvPicPr>
        <p:blipFill>
          <a:blip r:embed="rId2"/>
          <a:stretch/>
        </p:blipFill>
        <p:spPr>
          <a:xfrm>
            <a:off x="785880" y="2643120"/>
            <a:ext cx="371484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285840" y="357120"/>
            <a:ext cx="857232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3280" y="5643720"/>
            <a:ext cx="81835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Азбука безопасност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14200" y="357120"/>
            <a:ext cx="8715600" cy="47865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 – асфальтом улицы мостятся, автомобили быстро мчатся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Б – бурлит в движенье мостовая, бегут авто. Спешат трамваи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 – все будьте правилам верны – держитесь правой стороны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Г – груз громоздкий и большой неси у края мостовой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 – должен помнить пешеход: перекресток – переход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Е – есть сигналы светофора – подчиняйся им без спора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Ж – желтый свет – предупрежденье – жди сигнала для движенья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 – зеленый свет открыл дорогу, переходить ребята могут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 – иди вперед, порядок знаешь на мостовой – не пострадаешь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 – красный свет нам говорит: стой, опасно, путь закрыт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Л – Леша с Любой ходят парой. Где идут по тротуара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 – марширует в садик строй, мы идем по мостовой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 – не смей на буфере кататься, не трудно с буфера сорваться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214200" y="214200"/>
            <a:ext cx="8715600" cy="6429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 – опасность ротозеев ждет около любых ворот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 – по асфальту точек стежка – пешеходная дорожка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Р – риск ненужный, так и знай, на ходу скакать в трамвай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 – совет – не доверяй сноровке, в трамвай входи на остановке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 – ты не мартышка и не кошка и не трапеция – подножка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 – ученик, садясь в трамвай, старшим место уступай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Ф – футбол – хорошая игра на стадионе, детвора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Х – хоккей – игра на льду зимой, не играй на мостовой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Ц – цеплять крючком машины борт – опасный и ненужный спорт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Ч – чтобы тебя не задавили, не висни на автомобил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Ш – шагая осторожно, за улицей следи и только там, где можно, ее переходи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Щ – щади здоровье, жизнь щади, за движением следи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Э – экзамен важного значенья держи по правилам движенья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Ю – юные граждане, Тани и Пети, твердо запомните правила эти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Я – ясно, чтобы быть здоровым, чтобы быть к труду готовым, эту азбуку, друзья, нужно знать от А до 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14200" y="4982760"/>
            <a:ext cx="8715600" cy="16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Ребята, соблюдайте правила дорожного движения!</a:t>
            </a:r>
            <a:br>
              <a:rPr sz="2800"/>
            </a:br>
            <a:br>
              <a:rPr sz="2000"/>
            </a:br>
            <a:r>
              <a:rPr b="1" lang="ru-RU" sz="2000" spc="-1" strike="noStrike">
                <a:solidFill>
                  <a:srgbClr val="00b050"/>
                </a:solidFill>
                <a:latin typeface="Verdana"/>
              </a:rPr>
              <a:t>Работа Малышева Михаила 8А класс 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2" name="Picture 4" descr="Рисунок1"/>
          <p:cNvPicPr/>
          <p:nvPr/>
        </p:nvPicPr>
        <p:blipFill>
          <a:blip r:embed="rId1"/>
          <a:stretch/>
        </p:blipFill>
        <p:spPr>
          <a:xfrm>
            <a:off x="571680" y="357120"/>
            <a:ext cx="1928520" cy="45007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" descr="H:\анимашки\baby14_1.gif"/>
          <p:cNvPicPr/>
          <p:nvPr/>
        </p:nvPicPr>
        <p:blipFill>
          <a:blip r:embed="rId2"/>
          <a:stretch/>
        </p:blipFill>
        <p:spPr>
          <a:xfrm>
            <a:off x="4286160" y="428760"/>
            <a:ext cx="335772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572000"/>
            <a:ext cx="81835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Verdana"/>
              </a:rPr>
              <a:t>Правила </a:t>
            </a:r>
            <a:r>
              <a:rPr b="1" lang="ru-RU" sz="4800" spc="-1" strike="noStrike">
                <a:solidFill>
                  <a:srgbClr val="ffff00"/>
                </a:solidFill>
                <a:latin typeface="Verdana"/>
              </a:rPr>
              <a:t>дорожного</a:t>
            </a:r>
            <a:r>
              <a:rPr b="1" lang="ru-RU" sz="4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4800" spc="-1" strike="noStrike">
                <a:solidFill>
                  <a:srgbClr val="00b050"/>
                </a:solidFill>
                <a:latin typeface="Verdana"/>
              </a:rPr>
              <a:t>движения</a:t>
            </a:r>
            <a:endParaRPr b="1" lang="en-US" sz="4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642960" y="428760"/>
            <a:ext cx="7715160" cy="4000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0040" y="4285800"/>
            <a:ext cx="818352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8d3e"/>
                </a:solidFill>
                <a:latin typeface="Verdana"/>
              </a:rPr>
              <a:t>У светофора окошечка три</a:t>
            </a:r>
            <a:br>
              <a:rPr sz="2200"/>
            </a:br>
            <a:r>
              <a:rPr b="1" lang="ru-RU" sz="2200" spc="-1" strike="noStrike">
                <a:solidFill>
                  <a:srgbClr val="ffff00"/>
                </a:solidFill>
                <a:latin typeface="Verdana"/>
              </a:rPr>
              <a:t>При переходе на них посмотри,</a:t>
            </a:r>
            <a:br>
              <a:rPr sz="2200"/>
            </a:br>
            <a:r>
              <a:rPr b="1" lang="ru-RU" sz="2200" spc="-1" strike="noStrike">
                <a:solidFill>
                  <a:srgbClr val="00b050"/>
                </a:solidFill>
                <a:latin typeface="Verdana"/>
              </a:rPr>
              <a:t>Если в окошечке красный горит</a:t>
            </a:r>
            <a:r>
              <a:rPr b="1" lang="ru-RU" sz="2200" spc="-1" strike="noStrike">
                <a:solidFill>
                  <a:srgbClr val="ff8d3e"/>
                </a:solidFill>
                <a:latin typeface="Verdana"/>
              </a:rPr>
              <a:t>,</a:t>
            </a:r>
            <a:br>
              <a:rPr sz="2200"/>
            </a:br>
            <a:r>
              <a:rPr b="1" lang="ru-RU" sz="2200" spc="-1" strike="noStrike">
                <a:solidFill>
                  <a:srgbClr val="ff8d3e"/>
                </a:solidFill>
                <a:latin typeface="Verdana"/>
              </a:rPr>
              <a:t>“Стой на панели!” - он говорит.</a:t>
            </a:r>
            <a:br>
              <a:rPr sz="2200"/>
            </a:b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2" name="Picture 4" descr="Рисунок1"/>
          <p:cNvPicPr/>
          <p:nvPr/>
        </p:nvPicPr>
        <p:blipFill>
          <a:blip r:embed="rId1"/>
          <a:stretch/>
        </p:blipFill>
        <p:spPr>
          <a:xfrm>
            <a:off x="5929200" y="785880"/>
            <a:ext cx="2000520" cy="4095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03280" y="529920"/>
            <a:ext cx="8183520" cy="5398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Вы наверное видели треугольные, </a:t>
            </a: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круглые и квадратные знаки на </a:t>
            </a:r>
            <a:r>
              <a:rPr b="1" lang="ru-RU" sz="2800" spc="-1" strike="noStrike">
                <a:solidFill>
                  <a:srgbClr val="00b050"/>
                </a:solidFill>
                <a:latin typeface="Verdana"/>
              </a:rPr>
              <a:t>многих улицах и дорогах. По этим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знакам водители узнают, где можно </a:t>
            </a: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ехать, а где нельзя, где можно </a:t>
            </a:r>
            <a:r>
              <a:rPr b="1" lang="ru-RU" sz="2800" spc="-1" strike="noStrike">
                <a:solidFill>
                  <a:srgbClr val="00b050"/>
                </a:solidFill>
                <a:latin typeface="Verdana"/>
              </a:rPr>
              <a:t>остановить машину и заправить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бензином. Знаки предупреждают об </a:t>
            </a: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опасности на дорогах, указывают </a:t>
            </a:r>
            <a:r>
              <a:rPr b="1" lang="ru-RU" sz="2800" spc="-1" strike="noStrike">
                <a:solidFill>
                  <a:srgbClr val="00b050"/>
                </a:solidFill>
                <a:latin typeface="Verdana"/>
              </a:rPr>
              <a:t>направление движения. Эти знаки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должны знать и пешеходы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357120" y="357120"/>
            <a:ext cx="8358120" cy="5572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0040" y="3714480"/>
            <a:ext cx="818352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Verdana"/>
              </a:rPr>
              <a:t>Быть серьезней на дороге,</a:t>
            </a:r>
            <a:br>
              <a:rPr sz="3000"/>
            </a:br>
            <a:r>
              <a:rPr b="1" lang="ru-RU" sz="3000" spc="-1" strike="noStrike">
                <a:solidFill>
                  <a:srgbClr val="ffff00"/>
                </a:solidFill>
                <a:latin typeface="Verdana"/>
              </a:rPr>
              <a:t>знать порядок вы должны </a:t>
            </a:r>
            <a:br>
              <a:rPr sz="3000"/>
            </a:br>
            <a:r>
              <a:rPr b="1" lang="ru-RU" sz="3000" spc="-1" strike="noStrike">
                <a:solidFill>
                  <a:srgbClr val="00b050"/>
                </a:solidFill>
                <a:latin typeface="Verdana"/>
              </a:rPr>
              <a:t>на проезжей части строго </a:t>
            </a:r>
            <a:br>
              <a:rPr sz="3000"/>
            </a:br>
            <a:r>
              <a:rPr b="1" lang="ru-RU" sz="3000" spc="-1" strike="noStrike">
                <a:solidFill>
                  <a:srgbClr val="ff0000"/>
                </a:solidFill>
                <a:latin typeface="Verdana"/>
              </a:rPr>
              <a:t>игры все запрещены.</a:t>
            </a:r>
            <a:br>
              <a:rPr sz="3200"/>
            </a:br>
            <a:endParaRPr b="1" lang="en-US" sz="3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6" name="Picture 3" descr=""/>
          <p:cNvPicPr/>
          <p:nvPr/>
        </p:nvPicPr>
        <p:blipFill>
          <a:blip r:embed="rId1"/>
          <a:stretch/>
        </p:blipFill>
        <p:spPr>
          <a:xfrm>
            <a:off x="1785960" y="642960"/>
            <a:ext cx="564372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850104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4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285840" y="357120"/>
            <a:ext cx="864396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214200" y="357120"/>
            <a:ext cx="8786880" cy="6143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Verdana"/>
              </a:rPr>
              <a:t>Ответственная работа у водителя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ru-RU" sz="3600" spc="-1" strike="noStrike">
                <a:solidFill>
                  <a:srgbClr val="ffff00"/>
                </a:solidFill>
                <a:latin typeface="Verdana"/>
              </a:rPr>
              <a:t>Управляя своей машиной он все </a:t>
            </a:r>
            <a:r>
              <a:rPr b="0" lang="ru-RU" sz="3600" spc="-1" strike="noStrike">
                <a:solidFill>
                  <a:srgbClr val="00b050"/>
                </a:solidFill>
                <a:latin typeface="Verdana"/>
              </a:rPr>
              <a:t>время внимательно следит за </a:t>
            </a:r>
            <a:r>
              <a:rPr b="0" lang="ru-RU" sz="3600" spc="-1" strike="noStrike">
                <a:solidFill>
                  <a:srgbClr val="ff0000"/>
                </a:solidFill>
                <a:latin typeface="Verdana"/>
              </a:rPr>
              <a:t>движущимся транспортом, за </a:t>
            </a:r>
            <a:r>
              <a:rPr b="0" lang="ru-RU" sz="3600" spc="-1" strike="noStrike">
                <a:solidFill>
                  <a:srgbClr val="ffff00"/>
                </a:solidFill>
                <a:latin typeface="Verdana"/>
              </a:rPr>
              <a:t>сигналами светофора, </a:t>
            </a:r>
            <a:r>
              <a:rPr b="0" lang="ru-RU" sz="3600" spc="-1" strike="noStrike">
                <a:solidFill>
                  <a:srgbClr val="00b050"/>
                </a:solidFill>
                <a:latin typeface="Verdana"/>
              </a:rPr>
              <a:t>пешеходами. Кроме того он </a:t>
            </a:r>
            <a:r>
              <a:rPr b="0" lang="ru-RU" sz="3600" spc="-1" strike="noStrike">
                <a:solidFill>
                  <a:srgbClr val="ff0000"/>
                </a:solidFill>
                <a:latin typeface="Verdana"/>
              </a:rPr>
              <a:t>обязан строго выполнять </a:t>
            </a:r>
            <a:r>
              <a:rPr b="0" lang="ru-RU" sz="3600" spc="-1" strike="noStrike">
                <a:solidFill>
                  <a:srgbClr val="ffff00"/>
                </a:solidFill>
                <a:latin typeface="Verdana"/>
              </a:rPr>
              <a:t>указания дорожных знаков. Эти </a:t>
            </a:r>
            <a:r>
              <a:rPr b="0" lang="ru-RU" sz="3600" spc="-1" strike="noStrike">
                <a:solidFill>
                  <a:srgbClr val="00b050"/>
                </a:solidFill>
                <a:latin typeface="Verdana"/>
              </a:rPr>
              <a:t>знаки важны не только для </a:t>
            </a:r>
            <a:r>
              <a:rPr b="0" lang="ru-RU" sz="3600" spc="-1" strike="noStrike">
                <a:solidFill>
                  <a:srgbClr val="ff0000"/>
                </a:solidFill>
                <a:latin typeface="Verdana"/>
              </a:rPr>
              <a:t>водителей, но и для пешеходов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лена Заплатина</cp:lastModifiedBy>
  <dcterms:modified xsi:type="dcterms:W3CDTF">2015-02-28T10:46:44Z</dcterms:modified>
  <cp:revision>17</cp:revision>
  <dc:subject/>
  <dc:title>Слайд 1</dc:title>
</cp:coreProperties>
</file>