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A5F-D182-442F-8669-B7C55C29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023-5474-4DE3-8CA0-357C66A0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DF7E3-01A7-4731-83E7-BBF4C3C1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23313-521A-4B33-9C87-8AB397D8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C0DD-7B4E-4EC7-963C-57621874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4C32A-BA2A-4F2F-B63E-AB17BCB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61A6D-FA02-42A2-8582-FFBE05D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92135-98FD-4542-A6AE-505A9B1A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F3AAC-622B-4ADC-B62F-90B0B0F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6BA4F-FEE6-4722-8A1D-4129D527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2F03F-314D-484A-A27C-1F52EB9D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A25-3892-4025-831F-110AE90C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1C9-DC70-4EC6-B4B0-63E28262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BE34-004A-4B64-BCEE-6BF30176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CD85-D98D-4740-8EEF-C1CCFA4E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7A52-E4FA-47AF-8715-9F2765A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CE2-4A7C-4869-842F-0146B671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7160-5696-4CC1-9274-DF3880C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F358-272C-4B72-8694-B8027BC6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B345-AE49-4528-AA7C-51DFF72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6F7-0E2C-4F76-AF5D-66B7E577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FAD0-F992-49BE-8738-EB919184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1012-6038-4AAE-97D3-2DE2F984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ACBE-9AEC-4AD4-94CA-B2C733E4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9222-5794-4E37-B6E0-CA78EAF2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EC20-2E05-405D-901E-0566ADC4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FD88-AABE-4CFD-BB93-F35F1D30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7D37-2138-4094-8BE5-11FBB9A4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DD6E-4A4A-4881-8CB3-6DF23FFF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BD2E-EB1F-468A-9FDE-1705B330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73A9-3D28-42A7-9733-85150C50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913-70A9-4B6C-9AA0-E5CE8D11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9EB4-FE3D-49AA-BFAB-585983C0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DC2A-9D23-4BE6-9015-14B942D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77F1-E49E-4787-8C1A-893196C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7409-A082-4AF8-BA87-1B3B14D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3ACF-46A3-42CD-9ABC-46C85281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9143-B5BF-4646-B17C-7D6D3183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F208-F24C-4A97-8772-D07E952C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C5FA-41E4-4F6C-BFEB-BBD79911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B1BB-1A94-41D6-A184-8E278662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1BA0-2919-4928-8FAC-67CA6BE1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B27-6AC6-4952-ABC2-EA388B8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6BF58-A7F6-4E67-AEB2-D0E8EC32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2297-8C6E-4563-9923-E020D614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29B7-7DEB-4116-B6BE-9A781E6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C7B4-458B-4F4E-BA1E-8AEDC82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B6473-EA92-4FEE-B3C9-90294256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02CE-4DFF-4560-B90E-5785508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E2E3-689C-44F8-BF82-30E8DC5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B22F-037B-4107-9A22-72AE62CD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05701-3729-4800-A95B-0F1D9033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AB02-CE45-4BE5-9B1D-9388BE76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CD5-F93D-423F-97D9-EABE7D1E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81139-3718-4CCE-92D0-FB342F6E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0155-F914-431F-AD4F-BE1D1821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6ED2-7A88-48AE-B0AD-36613A04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36DC3-99A9-48BB-8631-1F6BF6BA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85619-A0C2-47B8-A069-8D0FC0E9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1DA9B-C61E-4F6B-9964-CB1443C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3E817-201F-48AB-8C85-1480115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D1249-4A05-4A62-B6FD-5C9F859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D5AF4-E9E2-4311-BB51-FE6C6FCA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FF75D-FCDF-4CAD-B757-4B9DE087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8E1-F675-4DB5-B0BE-134EA814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CCCA-74B4-4B2B-9057-2EAEE8AA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2648-B71A-4836-8149-95616B20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A9653-5BBA-4841-BF76-1B648168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9F9B0-E797-4170-81EA-772917D7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11B7-5921-43A7-9133-D1BF8BF5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A52E-E97A-4A0C-9C31-9CE95531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EF79-D899-4396-A10C-7D9AD43E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0B20D-55F9-462F-8B4A-E4F36DA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2ACAC-89E9-45CE-A608-9E2080C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2EA2-5E79-46AD-8241-D9DA5421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4D3-B1D0-4930-AC4F-E2B76D2C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FF4D-02BC-4B8A-88DD-CBD046F7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84DF-58F0-4AC3-B729-A5BCEDAE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CBEA-5A5A-4D71-BA55-7134AA7E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23D6B-E6DE-4229-ABBA-BC64BCB6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42012-D478-4101-9DD3-2C6D46D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6B6A-66AC-4DA0-BE18-525E99B4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5DA91-A237-4E76-8E78-2CD5F46F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04EE9-42B2-4511-BF32-104084CB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67A8A-302A-42FB-8BF8-F4B5819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DAC4E-BC24-4BC2-A3AF-48E07D14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197-4DF0-411C-B40C-5E17168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270D4-1859-4B7B-8DE7-E936DDC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B94ED-4B62-46CF-A490-9F886BF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1236F-61D8-436C-8DCC-B309FF5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326C-2507-430D-89F3-4830DA24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DF06B-F197-4CAC-B9A5-D2D57CFA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C14F7-B27B-4362-A8A4-015E2BA0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9AFFE-2016-4D4E-AB44-2C0D040C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BAAFC-F855-4C35-B548-7BD99CB2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C1F1B-4859-4065-98BD-12772BCD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24EAA-8F78-493F-9EFE-0F3C046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D5F-3CDB-4B1B-9B00-F46EA8E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51C10-5CE4-4231-8EE2-DD6AEEA2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AABC1-A1B7-4D9B-B446-B347842E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EC680-D49E-49B1-A30B-C5C2F37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66346-2051-4640-A2F4-179E91F4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45CAC-9520-45DE-8870-8962791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C036E-1434-400D-BAC9-B63A2B16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66722-DE6E-49BA-9F39-592673E0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2D403-F596-45DF-97C8-71C3967F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F5BAD-42E4-4F8D-9FAD-F2E0F01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B8D5B-4035-4DBC-821C-8AB58D4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C67D-95B5-46A7-AA99-2A80DC5B821D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5E6F-F50B-4ADC-901E-5DA187439E02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5411-E8C3-47E1-8E39-E00B057ED91A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9DB-9699-497E-9760-233C7EB208D3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59AE-2F1A-44B1-B258-72098C3DCE90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61D7-622C-45D3-8B85-D5A1CEF998F9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7090-8468-40F3-98A5-0582EF81E88B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174-1574-4530-B0B2-A7A2371C4579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AE7C-5F5A-4930-8A6B-BCEAC39EDCC3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5;&#1090;&#1077;&#1075;&#1088;&#1072;&#1094;&#1080;&#1103;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Невельская ООШ</a:t>
            </a:r>
            <a:endParaRPr b="0" lang="en-US" sz="2000" spc="-1" strike="noStrike">
              <a:solidFill>
                <a:srgbClr val="d6ecff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ольникова Галина Александровна</a:t>
            </a:r>
            <a:endParaRPr b="0" lang="en-US" sz="2000" spc="-1" strike="noStrike">
              <a:solidFill>
                <a:srgbClr val="d6ecff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20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: ИНТЕГРАЦИЯ СОДЕРЖАНИЯ ОБРАЗОВАНИЯ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ЕР – КЛАСС   «ИНТЕГРИРОВАННЫЕ ПРАКТИЧЕСКИЕ РАБОТЫ НА УРОКАХ  ГЕОГРАФИИ»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d6ecff"/>
              </a:solidFill>
              <a:latin typeface="Franklin Gothic Medium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</a:t>
            </a:r>
            <a:r>
              <a:rPr b="0" lang="ru-RU" sz="32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интегра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integratio – соединение, восстановление) представляет собой объединение в единое целое ранее разрозненных частей и элементов системы на основе их взаимозависимости и взаимодополняемости.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6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699760" cy="1444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Определение по физической карте полушарий географических  координат некоторых географических объект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Научить определять географические координаты  объекта  по физической карте полушарий.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правила игры «Морской бой». Каждый корабль имеет свой адрес – букву и цифру, от буквы и цифры проводится перпендикулярная  прямая и определяется точка пересечения, данная точка и будет адрес корабля. 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также все географические объекты  имеют свои адреса на карте, то есть географические координаты (широта и долгота).</a:t>
            </a: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ПОЛЕ «МОРСКОЙ БОЙ»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АЯ СЕТЬ НА ГЛОБУСЕ И КАРТЕ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81160" y="1316160"/>
          <a:ext cx="4290840" cy="5211720"/>
        </p:xfrm>
        <a:graphic>
          <a:graphicData uri="http://schemas.openxmlformats.org/drawingml/2006/table">
            <a:tbl>
              <a:tblPr/>
              <a:tblGrid>
                <a:gridCol w="390240"/>
                <a:gridCol w="38916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</a:tblGrid>
              <a:tr h="64260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Franklin Gothic Book"/>
            </a:endParaRPr>
          </a:p>
        </p:txBody>
      </p:sp>
      <p:cxnSp>
        <p:nvCxnSpPr>
          <p:cNvPr id="410" name="Прямая со стрелкой 17"/>
          <p:cNvCxnSpPr/>
          <p:nvPr/>
        </p:nvCxnSpPr>
        <p:spPr>
          <a:xfrm flipH="1" flipV="1">
            <a:off x="6933600" y="1370880"/>
            <a:ext cx="153000" cy="487764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1" name="Прямая со стрелкой 19"/>
          <p:cNvCxnSpPr/>
          <p:nvPr/>
        </p:nvCxnSpPr>
        <p:spPr>
          <a:xfrm>
            <a:off x="4800600" y="3352320"/>
            <a:ext cx="4039200" cy="252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412" name="TextBox 20"/>
          <p:cNvSpPr/>
          <p:nvPr/>
        </p:nvSpPr>
        <p:spPr>
          <a:xfrm>
            <a:off x="7622280" y="32767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1"/>
          <p:cNvSpPr/>
          <p:nvPr/>
        </p:nvSpPr>
        <p:spPr>
          <a:xfrm rot="16200000">
            <a:off x="6470640" y="1987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4" descr=""/>
          <p:cNvPicPr/>
          <p:nvPr/>
        </p:nvPicPr>
        <p:blipFill>
          <a:blip r:embed="rId1"/>
          <a:stretch/>
        </p:blipFill>
        <p:spPr>
          <a:xfrm>
            <a:off x="378000" y="5784840"/>
            <a:ext cx="8546760" cy="792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3575160" y="609480"/>
          <a:ext cx="5340240" cy="4943520"/>
        </p:xfrm>
        <a:graphic>
          <a:graphicData uri="http://schemas.openxmlformats.org/drawingml/2006/table">
            <a:tbl>
              <a:tblPr/>
              <a:tblGrid>
                <a:gridCol w="485640"/>
                <a:gridCol w="485640"/>
                <a:gridCol w="484200"/>
                <a:gridCol w="486000"/>
                <a:gridCol w="485640"/>
                <a:gridCol w="486000"/>
                <a:gridCol w="485640"/>
                <a:gridCol w="485640"/>
                <a:gridCol w="484200"/>
                <a:gridCol w="486000"/>
                <a:gridCol w="48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cxnSp>
        <p:nvCxnSpPr>
          <p:cNvPr id="417" name="Прямая со стрелкой 8"/>
          <p:cNvCxnSpPr/>
          <p:nvPr/>
        </p:nvCxnSpPr>
        <p:spPr>
          <a:xfrm flipV="1">
            <a:off x="1959480" y="761400"/>
            <a:ext cx="20880" cy="464868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8" name="Прямая со стрелкой 17"/>
          <p:cNvCxnSpPr/>
          <p:nvPr/>
        </p:nvCxnSpPr>
        <p:spPr>
          <a:xfrm>
            <a:off x="457200" y="3009960"/>
            <a:ext cx="2743920" cy="3888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419" name="TextBox 18"/>
          <p:cNvSpPr/>
          <p:nvPr/>
        </p:nvSpPr>
        <p:spPr>
          <a:xfrm>
            <a:off x="2059560" y="68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9"/>
          <p:cNvSpPr/>
          <p:nvPr/>
        </p:nvSpPr>
        <p:spPr>
          <a:xfrm>
            <a:off x="320256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0"/>
          <p:cNvSpPr/>
          <p:nvPr/>
        </p:nvSpPr>
        <p:spPr>
          <a:xfrm>
            <a:off x="190728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5-конечная звезда 23"/>
          <p:cNvSpPr/>
          <p:nvPr/>
        </p:nvSpPr>
        <p:spPr>
          <a:xfrm>
            <a:off x="990720" y="1600200"/>
            <a:ext cx="228600" cy="304920"/>
          </a:xfrm>
          <a:prstGeom prst="pi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-конечная звезда 24"/>
          <p:cNvSpPr/>
          <p:nvPr/>
        </p:nvSpPr>
        <p:spPr>
          <a:xfrm>
            <a:off x="5181480" y="2057400"/>
            <a:ext cx="914400" cy="914400"/>
          </a:xfrm>
          <a:prstGeom prst="pi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подход при разработке практических работ, помогает учащимся представлять единую картину мира, взаимосвязь и взаимодействие всех компонентов природы. Объяснять процессы, происходящие в природе и обществе при помощи математических характеристик и литературных произведений, а также видеть необходимость в знании иностранных языков, для безграничного взаимодействия между народами всего Мира. Учащиеся через практическую работу  осваивают интеграцию между на первый взгляд совсем несовместимыми  предметами. И это взаимодействие повышает интерес не только к географии, оживает математика и физика, литература. </a:t>
            </a: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вова.</dc:creator>
  <dc:description/>
  <dc:language>en-US</dc:language>
  <cp:lastModifiedBy>вова.</cp:lastModifiedBy>
  <dcterms:modified xsi:type="dcterms:W3CDTF">2013-04-30T18:37:58Z</dcterms:modified>
  <cp:revision>41</cp:revision>
  <dc:subject/>
  <dc:title>Слайд 1</dc:title>
</cp:coreProperties>
</file>