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CA3-C380-4D73-9526-59F5D2F9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D3C-9BE7-43C4-90A7-956F518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771-82B4-4431-A1C0-662CA488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D3-389F-488A-94DD-EC233FF6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3DB-5A2B-431B-A84E-433A1EA7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15D-78CC-46BC-9910-60A9F838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FCFF-B7EE-4231-B79D-FD978426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0695-5877-4884-A46A-C755B84E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FDBD-4992-4BE8-B09F-A0ADF716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66AE-8E7A-4177-89A6-1CE166BA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030E-6971-450A-8441-9E8607E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8FD-8C0C-4A44-A2B6-2782DA9F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09AD-B74B-4A25-9C31-65BA121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F3A5-1DCE-4204-AEC4-5A499E3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D2B9-ADF5-44EF-A2ED-B8C81D5C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0254-B000-492F-95BA-7B357C58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CF65-440D-4F5B-9BF0-D1A080D7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F81-7144-44EE-869C-C05438B2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E0B-BFFC-4AD8-8288-A42B2B0E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E10-E9CF-4AEF-A445-68174880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B84-292B-4D3B-ABC3-B05909C4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1A9-9590-479A-A4F6-D7B1CA0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409-E2B4-4F4F-94E4-9EF8F90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0B2-1E63-4D29-AA98-13C4C0B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676-7AAA-4AA8-B1F7-32D59AC1F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A964-4A89-4069-B57C-3B067E5013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58840" y="5157720"/>
            <a:ext cx="888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БОУ Начальная школа – детский с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840" y="1642680"/>
            <a:ext cx="8572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66"/>
                </a:solidFill>
                <a:latin typeface="Times New Roman"/>
              </a:rPr>
              <a:t>«Метод проектов»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Автор: Ивлева Н. 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учитель музы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357800" y="356760"/>
            <a:ext cx="4572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В воспитательно-образовательном процессе ДОУ проектная деятельность носит характер сотрудничества, в котором принимают участие дети , педагоги  и вовлекаются родители. Родители становятся непосредственными участниками образовательного процесса. Они обогащают свой педагогический опыт, испытывая чувство сопричастности и удовлетворения от своих успехов и успехов ребёнка. Педагогам очень важно не руководить, а помогать родителям, увидеть их сильные стороны, быть готовым у них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Не быть «всезнайкой», а искать решение проблем вместе с родител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Стиль общения должен быть сотрудническим - это залог успех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Горизонтальный свиток 6"/>
          <p:cNvGrpSpPr/>
          <p:nvPr/>
        </p:nvGrpSpPr>
        <p:grpSpPr>
          <a:xfrm>
            <a:off x="189000" y="189000"/>
            <a:ext cx="3981240" cy="1481040"/>
            <a:chOff x="189000" y="189000"/>
            <a:chExt cx="3981240" cy="1481040"/>
          </a:xfrm>
        </p:grpSpPr>
        <p:pic>
          <p:nvPicPr>
            <p:cNvPr id="173" name="Горизонтальный свиток 6" descr=""/>
            <p:cNvPicPr/>
            <p:nvPr/>
          </p:nvPicPr>
          <p:blipFill>
            <a:blip r:embed="rId2"/>
            <a:stretch/>
          </p:blipFill>
          <p:spPr>
            <a:xfrm>
              <a:off x="189000" y="189000"/>
              <a:ext cx="39812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92040" y="392040"/>
              <a:ext cx="3662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Georgia"/>
                </a:rPr>
                <a:t>Роль педагога при взаимодейств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Georgia"/>
                </a:rPr>
                <a:t>с семьей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1550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5888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46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лнце 14"/>
          <p:cNvSpPr/>
          <p:nvPr/>
        </p:nvSpPr>
        <p:spPr>
          <a:xfrm>
            <a:off x="2643120" y="357120"/>
            <a:ext cx="4071960" cy="2857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Виды проектов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Облако 18"/>
          <p:cNvGrpSpPr/>
          <p:nvPr/>
        </p:nvGrpSpPr>
        <p:grpSpPr>
          <a:xfrm>
            <a:off x="122400" y="407880"/>
            <a:ext cx="3041640" cy="1189080"/>
            <a:chOff x="122400" y="407880"/>
            <a:chExt cx="3041640" cy="1189080"/>
          </a:xfrm>
        </p:grpSpPr>
        <p:pic>
          <p:nvPicPr>
            <p:cNvPr id="90" name="Облако 18" descr=""/>
            <p:cNvPicPr/>
            <p:nvPr/>
          </p:nvPicPr>
          <p:blipFill>
            <a:blip r:embed="rId2"/>
            <a:stretch/>
          </p:blipFill>
          <p:spPr>
            <a:xfrm>
              <a:off x="122400" y="407880"/>
              <a:ext cx="3041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60240" y="701640"/>
              <a:ext cx="1773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Твор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блако 19"/>
          <p:cNvGrpSpPr/>
          <p:nvPr/>
        </p:nvGrpSpPr>
        <p:grpSpPr>
          <a:xfrm>
            <a:off x="6407280" y="268200"/>
            <a:ext cx="2541600" cy="1401840"/>
            <a:chOff x="6407280" y="268200"/>
            <a:chExt cx="2541600" cy="1401840"/>
          </a:xfrm>
        </p:grpSpPr>
        <p:pic>
          <p:nvPicPr>
            <p:cNvPr id="93" name="Облако 19" descr=""/>
            <p:cNvPicPr/>
            <p:nvPr/>
          </p:nvPicPr>
          <p:blipFill>
            <a:blip r:embed="rId3"/>
            <a:stretch/>
          </p:blipFill>
          <p:spPr>
            <a:xfrm>
              <a:off x="6407280" y="268200"/>
              <a:ext cx="25416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877080" y="590400"/>
              <a:ext cx="1447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гров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блако 20"/>
          <p:cNvGrpSpPr/>
          <p:nvPr/>
        </p:nvGrpSpPr>
        <p:grpSpPr>
          <a:xfrm>
            <a:off x="-165240" y="2627280"/>
            <a:ext cx="3902040" cy="1755720"/>
            <a:chOff x="-165240" y="2627280"/>
            <a:chExt cx="3902040" cy="1755720"/>
          </a:xfrm>
        </p:grpSpPr>
        <p:pic>
          <p:nvPicPr>
            <p:cNvPr id="96" name="Облако 20" descr=""/>
            <p:cNvPicPr/>
            <p:nvPr/>
          </p:nvPicPr>
          <p:blipFill>
            <a:blip r:embed="rId4"/>
            <a:stretch/>
          </p:blipFill>
          <p:spPr>
            <a:xfrm>
              <a:off x="-165240" y="2627280"/>
              <a:ext cx="390204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92120" y="3002040"/>
              <a:ext cx="23335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нформационно-практик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ориентиров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Облако 21"/>
          <p:cNvGrpSpPr/>
          <p:nvPr/>
        </p:nvGrpSpPr>
        <p:grpSpPr>
          <a:xfrm>
            <a:off x="5261040" y="2627280"/>
            <a:ext cx="4048200" cy="1401840"/>
            <a:chOff x="5261040" y="2627280"/>
            <a:chExt cx="4048200" cy="1401840"/>
          </a:xfrm>
        </p:grpSpPr>
        <p:pic>
          <p:nvPicPr>
            <p:cNvPr id="99" name="Облако 21" descr=""/>
            <p:cNvPicPr/>
            <p:nvPr/>
          </p:nvPicPr>
          <p:blipFill>
            <a:blip r:embed="rId5"/>
            <a:stretch/>
          </p:blipFill>
          <p:spPr>
            <a:xfrm>
              <a:off x="5261040" y="2627280"/>
              <a:ext cx="4048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360" y="2948040"/>
              <a:ext cx="2427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сследователь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Облако 22"/>
          <p:cNvGrpSpPr/>
          <p:nvPr/>
        </p:nvGrpSpPr>
        <p:grpSpPr>
          <a:xfrm>
            <a:off x="3260880" y="3200400"/>
            <a:ext cx="2835000" cy="1401840"/>
            <a:chOff x="3260880" y="3200400"/>
            <a:chExt cx="2835000" cy="1401840"/>
          </a:xfrm>
        </p:grpSpPr>
        <p:pic>
          <p:nvPicPr>
            <p:cNvPr id="102" name="Облако 22" descr=""/>
            <p:cNvPicPr/>
            <p:nvPr/>
          </p:nvPicPr>
          <p:blipFill>
            <a:blip r:embed="rId6"/>
            <a:stretch/>
          </p:blipFill>
          <p:spPr>
            <a:xfrm>
              <a:off x="3260880" y="3200400"/>
              <a:ext cx="283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73520" y="3519360"/>
              <a:ext cx="1633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Смеш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4214880"/>
            <a:ext cx="8643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  <a:ea typeface="Times New Roman"/>
              </a:rPr>
              <a:t>Метод проектов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–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это способ организации педагогического процесса, основанный на взаимодействии педагога и воспитанника, способ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заимодействия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с окружающей средой, поэтапная  практическая деятельность по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905120" y="2133720"/>
            <a:ext cx="673884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игровых умений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оощрение инициативности игровых замысл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навыков обще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905120" y="4648320"/>
            <a:ext cx="666756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спользование игры для обог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носторонних представлени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действи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 rot="5400000">
            <a:off x="-781560" y="3781440"/>
            <a:ext cx="3372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6263a"/>
                  </a:solidFill>
                  <a:miter/>
                </a:ln>
                <a:solidFill>
                  <a:srgbClr val="5b05b1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26263a"/>
                </a:solidFill>
                <a:miter/>
              </a:ln>
              <a:solidFill>
                <a:srgbClr val="5b05b1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Горизонтальный свиток 8"/>
          <p:cNvSpPr/>
          <p:nvPr/>
        </p:nvSpPr>
        <p:spPr>
          <a:xfrm>
            <a:off x="2357280" y="357120"/>
            <a:ext cx="5786640" cy="1500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гров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11" name="Нашивка 11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ашивка 12"/>
          <p:cNvSpPr/>
          <p:nvPr/>
        </p:nvSpPr>
        <p:spPr>
          <a:xfrm>
            <a:off x="1428840" y="4000680"/>
            <a:ext cx="428400" cy="42840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ашивка 13"/>
          <p:cNvSpPr/>
          <p:nvPr/>
        </p:nvSpPr>
        <p:spPr>
          <a:xfrm>
            <a:off x="1357200" y="52862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1905120" y="213372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творческого потенциал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частника проекта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905120" y="312408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владение различными вид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905120" y="411480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глубленное приобщение к искусст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родному творчеству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828800" y="5181480"/>
            <a:ext cx="647712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овлечение в дизайнерскую деятельность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Горизонтальный свиток 9"/>
          <p:cNvSpPr/>
          <p:nvPr/>
        </p:nvSpPr>
        <p:spPr>
          <a:xfrm>
            <a:off x="2143080" y="428760"/>
            <a:ext cx="6072120" cy="1571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7f18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Творче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Вертикальный свиток 10" descr=""/>
          <p:cNvPicPr/>
          <p:nvPr/>
        </p:nvPicPr>
        <p:blipFill>
          <a:blip r:embed="rId2"/>
          <a:stretch/>
        </p:blipFill>
        <p:spPr>
          <a:xfrm>
            <a:off x="158760" y="1889280"/>
            <a:ext cx="1322280" cy="4402080"/>
          </a:xfrm>
          <a:prstGeom prst="rect">
            <a:avLst/>
          </a:prstGeom>
          <a:ln w="0">
            <a:noFill/>
          </a:ln>
        </p:spPr>
      </p:pic>
      <p:sp>
        <p:nvSpPr>
          <p:cNvPr id="120" name="Нашивка 8"/>
          <p:cNvSpPr/>
          <p:nvPr/>
        </p:nvSpPr>
        <p:spPr>
          <a:xfrm>
            <a:off x="1357200" y="235728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ашивка 12"/>
          <p:cNvSpPr/>
          <p:nvPr/>
        </p:nvSpPr>
        <p:spPr>
          <a:xfrm>
            <a:off x="1428840" y="328608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ашивка 13"/>
          <p:cNvSpPr/>
          <p:nvPr/>
        </p:nvSpPr>
        <p:spPr>
          <a:xfrm>
            <a:off x="1357200" y="428616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ашивка 14"/>
          <p:cNvSpPr/>
          <p:nvPr/>
        </p:nvSpPr>
        <p:spPr>
          <a:xfrm>
            <a:off x="1357200" y="53578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905120" y="2133720"/>
            <a:ext cx="666756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познавательных способностей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блюдать, описывать, сравн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троить предположения и предлагать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х провер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истематизация знаний об окружающем мир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05120" y="4648320"/>
            <a:ext cx="659592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элементарных предст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взаимосвязях и взаимозависимостях в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ирод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28" name="Горизонтальный свиток 9"/>
          <p:cNvSpPr/>
          <p:nvPr/>
        </p:nvSpPr>
        <p:spPr>
          <a:xfrm>
            <a:off x="1928880" y="357120"/>
            <a:ext cx="657216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сследователь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ашивка 7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ашивка 10"/>
          <p:cNvSpPr/>
          <p:nvPr/>
        </p:nvSpPr>
        <p:spPr>
          <a:xfrm>
            <a:off x="1357200" y="3929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ашивка 11"/>
          <p:cNvSpPr/>
          <p:nvPr/>
        </p:nvSpPr>
        <p:spPr>
          <a:xfrm>
            <a:off x="1428840" y="507204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643040" y="2286000"/>
            <a:ext cx="7286760" cy="1066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здание условий для формирования нрав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ценностей и ценностей здорового образа жиз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643040" y="3581280"/>
            <a:ext cx="7286760" cy="1219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риобщение  детей к прошлому и настоящему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культуры, а также к явлениям други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(в их историческом и географическом аспек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43040" y="5029200"/>
            <a:ext cx="7272360" cy="609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установок  толерантного созна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643040" y="5867280"/>
            <a:ext cx="7272360" cy="609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самопознания и положительной оцен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Горизонтальный свиток 8"/>
          <p:cNvSpPr/>
          <p:nvPr/>
        </p:nvSpPr>
        <p:spPr>
          <a:xfrm>
            <a:off x="1857240" y="357120"/>
            <a:ext cx="671544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dc69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нформационно- практико- ориентированн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38" name="Нашивка 7"/>
          <p:cNvSpPr/>
          <p:nvPr/>
        </p:nvSpPr>
        <p:spPr>
          <a:xfrm>
            <a:off x="121428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ашивка 10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ашивка 11"/>
          <p:cNvSpPr/>
          <p:nvPr/>
        </p:nvSpPr>
        <p:spPr>
          <a:xfrm>
            <a:off x="1214280" y="592920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ашивка 12"/>
          <p:cNvSpPr/>
          <p:nvPr/>
        </p:nvSpPr>
        <p:spPr>
          <a:xfrm>
            <a:off x="1285920" y="5143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714680" y="21337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т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способност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к созд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ыразительного художественного об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 основе полученных знани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14680" y="3809880"/>
            <a:ext cx="6858000" cy="68580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сшир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представле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о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14680" y="46483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вершенство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ва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навык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худож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деятельности и пополн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зна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тва и исследовательской дея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58760" y="2036880"/>
            <a:ext cx="1322280" cy="4394160"/>
          </a:xfrm>
          <a:prstGeom prst="rect">
            <a:avLst/>
          </a:prstGeom>
          <a:ln w="0">
            <a:noFill/>
          </a:ln>
        </p:spPr>
      </p:pic>
      <p:sp>
        <p:nvSpPr>
          <p:cNvPr id="146" name="Горизонтальный свиток 11"/>
          <p:cNvSpPr/>
          <p:nvPr/>
        </p:nvSpPr>
        <p:spPr>
          <a:xfrm>
            <a:off x="2071800" y="428760"/>
            <a:ext cx="6286320" cy="1428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57240">
            <a:solidFill>
              <a:srgbClr val="19f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Смешанные 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ашивка 7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ашивка 9"/>
          <p:cNvSpPr/>
          <p:nvPr/>
        </p:nvSpPr>
        <p:spPr>
          <a:xfrm>
            <a:off x="1285920" y="5072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ашивка 10"/>
          <p:cNvSpPr/>
          <p:nvPr/>
        </p:nvSpPr>
        <p:spPr>
          <a:xfrm>
            <a:off x="128592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5"/>
          <p:cNvSpPr/>
          <p:nvPr/>
        </p:nvSpPr>
        <p:spPr>
          <a:xfrm>
            <a:off x="1643040" y="2438280"/>
            <a:ext cx="721512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1 этап – организационный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571760" y="3429000"/>
            <a:ext cx="735804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5b05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2 этап – планирование работы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643040" y="4495680"/>
            <a:ext cx="7286760" cy="76212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3 этап – реализ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714680" y="5562720"/>
            <a:ext cx="7215120" cy="76176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4 этап – презент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Горизонтальный свиток 11"/>
          <p:cNvSpPr/>
          <p:nvPr/>
        </p:nvSpPr>
        <p:spPr>
          <a:xfrm>
            <a:off x="2000160" y="285840"/>
            <a:ext cx="6500880" cy="1785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381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Этапы разработк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с вырезом 12"/>
          <p:cNvSpPr/>
          <p:nvPr/>
        </p:nvSpPr>
        <p:spPr>
          <a:xfrm>
            <a:off x="214200" y="257184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с вырезом 13"/>
          <p:cNvSpPr/>
          <p:nvPr/>
        </p:nvSpPr>
        <p:spPr>
          <a:xfrm>
            <a:off x="285840" y="364320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с вырезом 15"/>
          <p:cNvSpPr/>
          <p:nvPr/>
        </p:nvSpPr>
        <p:spPr>
          <a:xfrm>
            <a:off x="285840" y="4643280"/>
            <a:ext cx="1143000" cy="50040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400"/>
              <a:gd name="textAreaBottom" fmla="*/ 375480 h 50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с вырезом 18"/>
          <p:cNvSpPr/>
          <p:nvPr/>
        </p:nvSpPr>
        <p:spPr>
          <a:xfrm>
            <a:off x="285840" y="564372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9"/>
          <p:cNvSpPr/>
          <p:nvPr/>
        </p:nvSpPr>
        <p:spPr>
          <a:xfrm>
            <a:off x="3571920" y="2173320"/>
            <a:ext cx="2357280" cy="218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Georgia"/>
                <a:ea typeface="Calibri"/>
              </a:rPr>
              <a:t>Метод  проекта даёт педагогам большую возмож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483160" y="1000080"/>
            <a:ext cx="2660760" cy="22446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Разв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интеллектуальный и творческий потенциал посредством использования  схем, карт, моделей алгорит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1428840" y="3481560"/>
            <a:ext cx="2500200" cy="223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Georgia"/>
                <a:ea typeface="Calibri"/>
              </a:rPr>
              <a:t>- музыкальным руководителям развивать музыкальные и танцеваль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 rot="177600">
            <a:off x="5695560" y="3233520"/>
            <a:ext cx="2660760" cy="2266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a55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  <a:ea typeface="Calibri"/>
              </a:rPr>
              <a:t>прививать навыки культурного поведения, самообслуживания, стремления к здоровому образу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357200" y="1285920"/>
            <a:ext cx="2440080" cy="2286000"/>
          </a:xfrm>
          <a:prstGeom prst="ellipse">
            <a:avLst/>
          </a:prstGeom>
          <a:solidFill>
            <a:srgbClr val="a55df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eorgia"/>
                <a:ea typeface="Calibri"/>
              </a:rPr>
              <a:t>развивать артистизм и яркость речи в постановке спектаклей в  теат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3500280" y="4286160"/>
            <a:ext cx="2500560" cy="2143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Georgia"/>
                <a:ea typeface="Calibri"/>
              </a:rPr>
              <a:t>-инструктору по физкультуре развивать детей физически во время интегрированных занятий-прогул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"/>
          <p:cNvSpPr/>
          <p:nvPr/>
        </p:nvSpPr>
        <p:spPr>
          <a:xfrm rot="512400">
            <a:off x="5338800" y="4178160"/>
            <a:ext cx="576360" cy="2651400"/>
          </a:xfrm>
          <a:prstGeom prst="pie">
            <a:avLst/>
          </a:pr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"/>
          <p:cNvSpPr/>
          <p:nvPr/>
        </p:nvSpPr>
        <p:spPr>
          <a:xfrm rot="19446000">
            <a:off x="5653080" y="6026040"/>
            <a:ext cx="1380960" cy="23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"/>
          <p:cNvSpPr/>
          <p:nvPr/>
        </p:nvSpPr>
        <p:spPr>
          <a:xfrm rot="885600">
            <a:off x="4733640" y="6210360"/>
            <a:ext cx="1127160" cy="295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4"/>
          <p:cNvSpPr/>
          <p:nvPr/>
        </p:nvSpPr>
        <p:spPr>
          <a:xfrm>
            <a:off x="3429000" y="142920"/>
            <a:ext cx="2571840" cy="207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выявлять  «зону ближайшего развития» и соответственно планировать дальнейшую работу с н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КИРО</dc:creator>
  <dc:description/>
  <dc:language>en-US</dc:language>
  <cp:lastModifiedBy>a</cp:lastModifiedBy>
  <dcterms:modified xsi:type="dcterms:W3CDTF">2013-10-31T08:56:31Z</dcterms:modified>
  <cp:revision>56</cp:revision>
  <dc:subject/>
  <dc:title>Слайд 1</dc:title>
</cp:coreProperties>
</file>