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8C0-481B-4108-9426-2C2BE388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110-A08D-419A-BEEF-EFA42FD2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D6D-78B6-4485-8FC2-6D272D76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53-BC3C-4A8E-8BE5-95F963D4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22F-A42F-4D1C-99C7-D7FF35E9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73D-F9AD-4C18-BF8D-BEE32FF2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A68-195A-4EB0-AB6F-A175BA0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C2B-5F63-4C08-BF09-4B5D526B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E01-A1B2-4BEA-83E5-3216B2A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3BC-073E-4A71-940C-251E6AB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6DE-65A0-4A04-A5DC-61EBC2E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2D6-367F-4FD4-8A0C-3C976C3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5C9E-7AFB-4AC5-9A2B-EFEE20ED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81080" y="907920"/>
            <a:ext cx="896472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4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ск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латогла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14920" y="3789360"/>
            <a:ext cx="352908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840720" cy="576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54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759640" cy="46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5688000" cy="518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124000" y="549360"/>
            <a:ext cx="337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ская башн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05880" cy="523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00000" y="260280"/>
            <a:ext cx="6624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новитая палат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816360" cy="426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032360" cy="4181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00000" y="26028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ор Васил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женног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384720" cy="396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167280" cy="3671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75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900000" y="189000"/>
            <a:ext cx="65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пола Москв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624720" cy="547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187280" y="260280"/>
            <a:ext cx="60487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вещенский собо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632720" cy="583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се необходимые человеку для жизни питательные вещества проходят через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382920" cy="410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31964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332000" y="18900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веев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897440" cy="460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116000" y="620640"/>
            <a:ext cx="566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окольня Ивана Велик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25720" cy="480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111560" cy="476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11280" y="260280"/>
            <a:ext cx="6913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одевичий монастыр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100720" cy="4543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16000" y="404640"/>
            <a:ext cx="5832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ято Данило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насты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552920" cy="466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505320" cy="393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333360"/>
            <a:ext cx="770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ято -Троиц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ргиева лав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267520" cy="4824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16000" y="333360"/>
            <a:ext cx="626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рам все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ят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616720" cy="453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42920" y="189000"/>
            <a:ext cx="59054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нский собо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545080" cy="43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00000" y="404640"/>
            <a:ext cx="669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рам Христ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ттел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334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561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260280"/>
            <a:ext cx="6985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мль - сердце Росси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28652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87280" y="333360"/>
            <a:ext cx="60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ва. Крем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924360" cy="475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816360" cy="489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125960" cy="492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260280"/>
            <a:ext cx="547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м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93732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476280"/>
            <a:ext cx="518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шни Кремл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59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7:32:05Z</dcterms:created>
  <dc:creator>NEwUser</dc:creator>
  <dc:description/>
  <dc:language>en-US</dc:language>
  <cp:lastModifiedBy>User</cp:lastModifiedBy>
  <dcterms:modified xsi:type="dcterms:W3CDTF">2010-04-02T16:58:13Z</dcterms:modified>
  <cp:revision>5</cp:revision>
  <dc:subject/>
  <dc:title>Слайд 1</dc:title>
</cp:coreProperties>
</file>