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6.jpeg" ContentType="image/jpeg"/>
  <Override PartName="/ppt/media/image55.jpeg" ContentType="image/jpeg"/>
  <Override PartName="/ppt/media/image57.gif" ContentType="image/gif"/>
  <Override PartName="/ppt/media/image27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2.gif" ContentType="image/gif"/>
  <Override PartName="/ppt/media/image44.jpeg" ContentType="image/jpeg"/>
  <Override PartName="/ppt/media/image43.jpeg" ContentType="image/jpeg"/>
  <Override PartName="/ppt/media/image90.gif" ContentType="image/gif"/>
  <Override PartName="/ppt/media/image41.jpeg" ContentType="image/jpeg"/>
  <Override PartName="/ppt/media/image38.jpeg" ContentType="image/jpeg"/>
  <Override PartName="/ppt/media/image72.png" ContentType="image/png"/>
  <Override PartName="/ppt/media/image37.gif" ContentType="image/gif"/>
  <Override PartName="/ppt/media/image25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1.gif" ContentType="image/gif"/>
  <Override PartName="/ppt/media/image76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20.png" ContentType="image/png"/>
  <Override PartName="/ppt/media/image18.jpeg" ContentType="image/jpeg"/>
  <Override PartName="/ppt/media/image28.jpeg" ContentType="image/jpeg"/>
  <Override PartName="/ppt/media/image87.jpeg" ContentType="image/jpeg"/>
  <Override PartName="/ppt/media/image24.png" ContentType="image/png"/>
  <Override PartName="/ppt/media/image22.png" ContentType="image/png"/>
  <Override PartName="/ppt/media/image31.gif" ContentType="image/gif"/>
  <Override PartName="/ppt/media/image74.jpeg" ContentType="image/jpeg"/>
  <Override PartName="/ppt/media/image21.jpeg" ContentType="image/jpeg"/>
  <Override PartName="/ppt/media/image80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3.jpeg" ContentType="image/jpeg"/>
  <Override PartName="/ppt/media/image86.png" ContentType="image/png"/>
  <Override PartName="/ppt/media/image65.jpeg" ContentType="image/jpeg"/>
  <Override PartName="/ppt/media/image45.gif" ContentType="image/gif"/>
  <Override PartName="/ppt/media/image81.jpeg" ContentType="image/jpeg"/>
  <Override PartName="/ppt/media/image75.jpeg" ContentType="image/jpeg"/>
  <Override PartName="/ppt/media/image91.jpeg" ContentType="image/jpeg"/>
  <Override PartName="/ppt/media/image70.png" ContentType="image/png"/>
  <Override PartName="/ppt/media/image64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17.jpeg" ContentType="image/jpeg"/>
  <Override PartName="/ppt/media/image4.jpeg" ContentType="image/jpeg"/>
  <Override PartName="/ppt/media/image67.jpeg" ContentType="image/jpeg"/>
  <Override PartName="/ppt/media/image69.png" ContentType="image/png"/>
  <Override PartName="/ppt/media/image66.jpeg" ContentType="image/jpeg"/>
  <Override PartName="/ppt/media/image11.png" ContentType="image/png"/>
  <Override PartName="/ppt/media/image9.jpeg" ContentType="image/jpeg"/>
  <Override PartName="/ppt/media/image61.jpeg" ContentType="image/jpeg"/>
  <Override PartName="/ppt/media/image78.jpeg" ContentType="image/jpeg"/>
  <Override PartName="/ppt/media/image15.jpeg" ContentType="image/jpeg"/>
  <Override PartName="/ppt/media/image14.png" ContentType="image/png"/>
  <Override PartName="/ppt/media/image88.jpeg" ContentType="image/jpeg"/>
  <Override PartName="/ppt/media/image12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89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39.jpeg" ContentType="image/jpeg"/>
  <Override PartName="/ppt/media/image2.gif" ContentType="image/gif"/>
  <Override PartName="/ppt/media/image7.png" ContentType="image/png"/>
  <Override PartName="/ppt/media/image84.png" ContentType="image/png"/>
  <Override PartName="/ppt/media/image62.jpeg" ContentType="image/jpeg"/>
  <Override PartName="/ppt/media/image79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585-C03A-48AE-8FB1-4E56B382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D46-D0B2-4B4E-AD7C-3DFC08DC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090-445B-4E47-9573-30DD076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1A0-227E-4A99-801B-6FD9A554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6D6-2AC7-4F38-B405-5E43F56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948-FC0B-49CD-A655-787439DA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CAB-84B7-4CCF-8766-FF5B4C45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51E-0C4D-4A38-83C4-FEB81A7A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104-8E45-4F50-9043-A79A0FB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FA9-8FF3-472A-9BC0-02D7DD6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524-22AF-4027-B319-12514028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9E5-004A-4172-82E8-A79682D2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29B-F3FB-4417-9B07-ADF4BC8FB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1.uralpress.ru/show_image_photoset.php?id=23231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trip-guide.ru/zk.htm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1.uralpress.ru/show_image_photoset.php?id=23231" TargetMode="External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hyperlink" Target="http://www1.uralpress.ru/show_image_photoset.php?id=23231" TargetMode="External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www.trip-guide.ru/zk.htm" TargetMode="External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image" Target="../media/image86.pn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gif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549360"/>
            <a:ext cx="7591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Я    Р О Д И Н А   -      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О С С И Я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0120" y="2852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4221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200" y="189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олотое коль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5805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,           Словно птицы- леб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вон колоколов.                Суздаль и Рост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022" r="0" b="0"/>
          <a:stretch/>
        </p:blipFill>
        <p:spPr>
          <a:xfrm>
            <a:off x="5003640" y="189000"/>
            <a:ext cx="3967200" cy="5183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360" y="1557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Сузд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1647720" cy="2087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50520" y="494172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уздальский 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4281"/>
          <a:stretch/>
        </p:blipFill>
        <p:spPr>
          <a:xfrm>
            <a:off x="2556000" y="692280"/>
            <a:ext cx="6337080" cy="5019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5440" y="33336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165720"/>
            <a:ext cx="89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федральный собор рождества Пресвятой Богород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582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587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широкой Волге               Башенки рез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верь и Кострома,               Чудо- тер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392360" cy="28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6360" y="189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7640" y="18900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ост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4729" t="6299" r="0" b="3156"/>
          <a:stretch/>
        </p:blipFill>
        <p:spPr>
          <a:xfrm>
            <a:off x="4932360" y="2492280"/>
            <a:ext cx="4059360" cy="289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730520" cy="206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663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9120" y="544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,            Новгород на Волхов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епость на реке.               Муром на 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13451"/>
          <a:stretch/>
        </p:blipFill>
        <p:spPr>
          <a:xfrm>
            <a:off x="2627280" y="1204920"/>
            <a:ext cx="6337440" cy="410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2200" y="25092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1949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673800" cy="550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7840" y="10800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у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172584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59640" y="602136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амятник Илье Муром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440" y="4365720"/>
            <a:ext cx="39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дружины храб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бой вели кня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нного и пе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друга ра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59640" y="3500280"/>
            <a:ext cx="38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стерами сла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лицы кузнеч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лицы гончар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лощади торгов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аздничные ярмар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з Ельца - матрё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из Тулы пр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Старая улица"/>
          <p:cNvPicPr/>
          <p:nvPr/>
        </p:nvPicPr>
        <p:blipFill>
          <a:blip r:embed="rId1"/>
          <a:stretch/>
        </p:blipFill>
        <p:spPr>
          <a:xfrm>
            <a:off x="250920" y="34480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фото | riki | Старая улица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04640"/>
            <a:ext cx="2079720" cy="2865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Старая улица &lt; ... &lt; Бульбаш.by &lt; другое"/>
          <p:cNvPicPr/>
          <p:nvPr/>
        </p:nvPicPr>
        <p:blipFill>
          <a:blip r:embed="rId4"/>
          <a:stretch/>
        </p:blipFill>
        <p:spPr>
          <a:xfrm>
            <a:off x="324000" y="3510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11199"/>
          <a:stretch/>
        </p:blipFill>
        <p:spPr>
          <a:xfrm>
            <a:off x="1979640" y="260280"/>
            <a:ext cx="6988320" cy="4654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86520" y="33336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спен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080" y="18900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657440" cy="20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64000" y="5084640"/>
            <a:ext cx="334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солнышку лицом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России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олотым коль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6880" cy="6167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2560" y="1557360"/>
            <a:ext cx="421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долго-долго-дол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амолёте нам лет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долго-долго-дол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Россию нам смотр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 увидим  мы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леса, и го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кеанские про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енты рек, озёра, гор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ы увидим даль без к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ундру, где звенит ве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поймёшь тогда, ка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ша родина больш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объятна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6200" y="3492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ала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8160" y="765000"/>
            <a:ext cx="320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В небе чаек 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Мы плывё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ост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Остров Вала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Голубая ш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 скалистом оз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Чудо - монаст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расота земли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Голубика – 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В капельках за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6711"/>
          <a:stretch/>
        </p:blipFill>
        <p:spPr>
          <a:xfrm>
            <a:off x="324000" y="692280"/>
            <a:ext cx="4248000" cy="2974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7534"/>
          <a:stretch/>
        </p:blipFill>
        <p:spPr>
          <a:xfrm>
            <a:off x="324000" y="3860640"/>
            <a:ext cx="4248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341360"/>
            <a:ext cx="36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узыку и пля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онях джиг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качут без оп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лать украш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авятся чека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стные 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ить кефир-ай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девает бу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дальний путь чаб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720" y="5013360"/>
            <a:ext cx="32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адкий вино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хозяин гост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родному,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" y="10800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 Кавк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9839" t="7941" r="9839" b="15874"/>
          <a:stretch/>
        </p:blipFill>
        <p:spPr>
          <a:xfrm>
            <a:off x="5076720" y="476280"/>
            <a:ext cx="36054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мы Родиной зовём?         И берёзки, вдоль кото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ом, где мы с тобой живём,   Рядом с мамой мы ид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6920" y="32400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 Вол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8200" y="2060640"/>
            <a:ext cx="453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 на Волге бы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вы дел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д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то попался на крюч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м попался суда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не верить вам, ребя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лга рыбою бог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40640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9840" y="10800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 степной ста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4940280"/>
            <a:ext cx="71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ороне степной                 Песни нам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емлю сушит зной.                Молока д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растят ко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растят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180036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семья"/>
          <p:cNvPicPr/>
          <p:nvPr/>
        </p:nvPicPr>
        <p:blipFill>
          <a:blip r:embed="rId2"/>
          <a:stretch/>
        </p:blipFill>
        <p:spPr>
          <a:xfrm>
            <a:off x="2843280" y="765000"/>
            <a:ext cx="5975280" cy="39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400" y="25092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ральс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13280" y="3592440"/>
            <a:ext cx="371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ральски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 каменным пли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дут за собой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рану малах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рану, где не сч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агоценных кам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рану работя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добр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92360" cy="189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фото | La pulya≈ | Малахитовая шкатулка">
            <a:hlinkClick r:id="rId2"/>
          </p:cNvPr>
          <p:cNvPicPr/>
          <p:nvPr/>
        </p:nvPicPr>
        <p:blipFill>
          <a:blip r:embed="rId3"/>
          <a:srcRect l="4416" t="5359" r="4416" b="5359"/>
          <a:stretch/>
        </p:blipFill>
        <p:spPr>
          <a:xfrm>
            <a:off x="3348000" y="907920"/>
            <a:ext cx="2889360" cy="2332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060640"/>
            <a:ext cx="29937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200" y="25092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аёжная стр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4000" y="4941720"/>
            <a:ext cx="388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едры, пихты, сосня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ось рогатый у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уропатка бьёт кры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 реке плывёт па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2502" t="0" r="0" b="16802"/>
          <a:stretch/>
        </p:blipFill>
        <p:spPr>
          <a:xfrm>
            <a:off x="4500720" y="549360"/>
            <a:ext cx="4500360" cy="323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7828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480" y="25092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14174"/>
          <a:stretch/>
        </p:blipFill>
        <p:spPr>
          <a:xfrm>
            <a:off x="1476360" y="836640"/>
            <a:ext cx="7246800" cy="4133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96720" y="5157720"/>
            <a:ext cx="479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ь в тайге сибирской н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ольше моря чудо-ч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то – 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окруженье диких ск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7120" y="349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Дальнем 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360" y="5084640"/>
            <a:ext cx="415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игры –жители Уссу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полосатой ходят шк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то очень редк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красив, и знаме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95480" cy="113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3120" y="1080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 Камч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7720" y="5805360"/>
            <a:ext cx="86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дали вулкан дымится.              Здесь Родины гра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д сопками туман.                     Здесь Тихий оке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3937" r="0" b="0"/>
          <a:stretch/>
        </p:blipFill>
        <p:spPr>
          <a:xfrm>
            <a:off x="4859280" y="390600"/>
            <a:ext cx="3960720" cy="253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Извержение Ключевского вулкана. Небесное пламя"/>
          <p:cNvPicPr/>
          <p:nvPr/>
        </p:nvPicPr>
        <p:blipFill>
          <a:blip r:embed="rId2"/>
          <a:stretch/>
        </p:blipFill>
        <p:spPr>
          <a:xfrm>
            <a:off x="179280" y="1125360"/>
            <a:ext cx="4248360" cy="176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943440" cy="262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0" t="0" r="0" b="7878"/>
          <a:stretch/>
        </p:blipFill>
        <p:spPr>
          <a:xfrm>
            <a:off x="179280" y="3141720"/>
            <a:ext cx="42483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479736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Живут в России разные           У кажд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роды с давних пор.              Язык свой и на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ним – тайга по нраву,          Один – черкеску нос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им – степной простор.     Другой надел хал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280" y="18900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сийская 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81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4776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В Екатеринбурге на Российском фестивале единства народов встретились фольклористы со всей России (фото Юлии Кочкиной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836640"/>
            <a:ext cx="4824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22760" y="366408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ин – рыбак с рожд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ой  - олене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ин кумыс готов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ой готовит м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ним – милее о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им – милей 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Родина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нас у всех -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1"/>
          <a:stretch/>
        </p:blipFill>
        <p:spPr>
          <a:xfrm>
            <a:off x="4859280" y="189000"/>
            <a:ext cx="3675240" cy="341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фото | Олег Иванов | Оленевод Бельды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900000" y="260280"/>
            <a:ext cx="2305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усские сувен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ж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4797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мы Родиной зовём?       Наши праздники и пес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ле с тонким колоском,      Тёплый вечер за ок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539640" y="17784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356000" y="1341360"/>
            <a:ext cx="47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амовар раздула Т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ула – древняя земл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Белой скатертью взмах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 Заречья до Кр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амовар гудит и топ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опку в небо белый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Где ты ни был днём 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чью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ловно дома рядом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29840" y="26028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льский сам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64200" y="639720"/>
            <a:ext cx="44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гудит в лесной изб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городах среди степ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з него не редко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аем потчевал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лководец, князь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 собой его воз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амовар наш нюхал поро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дел крепость Изма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гудит, не уста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вести лет уже под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амовар душа жива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 веселью, сказке б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995480" cy="237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Хох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Шестигранник большой"/>
          <p:cNvPicPr/>
          <p:nvPr/>
        </p:nvPicPr>
        <p:blipFill>
          <a:blip r:embed="rId1"/>
          <a:srcRect l="9841" t="0" r="9841" b="0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Плошка"/>
          <p:cNvPicPr/>
          <p:nvPr/>
        </p:nvPicPr>
        <p:blipFill>
          <a:blip r:embed="rId2"/>
          <a:srcRect l="19687" t="26249" r="9843" b="13125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48560" y="4665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ал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3168360" cy="28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219640" y="209520"/>
            <a:ext cx="3673440" cy="2009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780000" y="2276640"/>
            <a:ext cx="3960720" cy="2315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57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284720" y="47242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атрёшки Сергиев- По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городецкая роспись"/>
          <p:cNvPicPr/>
          <p:nvPr/>
        </p:nvPicPr>
        <p:blipFill>
          <a:blip r:embed="rId1"/>
          <a:stretch/>
        </p:blipFill>
        <p:spPr>
          <a:xfrm>
            <a:off x="270036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городецкая роспись"/>
          <p:cNvPicPr/>
          <p:nvPr/>
        </p:nvPicPr>
        <p:blipFill>
          <a:blip r:embed="rId2"/>
          <a:stretch/>
        </p:blipFill>
        <p:spPr>
          <a:xfrm>
            <a:off x="6208560" y="3500280"/>
            <a:ext cx="2733840" cy="3162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городецкая роспись"/>
          <p:cNvPicPr/>
          <p:nvPr/>
        </p:nvPicPr>
        <p:blipFill>
          <a:blip r:embed="rId3"/>
          <a:stretch/>
        </p:blipFill>
        <p:spPr>
          <a:xfrm>
            <a:off x="611280" y="836640"/>
            <a:ext cx="3168720" cy="2496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городецкая роспись"/>
          <p:cNvPicPr/>
          <p:nvPr/>
        </p:nvPicPr>
        <p:blipFill>
          <a:blip r:embed="rId4"/>
          <a:stretch/>
        </p:blipFill>
        <p:spPr>
          <a:xfrm>
            <a:off x="5148360" y="260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городецкая роспись"/>
          <p:cNvPicPr/>
          <p:nvPr/>
        </p:nvPicPr>
        <p:blipFill>
          <a:blip r:embed="rId5"/>
          <a:stretch/>
        </p:blipFill>
        <p:spPr>
          <a:xfrm>
            <a:off x="179280" y="3500280"/>
            <a:ext cx="2341800" cy="3159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17320" y="108000"/>
            <a:ext cx="43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ородецкая рос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Балал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6240" y="5084640"/>
            <a:ext cx="76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http://www.fotokritik.ru/photo/233819/-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4800" y="558972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ttp://www.trip-guide.ru/zk.htm -Лоцман путеше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360" y="30492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413000"/>
            <a:ext cx="86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езентация сделана по книге - учебнику для малы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.Степанова  «Моя Родина – Росс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8560" y="21337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люстрация на первой  странице Н.Гричен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4920" y="299736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формление Берюховой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9320" y="350028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йт http://www.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720" y="4581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пользован материал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66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мы Родиной зовём?          И под небом синим-си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ё, что в сердце бережём,     Флаг России над Крем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33336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рб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365720"/>
            <a:ext cx="50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России велича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гербе орёл двугла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б на запад на 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смотреть бы сразу м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льный, мудрый он и горд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– России дух свобод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408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360" y="50133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360" y="1159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16360" y="765000"/>
            <a:ext cx="5761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16360" y="17964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4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3480" y="250920"/>
            <a:ext cx="19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7704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2720" y="333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08464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 – это Красная площ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 – это башни Кр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 – это сердце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торое любит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1665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9640" y="17928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Санкт - 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809720" cy="2087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551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царя Петра творенье,     Кораблей заморских флаги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 славы, город сад.     Вдоль Невы дворцов па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Берюхов</cp:lastModifiedBy>
  <dcterms:modified xsi:type="dcterms:W3CDTF">2008-02-08T18:15:53Z</dcterms:modified>
  <cp:revision>33</cp:revision>
  <dc:subject/>
  <dc:title>Слайд 1</dc:title>
</cp:coreProperties>
</file>