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A665-1790-4BF3-B7C2-73C2DC085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елое вещество образуют отростки ней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ерое вещество образуют тела нейр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880-6A95-44B9-BFBA-6C3F07C9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9D2-613C-4DCD-AA7E-C123A0F6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7DE-9C71-4DB0-9C71-9F2BBC65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5DF-F039-4F06-80E7-9AB7CA64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DB3-F1B5-4BE2-A939-0B00C944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C8B-7CFA-47F3-B3DD-8ABB93A6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A7A-8D8C-4D8D-AE05-93A64F6B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5CA-D7D0-48C4-8AE3-0AA682CC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500-8240-4046-AA96-7A84690B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D34-C1F9-45B8-984F-14A5086C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1DD-D44F-44B0-BCD8-0266AA85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9F1-ADB7-49EB-B820-1F01075D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0119-402C-41EF-83C8-4FD3347A3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biology.ru/course/content/chapter7/section2/paragraph8/images/07020803.png" TargetMode="Externa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tryphonov.narod.ru/tryphonov2/terms2/mzcrs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8512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Урок биологии в 8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Учитель Селезнева И.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МОУ СОШ п. Рощин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Чаплыгин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Липец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71640" y="333360"/>
            <a:ext cx="6769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рвная система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вные узлы (гангли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копление нейронов вне центральной нерв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вные оконч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вные волокна заканчиваются концевыми аппаратами — нервными окончаниями. Различают три группы нервных оконча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нейрональные синапсы, осуществляющие связь нейронов между соб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орные окончания (эффекторы), передающие нервный импульс на ткани рабочего органа (на мышечные или железистые клетк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цепторные (или аффекторные, или же чувствительные) оконч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р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56000" y="1844640"/>
            <a:ext cx="419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ение нервного воло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6392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572000" y="2924280"/>
            <a:ext cx="4317840" cy="3454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956720" y="6453360"/>
            <a:ext cx="1008000" cy="404640"/>
          </a:xfrm>
          <a:prstGeom prst="rightArrow">
            <a:avLst>
              <a:gd name="adj1" fmla="val 50000"/>
              <a:gd name="adj2" fmla="val 622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Роль прямых и обратных связей в рефлекторной рег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24000" y="1052280"/>
            <a:ext cx="4762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флекторная ду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цепочка нейронов, образующая путь нервного импульса при осуществлении рефлек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флекторная дуга: рецептор, чувствительный нейрон, ЦНС(вставочные нейроны), двигательные нейроны, рабочий орг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1533600"/>
            <a:ext cx="3828960" cy="532440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3851280" y="4221000"/>
            <a:ext cx="5086440" cy="1079640"/>
            <a:chOff x="3851280" y="4221000"/>
            <a:chExt cx="5086440" cy="1079640"/>
          </a:xfrm>
        </p:grpSpPr>
        <p:sp>
          <p:nvSpPr>
            <p:cNvPr id="153" name=""/>
            <p:cNvSpPr/>
            <p:nvPr/>
          </p:nvSpPr>
          <p:spPr>
            <a:xfrm>
              <a:off x="3851280" y="4221000"/>
              <a:ext cx="5086440" cy="1079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61720" y="4230360"/>
              <a:ext cx="5073480" cy="43740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99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35280" y="4437000"/>
            <a:ext cx="611280" cy="608040"/>
            <a:chOff x="3635280" y="4437000"/>
            <a:chExt cx="611280" cy="608040"/>
          </a:xfrm>
        </p:grpSpPr>
        <p:sp>
          <p:nvSpPr>
            <p:cNvPr id="156" name=""/>
            <p:cNvSpPr/>
            <p:nvPr/>
          </p:nvSpPr>
          <p:spPr>
            <a:xfrm>
              <a:off x="3635280" y="443700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648240" y="4446360"/>
              <a:ext cx="585720" cy="586080"/>
              <a:chOff x="3648240" y="4446360"/>
              <a:chExt cx="585720" cy="586080"/>
            </a:xfrm>
          </p:grpSpPr>
          <p:sp>
            <p:nvSpPr>
              <p:cNvPr id="158" name=""/>
              <p:cNvSpPr/>
              <p:nvPr/>
            </p:nvSpPr>
            <p:spPr>
              <a:xfrm>
                <a:off x="3648240" y="4446360"/>
                <a:ext cx="585720" cy="586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56160" y="4449600"/>
                <a:ext cx="569880" cy="571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662280" y="445428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692520" y="447012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3492360" y="4508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27640" y="4292640"/>
            <a:ext cx="432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ыполнить практическ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Действие прямых и обратных связей.  Стр. 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4995360"/>
            <a:ext cx="854244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язи прям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гналы от нервного центра к исполнительному органу, вызывающие его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язи обрат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ообщения» исполнительного органа о своем состоянии нервному цент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58327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репление изуче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Что называют рефлексом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В темноте, заходя в свою комнату, вы безошибочно определяете местонахождение выключателя и зажигаете свет. Безусловным или условным рефлексом является ваше движение в сторону выключателя? Ответ обоснуйт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Сколько звеньев включает рефлекторная дуга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Какими анатомическими структурами представлен каждый отдел рефлекторной дуги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Возможно ли осуществление рефлекса при нарушении одного из звеньев рефлекторной дуги? Почему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У некоторых людей коленный рефлекс бывает слабо выражен. Чтобы его усилить, предлагают сцепить руки перед грудью и тянуть их в разные стороны. Почему это приводит к усилению рефлекс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м. работа: стр. 178-1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08720" y="6237360"/>
            <a:ext cx="1440000" cy="620640"/>
          </a:xfrm>
          <a:prstGeom prst="rightArrow">
            <a:avLst>
              <a:gd name="adj1" fmla="val 50000"/>
              <a:gd name="adj2" fmla="val 58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втономный отдел нерв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700360" y="692280"/>
            <a:ext cx="3958560" cy="1569600"/>
            <a:chOff x="2700360" y="692280"/>
            <a:chExt cx="3958560" cy="1569600"/>
          </a:xfrm>
        </p:grpSpPr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3076200" y="1923120"/>
              <a:ext cx="325836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2700360" y="692280"/>
              <a:ext cx="395856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700360" y="692280"/>
              <a:ext cx="3932640" cy="1451880"/>
            </a:xfrm>
            <a:prstGeom prst="ellipse">
              <a:avLst/>
            </a:prstGeom>
            <a:solidFill>
              <a:srgbClr val="bbe0e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06080" y="721800"/>
              <a:ext cx="3091320" cy="502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0" y="1916280"/>
            <a:ext cx="3994920" cy="2304360"/>
            <a:chOff x="0" y="1916280"/>
            <a:chExt cx="3994920" cy="2304360"/>
          </a:xfrm>
        </p:grpSpPr>
        <p:pic>
          <p:nvPicPr>
            <p:cNvPr id="179" name="" descr=""/>
            <p:cNvPicPr/>
            <p:nvPr/>
          </p:nvPicPr>
          <p:blipFill>
            <a:blip r:embed="rId4"/>
            <a:stretch/>
          </p:blipFill>
          <p:spPr>
            <a:xfrm>
              <a:off x="379440" y="3723120"/>
              <a:ext cx="3288240" cy="49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5"/>
            <a:stretch/>
          </p:blipFill>
          <p:spPr>
            <a:xfrm>
              <a:off x="0" y="1916280"/>
              <a:ext cx="399492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1916280"/>
              <a:ext cx="3969000" cy="2131560"/>
            </a:xfrm>
            <a:prstGeom prst="ellipse">
              <a:avLst/>
            </a:prstGeom>
            <a:solidFill>
              <a:srgbClr val="333399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9320" y="1959480"/>
              <a:ext cx="3119760" cy="7372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003640" y="1989000"/>
            <a:ext cx="3816000" cy="2302920"/>
            <a:chOff x="5003640" y="1989000"/>
            <a:chExt cx="3816000" cy="2302920"/>
          </a:xfrm>
        </p:grpSpPr>
        <p:pic>
          <p:nvPicPr>
            <p:cNvPr id="184" name="" descr=""/>
            <p:cNvPicPr/>
            <p:nvPr/>
          </p:nvPicPr>
          <p:blipFill>
            <a:blip r:embed="rId6"/>
            <a:stretch/>
          </p:blipFill>
          <p:spPr>
            <a:xfrm>
              <a:off x="5366160" y="3794760"/>
              <a:ext cx="314064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7"/>
            <a:stretch/>
          </p:blipFill>
          <p:spPr>
            <a:xfrm>
              <a:off x="5003640" y="1989000"/>
              <a:ext cx="3816000" cy="212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003640" y="1989000"/>
              <a:ext cx="3790800" cy="2130480"/>
            </a:xfrm>
            <a:prstGeom prst="ellipse">
              <a:avLst/>
            </a:prstGeom>
            <a:solidFill>
              <a:srgbClr val="009999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4600" y="2032200"/>
              <a:ext cx="2979720" cy="7369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258920" y="4437000"/>
            <a:ext cx="3384000" cy="2071440"/>
            <a:chOff x="1258920" y="4437000"/>
            <a:chExt cx="3384000" cy="2071440"/>
          </a:xfrm>
        </p:grpSpPr>
        <p:pic>
          <p:nvPicPr>
            <p:cNvPr id="189" name="" descr=""/>
            <p:cNvPicPr/>
            <p:nvPr/>
          </p:nvPicPr>
          <p:blipFill>
            <a:blip r:embed="rId8"/>
            <a:stretch/>
          </p:blipFill>
          <p:spPr>
            <a:xfrm>
              <a:off x="1580400" y="6061320"/>
              <a:ext cx="2785320" cy="44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9"/>
            <a:stretch/>
          </p:blipFill>
          <p:spPr>
            <a:xfrm>
              <a:off x="1258920" y="4437000"/>
              <a:ext cx="3384000" cy="19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258920" y="4437000"/>
              <a:ext cx="3361680" cy="191592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05600" y="4475880"/>
              <a:ext cx="2642400" cy="6627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894200" y="4292640"/>
            <a:ext cx="4249080" cy="2564640"/>
            <a:chOff x="4894200" y="4292640"/>
            <a:chExt cx="4249080" cy="2564640"/>
          </a:xfrm>
        </p:grpSpPr>
        <p:pic>
          <p:nvPicPr>
            <p:cNvPr id="194" name="" descr=""/>
            <p:cNvPicPr/>
            <p:nvPr/>
          </p:nvPicPr>
          <p:blipFill>
            <a:blip r:embed="rId10"/>
            <a:stretch/>
          </p:blipFill>
          <p:spPr>
            <a:xfrm>
              <a:off x="5297760" y="6303600"/>
              <a:ext cx="3497400" cy="55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1"/>
            <a:stretch/>
          </p:blipFill>
          <p:spPr>
            <a:xfrm>
              <a:off x="4894200" y="4292640"/>
              <a:ext cx="4249080" cy="236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894200" y="4292640"/>
              <a:ext cx="4221360" cy="237240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29800" y="4340880"/>
              <a:ext cx="3318120" cy="820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34880" y="1006200"/>
            <a:ext cx="2799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Нерв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2048760"/>
            <a:ext cx="3376800" cy="18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ома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дчинена воле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егулирует работу поперечно-полосатой мускул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вигательные центры - КБП - лобная доля - план будущих дейст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92720" y="2035080"/>
            <a:ext cx="335124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втоном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вегетативн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 подчинена воле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егулирует работу внутренних органов, желез, кровеносных сосудов,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егетативный центр - гипоталам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63640" y="4511880"/>
            <a:ext cx="259236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Симпа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о время интенсивной работы, требующей затрат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ела нейронов в грудном и поясничном отделах 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360" y="4676400"/>
            <a:ext cx="421164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Парасимпа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пособствует восстановлению запасов Е во время сна и отды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ела нейронов в среднем, продолговатом, крестцовом отделе 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центр блуждающего нерва - круп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763280" y="141300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148428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635280" y="3716280"/>
            <a:ext cx="1657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5640" y="3789360"/>
            <a:ext cx="73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9000" y="-186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0" y="189000"/>
          <a:ext cx="8964720" cy="6310080"/>
        </p:xfrm>
        <a:graphic>
          <a:graphicData uri="http://schemas.openxmlformats.org/drawingml/2006/table">
            <a:tbl>
              <a:tblPr/>
              <a:tblGrid>
                <a:gridCol w="4483080"/>
                <a:gridCol w="4481640"/>
              </a:tblGrid>
              <a:tr h="1191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555555"/>
                          </a:solidFill>
                          <a:latin typeface="Arial"/>
                          <a:ea typeface="Arial"/>
                        </a:rPr>
                        <a:t>Регуляция деятельности внутренних органов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c4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55555"/>
                          </a:solidFill>
                          <a:latin typeface="Arial"/>
                          <a:ea typeface="Arial"/>
                        </a:rPr>
                        <a:t>Подотделы автономной (вегетативной) нервной 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55555"/>
                          </a:solidFill>
                          <a:latin typeface="Arial"/>
                          <a:ea typeface="Arial"/>
                        </a:rPr>
                        <a:t>Симпатический подот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55555"/>
                          </a:solidFill>
                          <a:latin typeface="Arial"/>
                          <a:ea typeface="Arial"/>
                        </a:rPr>
                        <a:t>Парасимпатический подот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55555"/>
                          </a:solidFill>
                          <a:latin typeface="Arial"/>
                          <a:ea typeface="Arial"/>
                        </a:rPr>
                        <a:t>Активизируется, когда организму предстоит напряженная работа – система аварийной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55555"/>
                          </a:solidFill>
                          <a:latin typeface="Arial"/>
                          <a:ea typeface="Arial"/>
                        </a:rPr>
                        <a:t>Активизируется при переходе от работы к отдыху – система отб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55555"/>
                          </a:solidFill>
                          <a:latin typeface="Arial"/>
                          <a:ea typeface="Arial"/>
                        </a:rPr>
                        <a:t>Поднимается кровяное давление, усиливается сокращение сердца, происходит распад гликогена, и в плазме крови оказывается необходимая для работы мышц глюкоза. Работа органов, не участвующих в движении, сокращается, затормаживается выделение пищеварительных соков, перистальтика кишечн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55555"/>
                          </a:solidFill>
                          <a:latin typeface="Arial"/>
                          <a:ea typeface="Arial"/>
                        </a:rPr>
                        <a:t>Сердце снижает свою работу, сосуды расширяются, артериальное давление падает, глюкоза снова превращается в гликоген. Отделение пищеварительных соков возрастает, усиливаются перистальтика, переваривание пищи и поступление ее в кров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55555"/>
                          </a:solidFill>
                          <a:latin typeface="Arial"/>
                          <a:ea typeface="Arial"/>
                        </a:rPr>
                        <a:t>Обе системы всегда действуют согласованно и обеспечивают наиболее благоприятный режим работы применительно к разным услов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-684360" y="6858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Вегетативная нервная система"/>
          <p:cNvPicPr/>
          <p:nvPr/>
        </p:nvPicPr>
        <p:blipFill>
          <a:blip r:embed="rId2"/>
          <a:stretch/>
        </p:blipFill>
        <p:spPr>
          <a:xfrm>
            <a:off x="0" y="571680"/>
            <a:ext cx="5614920" cy="6286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508720" y="862560"/>
            <a:ext cx="345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гетативной нервной системой, называют тот отдел нервной системы, который обеспечивает жизненно важные функции организма. Вегетативная нервная система иннервирует сердце, кровеносные и лимфатические сосуды, лимфатические узлы, внутренние органы, а также осуществляет трофику тканей. Благодаря деятельности вегетативной нервной системы поддерживается постоянство жизненных констант организма, его внутренн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импатической и парасимпатической систем работают вместе. (Текст учебника стр.18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Актуализац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Ответить на вопросы стр. 18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Дом. работа: стр 181. -18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92360" y="620640"/>
            <a:ext cx="5086440" cy="1079640"/>
            <a:chOff x="1692360" y="620640"/>
            <a:chExt cx="5086440" cy="1079640"/>
          </a:xfrm>
        </p:grpSpPr>
        <p:sp>
          <p:nvSpPr>
            <p:cNvPr id="217" name=""/>
            <p:cNvSpPr/>
            <p:nvPr/>
          </p:nvSpPr>
          <p:spPr>
            <a:xfrm>
              <a:off x="1692360" y="620640"/>
              <a:ext cx="5086440" cy="1079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02800" y="630000"/>
              <a:ext cx="5073480" cy="43740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99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547640" y="1052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619280" y="907920"/>
            <a:ext cx="720360" cy="679320"/>
            <a:chOff x="1619280" y="907920"/>
            <a:chExt cx="720360" cy="679320"/>
          </a:xfrm>
        </p:grpSpPr>
        <p:sp>
          <p:nvSpPr>
            <p:cNvPr id="221" name=""/>
            <p:cNvSpPr/>
            <p:nvPr/>
          </p:nvSpPr>
          <p:spPr>
            <a:xfrm>
              <a:off x="1619280" y="907920"/>
              <a:ext cx="720360" cy="6793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634400" y="918360"/>
              <a:ext cx="690120" cy="654480"/>
              <a:chOff x="1634400" y="918360"/>
              <a:chExt cx="690120" cy="654480"/>
            </a:xfrm>
          </p:grpSpPr>
          <p:sp>
            <p:nvSpPr>
              <p:cNvPr id="223" name=""/>
              <p:cNvSpPr/>
              <p:nvPr/>
            </p:nvSpPr>
            <p:spPr>
              <a:xfrm>
                <a:off x="1634400" y="918360"/>
                <a:ext cx="690120" cy="6544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43400" y="921960"/>
                <a:ext cx="671400" cy="638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50600" y="927000"/>
                <a:ext cx="639720" cy="597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86240" y="944640"/>
                <a:ext cx="570600" cy="484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"/>
          <p:cNvSpPr/>
          <p:nvPr/>
        </p:nvSpPr>
        <p:spPr>
          <a:xfrm>
            <a:off x="2340000" y="620640"/>
            <a:ext cx="432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ыполнить практическ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Штриховое раздражение кожи. Стр. 183 учеб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1052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003320" y="-22750560"/>
          <a:ext cx="182520" cy="523605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12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6f006f"/>
                          </a:solidFill>
                          <a:latin typeface="Arial"/>
                          <a:ea typeface="Arial"/>
                        </a:rPr>
                        <a:t>Схема. </a:t>
                      </a:r>
                      <a:r>
                        <a:rPr b="1" lang="ru-RU" sz="800" spc="-1" strike="noStrike">
                          <a:solidFill>
                            <a:srgbClr val="6f006f"/>
                          </a:solidFill>
                          <a:latin typeface="Arial"/>
                          <a:ea typeface="Arial"/>
                        </a:rPr>
                        <a:t>Периферическая часть вегетативного (автономного) отдела нервной системы</a:t>
                      </a:r>
                      <a:r>
                        <a:rPr b="0" lang="ru-RU" sz="800" spc="-1" strike="noStrike">
                          <a:solidFill>
                            <a:srgbClr val="6f006f"/>
                          </a:solidFill>
                          <a:latin typeface="Arial"/>
                          <a:ea typeface="Arial"/>
                        </a:rPr>
                        <a:t>. </a:t>
                      </a:r>
                      <a:br>
                        <a:rPr sz="800"/>
                      </a:br>
                      <a:r>
                        <a:rPr b="0" i="1" lang="ru-RU" sz="800" spc="-1" strike="noStrike">
                          <a:solidFill>
                            <a:srgbClr val="6f006f"/>
                          </a:solidFill>
                          <a:latin typeface="Arial"/>
                          <a:ea typeface="Arial"/>
                        </a:rPr>
                        <a:t>Модификация</a:t>
                      </a:r>
                      <a:r>
                        <a:rPr b="0" lang="ru-RU" sz="800" spc="-1" strike="noStrike">
                          <a:solidFill>
                            <a:srgbClr val="6f006f"/>
                          </a:solidFill>
                          <a:latin typeface="Arial"/>
                          <a:ea typeface="Arial"/>
                        </a:rPr>
                        <a:t>: Encyclopaedia Brittanica,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093680" y="-7304040"/>
            <a:ext cx="7048440" cy="665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1003320" y="-22750560"/>
          <a:ext cx="182520" cy="523605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12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6f006f"/>
                          </a:solidFill>
                          <a:latin typeface="Arial"/>
                          <a:ea typeface="Arial"/>
                        </a:rPr>
                        <a:t>Схема. </a:t>
                      </a:r>
                      <a:r>
                        <a:rPr b="1" lang="ru-RU" sz="800" spc="-1" strike="noStrike">
                          <a:solidFill>
                            <a:srgbClr val="6f006f"/>
                          </a:solidFill>
                          <a:latin typeface="Arial"/>
                          <a:ea typeface="Arial"/>
                        </a:rPr>
                        <a:t>Периферическая часть вегетативного (автономного) отдела нервной системы</a:t>
                      </a:r>
                      <a:r>
                        <a:rPr b="0" lang="ru-RU" sz="800" spc="-1" strike="noStrike">
                          <a:solidFill>
                            <a:srgbClr val="6f006f"/>
                          </a:solidFill>
                          <a:latin typeface="Arial"/>
                          <a:ea typeface="Arial"/>
                        </a:rPr>
                        <a:t>. </a:t>
                      </a:r>
                      <a:br>
                        <a:rPr sz="800"/>
                      </a:br>
                      <a:r>
                        <a:rPr b="0" i="1" lang="ru-RU" sz="800" spc="-1" strike="noStrike">
                          <a:solidFill>
                            <a:srgbClr val="6f006f"/>
                          </a:solidFill>
                          <a:latin typeface="Arial"/>
                          <a:ea typeface="Arial"/>
                        </a:rPr>
                        <a:t>Модификация</a:t>
                      </a:r>
                      <a:r>
                        <a:rPr b="0" lang="ru-RU" sz="800" spc="-1" strike="noStrike">
                          <a:solidFill>
                            <a:srgbClr val="6f006f"/>
                          </a:solidFill>
                          <a:latin typeface="Arial"/>
                          <a:ea typeface="Arial"/>
                        </a:rPr>
                        <a:t>: Encyclopaedia Brittanica,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093680" y="-7304040"/>
            <a:ext cx="7048440" cy="66578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667640" y="6453360"/>
            <a:ext cx="1152360" cy="404640"/>
          </a:xfrm>
          <a:prstGeom prst="rightArrow">
            <a:avLst>
              <a:gd name="adj1" fmla="val 50000"/>
              <a:gd name="adj2" fmla="val 711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формировать знания о строении нервной системы, ее функциях; раскрыть зависимость выполняемых функций от особенностей нервных клеток; рефлекторный принцип работы нервной системы, механизм нервной регуляции; продолжить развивать навыки и приемы: сравнение, анализ, обобщение; работа с книгой, самонаблюдения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132000" y="76500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ин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1700280"/>
            <a:ext cx="2448000" cy="3445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ерое ве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08720" y="1773360"/>
            <a:ext cx="2448000" cy="344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елое ве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2708280"/>
            <a:ext cx="1800000" cy="649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ставочные ней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68360" y="2708280"/>
            <a:ext cx="1798920" cy="7207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ела и дендриты двигательных нейр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84720" y="270828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ксоны нейронов, образующих нисходящие пу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32720" y="2781360"/>
            <a:ext cx="201600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ксоны нейронов, образующих восходящие пу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4149720"/>
            <a:ext cx="3673440" cy="1727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ефлектор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участие в двигательных реакция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ун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центры безусловных рефлексов (колен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егетативные центры рефлекторного мочеиспускания, дефе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92720" y="4149720"/>
            <a:ext cx="360036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оводников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проведение нервных импульс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ун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вязь отделов спинного моз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вязь ГМ с другими частями ЦН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оединение рецепторов с исполняющими орган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76720" y="1341360"/>
            <a:ext cx="3668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56000" y="2133720"/>
            <a:ext cx="3664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419280" y="1413000"/>
            <a:ext cx="360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205000"/>
            <a:ext cx="3664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556000" y="3500280"/>
            <a:ext cx="5032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258560" y="2133720"/>
            <a:ext cx="36036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508720" y="2133720"/>
            <a:ext cx="50328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32000" y="3429000"/>
            <a:ext cx="43164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92720" y="3500280"/>
            <a:ext cx="509760" cy="53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7451640" y="3573360"/>
            <a:ext cx="43344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0"/>
            <a:ext cx="5113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инной мозг (СМ) 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яж длинной 45 см., диаметром 1 см. В центре - канал, заполненный спиномозговой жидк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 состоит из 31-32 сегмен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 ш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 груд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 пояснич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-2 копчиков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яснично-крестцовые нервы следуют в канал на значительном расстоянии и образуют конский хв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СМ иннервирует скелетную мускулатуру (кроме мышц головы) и внутренние орг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дние корешки - аксоны двигательных нейро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ние корешки - аксоны чувствительных нейро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иномозговая жидкость (СМЖ) вырабатывается сосудистыми сплетениями желудочков мозга; по составу похожа на плазму крови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120-150 м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кции СМЖ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мортизатор - предохраняет ГМ и СМ от сотряс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ставка питательных веществ ко всем отделам ЦНС и удаление продуктов обм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держание уровня осмотического давления (60-140 мм. вод. ст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900000" y="4652640"/>
            <a:ext cx="464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нной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з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3759120" cy="4105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152960" y="0"/>
            <a:ext cx="4991040" cy="3733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484360" y="2682720"/>
            <a:ext cx="4175280" cy="41752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195640" y="2133720"/>
            <a:ext cx="230508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95640" y="2276640"/>
            <a:ext cx="115236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смотреть рисунки 78, 79 учебника, образование соматического и вегетативного безусловного рефлек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8569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660840" cy="4392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3719520" cy="4464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11280" y="404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Проводящие пути спинного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788000" y="5527800"/>
            <a:ext cx="4031280" cy="1330200"/>
            <a:chOff x="4788000" y="5527800"/>
            <a:chExt cx="4031280" cy="1330200"/>
          </a:xfrm>
        </p:grpSpPr>
        <p:sp>
          <p:nvSpPr>
            <p:cNvPr id="278" name=""/>
            <p:cNvSpPr/>
            <p:nvPr/>
          </p:nvSpPr>
          <p:spPr>
            <a:xfrm>
              <a:off x="4788000" y="6535440"/>
              <a:ext cx="402444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94840" y="5527800"/>
              <a:ext cx="402444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1746"/>
                </a:gs>
                <a:gs pos="50000">
                  <a:srgbClr val="333399">
                    <a:alpha val="50196"/>
                  </a:srgbClr>
                </a:gs>
                <a:gs pos="100000">
                  <a:srgbClr val="17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39640" y="5527800"/>
            <a:ext cx="3744360" cy="1330200"/>
            <a:chOff x="539640" y="5527800"/>
            <a:chExt cx="3744360" cy="1330200"/>
          </a:xfrm>
        </p:grpSpPr>
        <p:sp>
          <p:nvSpPr>
            <p:cNvPr id="281" name=""/>
            <p:cNvSpPr/>
            <p:nvPr/>
          </p:nvSpPr>
          <p:spPr>
            <a:xfrm>
              <a:off x="539640" y="6535440"/>
              <a:ext cx="373788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6120" y="5527800"/>
              <a:ext cx="373788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>
                    <a:alpha val="50196"/>
                  </a:srgbClr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932360" y="5942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сут нервные импульсы от различных уровней головного моз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5640" y="594216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Информирует» о событиях внешнего мира и состоянии внутренн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665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Спинной мозг находи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в позвоночном канале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в спинномозговом канале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в грудном отделе позвоноч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Диаметр спинного мозга раве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1 мм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1 см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2 с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От спинного мозга от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30 пар спинномозговых нервов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31 пара спинномозговых нервов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33 пары спинномозговых нерв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Нервные узлы находя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на передних корешках спинномозговых нервов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на задних корешках спинномозговых нервов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на обоих корешках спинномозговых нерв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Каковы функции спинного мозг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двигательная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защитная и опорная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рефлекторная и проводников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Из чего состоит серое вещество спинного мозг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из длинных отростков нейронов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из соединительной ткани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из тел нейро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 В каком направлении проводит импульсы белое вещество спинного мозг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от рецепторов к ЦНС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в обоих направлениях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от ЦНС к мышц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м. работа: стр186-18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740720" y="6381720"/>
            <a:ext cx="1224000" cy="476280"/>
          </a:xfrm>
          <a:prstGeom prst="rightArrow">
            <a:avLst>
              <a:gd name="adj1" fmla="val 50000"/>
              <a:gd name="adj2" fmla="val 642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ной мозг (ГМ)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360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ловек имеет 3й по массе мозг (1400 гр.) после слона (5 кг.) и кита (2,5 кг). соотношение мозга и массы всего тела у кита 1:40 000; слона 1:500; человека 1:4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более активно мозг работает между 10 и 12 часами у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81560" y="205740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203640" y="3213000"/>
            <a:ext cx="2273400" cy="536400"/>
            <a:chOff x="3203640" y="3213000"/>
            <a:chExt cx="2273400" cy="536400"/>
          </a:xfrm>
        </p:grpSpPr>
        <p:sp>
          <p:nvSpPr>
            <p:cNvPr id="294" name=""/>
            <p:cNvSpPr/>
            <p:nvPr/>
          </p:nvSpPr>
          <p:spPr>
            <a:xfrm>
              <a:off x="3203640" y="321300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38920" y="324540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68360" y="4076640"/>
            <a:ext cx="2273400" cy="536400"/>
            <a:chOff x="468360" y="4076640"/>
            <a:chExt cx="2273400" cy="536400"/>
          </a:xfrm>
        </p:grpSpPr>
        <p:sp>
          <p:nvSpPr>
            <p:cNvPr id="297" name=""/>
            <p:cNvSpPr/>
            <p:nvPr/>
          </p:nvSpPr>
          <p:spPr>
            <a:xfrm>
              <a:off x="468360" y="407664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3640" y="410904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276720" y="4076640"/>
            <a:ext cx="2273040" cy="536400"/>
            <a:chOff x="3276720" y="4076640"/>
            <a:chExt cx="2273040" cy="536400"/>
          </a:xfrm>
        </p:grpSpPr>
        <p:sp>
          <p:nvSpPr>
            <p:cNvPr id="300" name=""/>
            <p:cNvSpPr/>
            <p:nvPr/>
          </p:nvSpPr>
          <p:spPr>
            <a:xfrm>
              <a:off x="3276720" y="407664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12000" y="410904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be0e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156360" y="4076640"/>
            <a:ext cx="2273400" cy="536400"/>
            <a:chOff x="6156360" y="4076640"/>
            <a:chExt cx="2273400" cy="536400"/>
          </a:xfrm>
        </p:grpSpPr>
        <p:sp>
          <p:nvSpPr>
            <p:cNvPr id="303" name=""/>
            <p:cNvSpPr/>
            <p:nvPr/>
          </p:nvSpPr>
          <p:spPr>
            <a:xfrm>
              <a:off x="6156360" y="407664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91640" y="410904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278520" y="3284280"/>
            <a:ext cx="18770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ловной моз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8880" y="414900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32000" y="4004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а больших полуш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401256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корковы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979280" y="3716280"/>
            <a:ext cx="107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472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80000" y="3716280"/>
            <a:ext cx="1152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Картинка 51 из 637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9000"/>
            <a:ext cx="896472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делы головного мозга, их структура, функ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0" y="1628640"/>
          <a:ext cx="8862840" cy="4651200"/>
        </p:xfrm>
        <a:graphic>
          <a:graphicData uri="http://schemas.openxmlformats.org/drawingml/2006/table">
            <a:tbl>
              <a:tblPr/>
              <a:tblGrid>
                <a:gridCol w="1179360"/>
                <a:gridCol w="1146240"/>
                <a:gridCol w="3013200"/>
                <a:gridCol w="352404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ы отде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л моз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ний моз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говатый моз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 ЧМН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подъязы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добав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блуждаю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языкоглот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никовая - связь СМ и Г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торна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ция деятельности ДС, ССС, П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ые рефлексы слюноотделения, жевания, гло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ные рефлексы: чихание, моргание, кашель, рв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 ЧМН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слухов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лицев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отводя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тройни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никовая - соединяет молушария мозжечка между собой и КБ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торная - вестибулярные и шейные рефлексы, регуляция тонуса мышц, в т.ч. ми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зжеч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лушария образованы серым и белым вещество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произвольных движ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ция мышечного тонуса и равнове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оз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верохолм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жки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 ЧМН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глазодвига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блоков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ник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торна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очные рефлексы на зрительные и звуковые раздражители, которые проявляются в повороте головы и туловищ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ция мышечного тонуса и позы т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7093080" y="119700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134136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 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836640" y="3114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6640" y="3114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20640"/>
          <a:ext cx="8964720" cy="6004080"/>
        </p:xfrm>
        <a:graphic>
          <a:graphicData uri="http://schemas.openxmlformats.org/drawingml/2006/table">
            <a:tbl>
              <a:tblPr/>
              <a:tblGrid>
                <a:gridCol w="1094040"/>
                <a:gridCol w="916560"/>
                <a:gridCol w="2238120"/>
                <a:gridCol w="4716000"/>
              </a:tblGrid>
              <a:tr h="1159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ко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ний моз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жуточный моз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таламу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зрительные бугр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 ЧМН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зр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и оценка всех поступающей информации от органов чув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еление и передача в кору мозга наиболее важн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ция эмоционального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гипоталаму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подкорковый центр ВНС и всех жизненно важных функ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гомеост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ция мотивированного поведения (жажда, голод, страх, ярость, удовольств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мене сна и бодр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корковые я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ция и координация двигательной актив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обучении, памя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а больших полуша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евняя и старая ко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обонятельный и висцеральный моз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 ЧМН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обоня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бическая систем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поведенческие акты и формирование эмо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меостаз, реакции самосохранения и сохранения в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ция вегетативных функ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ая к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ие ВНД, отвечает за сложное сознательное поведение и мышление. Развитие морали, воли, интеллекта, связанных с деятельностью к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ие восприятия, оценки, обработки всей поступающей информации от органов чув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ординированная деятельность всех систем организ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взаимодействия организма с внешней сред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5940360" y="18900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лжение 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Значение нервной систе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ивает поддержание гомеоста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ивает согласованную работу всех органов и систем организ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уществляет ориентацию организма во внешней среде и приспосабливающие реакции на ее измен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ляет основу психической деятельности: речь, мышление, социальное по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льчики чаще, чем девочки, бывают левшами, что объясняется ведущей ролью правого полушария мужского моз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32000" y="2492280"/>
            <a:ext cx="6294240" cy="1452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а больших полуш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1402920" y="3789000"/>
            <a:ext cx="86508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0800000">
            <a:off x="6659280" y="3860640"/>
            <a:ext cx="865080" cy="43200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6000" y="4361040"/>
            <a:ext cx="2951280" cy="249696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cfcfc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03640" y="4361040"/>
            <a:ext cx="3024360" cy="249696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cfcfc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219640" y="4292640"/>
            <a:ext cx="2665080" cy="523800"/>
            <a:chOff x="5219640" y="4292640"/>
            <a:chExt cx="2665080" cy="523800"/>
          </a:xfrm>
        </p:grpSpPr>
        <p:sp>
          <p:nvSpPr>
            <p:cNvPr id="335" name=""/>
            <p:cNvSpPr/>
            <p:nvPr/>
          </p:nvSpPr>
          <p:spPr>
            <a:xfrm>
              <a:off x="5219640" y="4292640"/>
              <a:ext cx="2665080" cy="523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60680" y="4324320"/>
              <a:ext cx="257184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258920" y="4292640"/>
            <a:ext cx="2355840" cy="523800"/>
            <a:chOff x="1258920" y="4292640"/>
            <a:chExt cx="2355840" cy="523800"/>
          </a:xfrm>
        </p:grpSpPr>
        <p:sp>
          <p:nvSpPr>
            <p:cNvPr id="338" name=""/>
            <p:cNvSpPr/>
            <p:nvPr/>
          </p:nvSpPr>
          <p:spPr>
            <a:xfrm>
              <a:off x="1258920" y="429264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95640" y="4324320"/>
              <a:ext cx="227304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261440" y="436500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евое полушар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219640" y="4365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е полушар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58920" y="4979880"/>
            <a:ext cx="230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ыслительное", 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гуляция речевой деятельности, устной речи, 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едущее у правш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32360" y="492912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художественное", эмоцион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спознавание зрительных, музыкальных образов, формы, структуры предметов, сознательная ориентация в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3159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250920" y="2549520"/>
            <a:ext cx="741672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796000" y="1600200"/>
            <a:ext cx="33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ункциональные зоны коры больших полуша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84360" y="595440"/>
          <a:ext cx="7272360" cy="6140160"/>
        </p:xfrm>
        <a:graphic>
          <a:graphicData uri="http://schemas.openxmlformats.org/drawingml/2006/table">
            <a:tbl>
              <a:tblPr/>
              <a:tblGrid>
                <a:gridCol w="3578040"/>
                <a:gridCol w="3694320"/>
              </a:tblGrid>
              <a:tr h="522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Обозначения</a:t>
                      </a:r>
                      <a:r>
                        <a:rPr b="0" lang="en-US" sz="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1. Предлобная зона коры.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2. Тактильный анализ.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3. Слуховая зона коры (левое ухо).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4. Пространственный зрительный анализ.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5. Зрительные зоны коры (левые поля зрения)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6. Зрительные зоны коры (правые поля зрения). 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7. Общий центр интерпретации (речь и математические операции). 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8. Слуховые зоны коры (правое ухо). 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9. Письмо (для правшей). 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10. Центр речи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e2"/>
                    </a:solidFill>
                  </a:tcPr>
                </a:tc>
              </a:tr>
            </a:tbl>
          </a:graphicData>
        </a:graphic>
      </p:graphicFrame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5472360" cy="53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1692360" y="620640"/>
            <a:ext cx="5086440" cy="1295280"/>
            <a:chOff x="1692360" y="620640"/>
            <a:chExt cx="5086440" cy="1295280"/>
          </a:xfrm>
        </p:grpSpPr>
        <p:sp>
          <p:nvSpPr>
            <p:cNvPr id="355" name=""/>
            <p:cNvSpPr/>
            <p:nvPr/>
          </p:nvSpPr>
          <p:spPr>
            <a:xfrm>
              <a:off x="1692360" y="620640"/>
              <a:ext cx="5086440" cy="1295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02800" y="631800"/>
              <a:ext cx="5073480" cy="52488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99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619280" y="907920"/>
            <a:ext cx="720360" cy="679320"/>
            <a:chOff x="1619280" y="907920"/>
            <a:chExt cx="720360" cy="679320"/>
          </a:xfrm>
        </p:grpSpPr>
        <p:sp>
          <p:nvSpPr>
            <p:cNvPr id="358" name=""/>
            <p:cNvSpPr/>
            <p:nvPr/>
          </p:nvSpPr>
          <p:spPr>
            <a:xfrm>
              <a:off x="1619280" y="907920"/>
              <a:ext cx="720360" cy="6793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634400" y="918360"/>
              <a:ext cx="690120" cy="654480"/>
              <a:chOff x="1634400" y="918360"/>
              <a:chExt cx="690120" cy="654480"/>
            </a:xfrm>
          </p:grpSpPr>
          <p:sp>
            <p:nvSpPr>
              <p:cNvPr id="360" name=""/>
              <p:cNvSpPr/>
              <p:nvPr/>
            </p:nvSpPr>
            <p:spPr>
              <a:xfrm>
                <a:off x="1634400" y="918360"/>
                <a:ext cx="690120" cy="6544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643400" y="921960"/>
                <a:ext cx="671400" cy="638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650600" y="927000"/>
                <a:ext cx="639720" cy="597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686240" y="944640"/>
                <a:ext cx="570600" cy="484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1619280" y="981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40000" y="620640"/>
            <a:ext cx="4321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ыполнить практическ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Функции продолговатого мозга. Среднего мозга и мозжечка. Стр. 1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684360" y="2708280"/>
            <a:ext cx="3282840" cy="38386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500720" y="2781360"/>
            <a:ext cx="413208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Средняя масса головного мозга взрослого челове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меньше 950 г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950-1100 г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1100 – 2000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Головной мозг человека состоит и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ствола и полушарий большого мозга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мозжечка и полушарий большого мозга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ствола, мозжечка, полушарий большого моз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Продолговатый мозг является продолжение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среднего мозга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спинного мозга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промежуточного моз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В головном мозге полушария и кору имею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средний мозг и полушария большого мозг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мозжечок и промежуточный мозг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полушария большого мозга и мозжеч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Какие отделы головного мозга относятся к стволу мозг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средний мозг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продолговатый мозг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мозжечок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) промежуточный мозг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) м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Какой отдел головного мозга является как бы продолжением спинного мозга в полости череп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средний мозг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продолговатый мозг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промежуточный моз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 Какой отдел головного мозга содержит двигательные рефлекторные центры, обеспечивающие поворот глазных ябло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мост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средний мозг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промежуточный моз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омашнее задание: прочитать текст учебника, устно ответить на вопросы в конце параграф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03280" y="189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оверка усвоенного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826920" y="2060640"/>
            <a:ext cx="763272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>
                    <a:alpha val="97000"/>
                  </a:srgbClr>
                </a:solidFill>
                <a:latin typeface="Impact"/>
              </a:rPr>
              <a:t>Спасибо за ур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>
                  <a:alpha val="97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я А.Г. Драгомилов, Р. Д. Ма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ига для чтения по анатомии, физиологии и гигиене человека. И. Д. Звер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зг, разум, и поведение. Ф. Блу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Лейзерсон, Л. Хофстед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ryphonov.narod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omotomia.b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тлас нервная система . Под редакцией В. М. Астапова, Ю. В. Микадз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ая коллекция цифровых образовательных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50036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целостная морфологическая и функциональная совокупность различных взаимосвязанных нервных структур, которая совместно с эндокринной системой обеспечивает взаимосвязанную регуляцию деятельности всех систем организма и реакцию на изменение условий внутренней и внешней среды. Нервная система действует как интегративная система, связывая в одно целое чувствительность, двигательную активность и работу других регуляторных систем (эндокринной и иммунн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94200" y="189000"/>
            <a:ext cx="4249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332000" y="404640"/>
            <a:ext cx="5327280" cy="924120"/>
            <a:chOff x="1332000" y="404640"/>
            <a:chExt cx="5327280" cy="924120"/>
          </a:xfrm>
        </p:grpSpPr>
        <p:sp>
          <p:nvSpPr>
            <p:cNvPr id="62" name=""/>
            <p:cNvSpPr/>
            <p:nvPr/>
          </p:nvSpPr>
          <p:spPr>
            <a:xfrm>
              <a:off x="1332000" y="404640"/>
              <a:ext cx="532728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86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2400" y="1328760"/>
              <a:ext cx="4962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62400" y="407880"/>
              <a:ext cx="4962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5"/>
          <p:cNvGrpSpPr/>
          <p:nvPr/>
        </p:nvGrpSpPr>
        <p:grpSpPr>
          <a:xfrm>
            <a:off x="324000" y="333360"/>
            <a:ext cx="1238040" cy="1236600"/>
            <a:chOff x="324000" y="333360"/>
            <a:chExt cx="1238040" cy="1236600"/>
          </a:xfrm>
        </p:grpSpPr>
        <p:sp>
          <p:nvSpPr>
            <p:cNvPr id="66" name="Oval 6"/>
            <p:cNvSpPr/>
            <p:nvPr/>
          </p:nvSpPr>
          <p:spPr>
            <a:xfrm>
              <a:off x="324000" y="3333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7"/>
            <p:cNvSpPr/>
            <p:nvPr/>
          </p:nvSpPr>
          <p:spPr>
            <a:xfrm>
              <a:off x="374760" y="3841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99cc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8"/>
            <p:cNvSpPr/>
            <p:nvPr/>
          </p:nvSpPr>
          <p:spPr>
            <a:xfrm>
              <a:off x="425520" y="4381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99cc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9"/>
          <p:cNvSpPr/>
          <p:nvPr/>
        </p:nvSpPr>
        <p:spPr>
          <a:xfrm>
            <a:off x="395280" y="549360"/>
            <a:ext cx="108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619280" y="549360"/>
            <a:ext cx="48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Какой тканью образована нервная систем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Каково строение нервной ткан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Строение нейрона, типы нейро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46432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250920" y="1989000"/>
            <a:ext cx="2089080" cy="2592360"/>
            <a:chOff x="250920" y="1989000"/>
            <a:chExt cx="2089080" cy="2592360"/>
          </a:xfrm>
        </p:grpSpPr>
        <p:sp>
          <p:nvSpPr>
            <p:cNvPr id="73" name=""/>
            <p:cNvSpPr/>
            <p:nvPr/>
          </p:nvSpPr>
          <p:spPr>
            <a:xfrm>
              <a:off x="250920" y="1989000"/>
              <a:ext cx="2089080" cy="25923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2800" y="1993680"/>
              <a:ext cx="2072160" cy="4525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7840" y="4272480"/>
              <a:ext cx="2067120" cy="30600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059280" y="1916280"/>
            <a:ext cx="2089080" cy="2665080"/>
            <a:chOff x="3059280" y="1916280"/>
            <a:chExt cx="2089080" cy="2665080"/>
          </a:xfrm>
        </p:grpSpPr>
        <p:sp>
          <p:nvSpPr>
            <p:cNvPr id="77" name=""/>
            <p:cNvSpPr/>
            <p:nvPr/>
          </p:nvSpPr>
          <p:spPr>
            <a:xfrm>
              <a:off x="3059280" y="1916280"/>
              <a:ext cx="2089080" cy="266508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71160" y="1921320"/>
              <a:ext cx="2072160" cy="4651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76200" y="4263840"/>
              <a:ext cx="2067120" cy="31464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443640" y="1844640"/>
            <a:ext cx="2089080" cy="2736720"/>
            <a:chOff x="6443640" y="1844640"/>
            <a:chExt cx="2089080" cy="2736720"/>
          </a:xfrm>
        </p:grpSpPr>
        <p:sp>
          <p:nvSpPr>
            <p:cNvPr id="81" name=""/>
            <p:cNvSpPr/>
            <p:nvPr/>
          </p:nvSpPr>
          <p:spPr>
            <a:xfrm>
              <a:off x="6443640" y="1844640"/>
              <a:ext cx="2089080" cy="273672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55520" y="1849680"/>
              <a:ext cx="2072160" cy="4777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60560" y="4255560"/>
              <a:ext cx="2067120" cy="32292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24000" y="2349360"/>
            <a:ext cx="201600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увстви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водят импульс от поверхности тела и внутренних органов в моз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1484280"/>
            <a:ext cx="43912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йрон – основа нервной 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2421000"/>
            <a:ext cx="20163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ставо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ализируют информацию и принимают ре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72360" y="2421000"/>
            <a:ext cx="201600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вига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водят импульс от головного и спинного мозга к рабочим орган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4724280"/>
            <a:ext cx="4500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я нервная система построена на нервной ткани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рвная ткан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оит из нервных клеток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ейрон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и связанных с ними анатомически и функционально клеток-спутнико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ейрогл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йро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полняют специфические функции, являясь структурно-функциональной единицей нервной системы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йрогл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еспечивает существование и специфические функции нейронов, выполняет опорную, трофическую (питательную), разграничительную и защитную функци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Нервная ткань"/>
          <p:cNvPicPr/>
          <p:nvPr/>
        </p:nvPicPr>
        <p:blipFill>
          <a:blip r:embed="rId2"/>
          <a:stretch/>
        </p:blipFill>
        <p:spPr>
          <a:xfrm>
            <a:off x="2843280" y="3708360"/>
            <a:ext cx="31687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йр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9640" y="1700280"/>
          <a:ext cx="7452000" cy="3660840"/>
        </p:xfrm>
        <a:graphic>
          <a:graphicData uri="http://schemas.openxmlformats.org/drawingml/2006/table">
            <a:tbl>
              <a:tblPr/>
              <a:tblGrid>
                <a:gridCol w="3726000"/>
                <a:gridCol w="3726000"/>
              </a:tblGrid>
              <a:tr h="366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ейрон отвечает за передачу оперативной, мгновенной информации в организме. Для этого он использует свои длинные отростки - аксон (всегда один, передающий) и дендриты (множество, принимающ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Courier New"/>
                          <a:ea typeface="Courier New"/>
                        </a:rPr>
                        <a:t>Для укрепления связей между нейронами требуется правильно организованная сред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91120" y="1268280"/>
            <a:ext cx="4952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050920" y="274320"/>
            <a:ext cx="4897440" cy="1066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2276640"/>
            <a:ext cx="3097440" cy="360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нтральная 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80000" y="2276640"/>
            <a:ext cx="2879640" cy="431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иферическая 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357720"/>
            <a:ext cx="1726920" cy="490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оловной моз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3357720"/>
            <a:ext cx="144000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пинной моз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1640" y="3429000"/>
            <a:ext cx="1440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рв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429000"/>
            <a:ext cx="136872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рвные уз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51640" y="3429000"/>
            <a:ext cx="144144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рв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конч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4437000"/>
            <a:ext cx="1528560" cy="3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чувств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4437000"/>
            <a:ext cx="1439640" cy="3445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вига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4437000"/>
            <a:ext cx="1513080" cy="3445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меш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1341360"/>
            <a:ext cx="107964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700000" y="1413000"/>
            <a:ext cx="107964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634920" y="4005360"/>
            <a:ext cx="6397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148360" y="2781360"/>
            <a:ext cx="792000" cy="52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116000" y="2708280"/>
            <a:ext cx="792000" cy="64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4005360"/>
            <a:ext cx="64764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005360"/>
            <a:ext cx="792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948000" y="2781360"/>
            <a:ext cx="7164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35360" y="2708280"/>
            <a:ext cx="584280" cy="64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40720" y="2781360"/>
            <a:ext cx="57636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4675320"/>
            <a:ext cx="706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3 года мозг человека развит на 80%. Максимальное развитие к 20 г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м больше диаметр волокна нерва, тем с большей скоростью по нему распространяется возбу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новной формой деятельности нервной системы является рефлек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функци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508640"/>
            <a:ext cx="2879640" cy="1152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гулирует работу скелетных мышц, кожи, связь организма с внешней сре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2276640"/>
            <a:ext cx="2663640" cy="5047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гетати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автономн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34936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ма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48360" y="3141720"/>
            <a:ext cx="2195640" cy="504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арасимпа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4508640"/>
            <a:ext cx="324180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гулирует обменные процессы, рост орган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484360" y="5943600"/>
            <a:ext cx="3581280" cy="914400"/>
            <a:chOff x="2484360" y="5943600"/>
            <a:chExt cx="3581280" cy="914400"/>
          </a:xfrm>
        </p:grpSpPr>
        <p:pic>
          <p:nvPicPr>
            <p:cNvPr id="127" name="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2484360" y="6529680"/>
              <a:ext cx="3581280" cy="3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2485800" y="5943600"/>
              <a:ext cx="3554640" cy="787320"/>
              <a:chOff x="2485800" y="5943600"/>
              <a:chExt cx="3554640" cy="787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496960" y="5943600"/>
                <a:ext cx="3543480" cy="787320"/>
              </a:xfrm>
              <a:prstGeom prst="ellipse">
                <a:avLst/>
              </a:prstGeom>
              <a:gradFill rotWithShape="0">
                <a:gsLst>
                  <a:gs pos="0">
                    <a:srgbClr val="797979"/>
                  </a:gs>
                  <a:gs pos="50000">
                    <a:srgbClr val="c0c0c0"/>
                  </a:gs>
                  <a:gs pos="100000">
                    <a:srgbClr val="79797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485800" y="5943600"/>
                <a:ext cx="3554640" cy="6771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ункци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3276720" y="1484280"/>
            <a:ext cx="2200320" cy="480060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3141720"/>
            <a:ext cx="2016360" cy="504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импа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836640"/>
            <a:ext cx="2808360" cy="5047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2781360"/>
            <a:ext cx="36036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5640" y="2781360"/>
            <a:ext cx="36036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1413000"/>
            <a:ext cx="79200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843280" y="1413000"/>
            <a:ext cx="72072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32360" y="5733720"/>
            <a:ext cx="863640" cy="74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805360"/>
            <a:ext cx="934920" cy="64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5:49:54Z</dcterms:created>
  <dc:creator>Ирина</dc:creator>
  <dc:description/>
  <dc:language>en-US</dc:language>
  <cp:lastModifiedBy>Ирина</cp:lastModifiedBy>
  <dcterms:modified xsi:type="dcterms:W3CDTF">2010-04-18T20:13:44Z</dcterms:modified>
  <cp:revision>9</cp:revision>
  <dc:subject/>
  <dc:title>Слайд 1</dc:title>
</cp:coreProperties>
</file>