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18.png" ContentType="image/png"/>
  <Override PartName="/ppt/media/image6.png" ContentType="image/png"/>
  <Override PartName="/ppt/media/image57.jpeg" ContentType="image/jpeg"/>
  <Override PartName="/ppt/media/image56.png" ContentType="image/png"/>
  <Override PartName="/ppt/media/image47.png" ContentType="image/png"/>
  <Override PartName="/ppt/media/image35.jpeg" ContentType="image/jpeg"/>
  <Override PartName="/ppt/media/image40.png" ContentType="image/png"/>
  <Override PartName="/ppt/media/image4.jpeg" ContentType="image/jpeg"/>
  <Override PartName="/ppt/media/image6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22.jpeg" ContentType="image/jpeg"/>
  <Override PartName="/ppt/media/image39.png" ContentType="image/png"/>
  <Override PartName="/ppt/media/image14.jpeg" ContentType="image/jpeg"/>
  <Override PartName="/ppt/media/image15.jpeg" ContentType="image/jpeg"/>
  <Override PartName="/ppt/media/image64.png" ContentType="image/png"/>
  <Override PartName="/ppt/media/image66.jpeg" ContentType="image/jpeg"/>
  <Override PartName="/ppt/media/image9.jpeg" ContentType="image/jpeg"/>
  <Override PartName="/ppt/media/image65.png" ContentType="image/png"/>
  <Override PartName="/ppt/media/image63.jpeg" ContentType="image/jpeg"/>
  <Override PartName="/ppt/media/image60.png" ContentType="image/png"/>
  <Override PartName="/ppt/media/image62.png" ContentType="image/png"/>
  <Override PartName="/ppt/media/image51.jpeg" ContentType="image/jpeg"/>
  <Override PartName="/ppt/media/image27.png" ContentType="image/png"/>
  <Override PartName="/ppt/media/image3.png" ContentType="image/png"/>
  <Override PartName="/ppt/media/image54.jpeg" ContentType="image/jpeg"/>
  <Override PartName="/ppt/media/image33.png" ContentType="image/png"/>
  <Override PartName="/ppt/media/image17.jpeg" ContentType="image/jpeg"/>
  <Override PartName="/ppt/media/image49.png" ContentType="image/png"/>
  <Override PartName="/ppt/media/image23.jpeg" ContentType="image/jpeg"/>
  <Override PartName="/ppt/media/image24.jpeg" ContentType="image/jpeg"/>
  <Override PartName="/ppt/media/image1.jpeg" ContentType="image/jpeg"/>
  <Override PartName="/ppt/media/image21.png" ContentType="image/png"/>
  <Override PartName="/ppt/media/image46.jpeg" ContentType="image/jpeg"/>
  <Override PartName="/ppt/media/image58.png" ContentType="image/png"/>
  <Override PartName="/ppt/media/image19.png" ContentType="image/png"/>
  <Override PartName="/ppt/media/image16.jpeg" ContentType="image/jpeg"/>
  <Override PartName="/ppt/media/image10.png" ContentType="image/png"/>
  <Override PartName="/ppt/media/image36.jpeg" ContentType="image/jpeg"/>
  <Override PartName="/ppt/media/image7.jpeg" ContentType="image/jpeg"/>
  <Override PartName="/ppt/media/image38.jpeg" ContentType="image/jpeg"/>
  <Override PartName="/ppt/media/image34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5.png" ContentType="image/png"/>
  <Override PartName="/ppt/media/image28.png" ContentType="image/png"/>
  <Override PartName="/ppt/media/image43.jpeg" ContentType="image/jpeg"/>
  <Override PartName="/ppt/media/image26.png" ContentType="image/png"/>
  <Override PartName="/ppt/media/image8.jpeg" ContentType="image/jpeg"/>
  <Override PartName="/ppt/media/image13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20.png" ContentType="image/png"/>
  <Override PartName="/ppt/media/image37.jpeg" ContentType="image/jpeg"/>
  <Override PartName="/ppt/media/image41.png" ContentType="image/png"/>
  <Override PartName="/ppt/media/image44.jpeg" ContentType="image/jpeg"/>
  <Override PartName="/ppt/media/image48.png" ContentType="image/png"/>
  <Override PartName="/ppt/media/image45.jpeg" ContentType="image/jpeg"/>
  <Override PartName="/ppt/media/image55.png" ContentType="image/png"/>
  <Override PartName="/ppt/media/image50.jpeg" ContentType="image/jpeg"/>
  <Override PartName="/ppt/media/image5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565C-67DC-4DB6-81E3-EAB12C4CB4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C933-5248-4C94-9E0A-FD31DD8332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B7EF-1F1D-45BE-B0EE-259CBFD41A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3A5E-7E77-4F7C-A2E2-4563C351FD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78BA-CBC5-4CEF-B506-56DA9860A7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B1E8-2CAE-42DE-A6E0-148D462883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01A0-94EC-4A4C-ACEC-920FDC0079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F211-2E24-4D49-A14C-3D0B0617ED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3271-74EB-4169-8EE1-1BF27C3A92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A868-4EBB-46E2-B55A-EE78D63936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EF76-019D-4340-AF8D-B0192D9891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0D19-8579-4CC8-ADE1-560112FD1B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5075-B9B0-438E-A66E-F21A83F6F6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4B59-DE46-4B7E-9DC5-7F27D299DB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D43C-E4A5-435A-9689-EF95E7F8CB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DDFF-5D7A-472D-87F1-9B050534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462D-CA03-42B3-B819-EE13CF97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0E7E-2EF1-4592-9489-A7A2F9D04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1383-3A7C-4842-A53D-265937E9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9166-C17F-49B8-AC70-B254F459F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AA70-6883-4FB4-B754-AECD000A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B75F-C659-42E0-8C71-CE449F6C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A9F6-3001-42E0-A7AF-C304034C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A73C-1C4E-406A-87DD-B0092ED7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185F-39BA-4F34-91BD-F10FA78F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090D-3CFE-47CD-B806-86F3CBB7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C96D-4B50-43CB-8DC5-BD7B4934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0E8B-A95E-49A8-BCCC-C7A5F075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A475-FC3D-4C8C-B814-C53C16EC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231D-24CE-4360-8274-461B0145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648C-4CAB-4D6C-B184-E820D2164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03FC-78B7-4DF2-89BF-DD0E0385B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E7B31-6501-4167-A639-789DB4232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AA932-7734-43EC-A7E0-6C740979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4473D-BB68-4BBD-B409-9784FA4A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935CD-3B70-4161-A7C8-30E83955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C61AB-3B98-4DBA-B5C4-816982BD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EB53-00BF-4932-824C-3D46670F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31284-AAF5-4F5B-9CEA-DA8D15F8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C8F1C-1F16-49D4-B339-47E72D9B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4C142-B8CF-40E3-95AE-8E538AB2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5FB09-8AB7-4F57-87B8-5D4E9071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DBBC5-7D98-4914-89B0-0F622939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A504C-1271-4893-B2EC-74ADE8C3B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41A20-6898-4B66-B4CB-D3BD4CD45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186EE-C80C-4EFD-9F9C-A4BDEFECA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6DAE7-2867-41D1-BEB4-CAA5514A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8AD36-71A5-4C45-B2EA-477CFA41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A95E-9D9C-4A33-96E3-D6D61E7E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28239-DEBA-4B97-9B7E-728DB003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F1DEE-FA06-494A-BD82-3730BBD9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CD487-D8DF-4CF6-8C7F-D0C24AD3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0BBE8-E511-41E3-964E-E618900D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61AAD-CE1A-4C7E-A6E6-0D982AD1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0D503-FAE2-4358-942A-8E0ABDEA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6FA0B-6E07-4378-9B39-966C14AF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6F98D-E37A-4721-BBE7-8BA76B556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BEBF8-6487-43F6-A653-042D84260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1C2F-1758-4BC8-A319-BE636047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303E-4AF9-4D54-8E7E-24916737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F113-AD66-4004-B871-B9D30D93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0933-84B8-48E7-B2DE-6FE1DB0D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D6F5-AED6-4E6F-90E3-11190BD1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CE46-7F96-4A1A-AD9D-4E3CF639538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88DD-677C-4DF1-A24D-FCCA3E4525E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132B-B3A4-4EC3-806B-43BC8876FFE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8B85-7A93-402E-86AC-7B463E74F9C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dance.ru/images/20071205214208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hyperlink" Target="http://www.rezeptsport.ru/news/data/upimages/kis_22.jpg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mirsovetov.ru/images/574/2.jpg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http://www.spravedlivo-online.ru/11.jpg" TargetMode="External"/><Relationship Id="rId3" Type="http://schemas.openxmlformats.org/officeDocument/2006/relationships/image" Target="../media/image29.jpeg"/><Relationship Id="rId4" Type="http://schemas.openxmlformats.org/officeDocument/2006/relationships/hyperlink" Target="http://www.mossport.ru/photo2.gallery?pid=5f753ada1d784a6294975ce9ca89f69a" TargetMode="External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http://sportime.irismedia.org/picres.php?Image=ecbedc7db5ce71ebc2ada35355322a32&amp;x=250&amp;y=" TargetMode="External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ortolife.ucoz.ru/_ph/3/2/929559984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hyperlink" Target="http://www.girlpower.it/images/girlpower_new/mondo/societa/paraolimpiad8i.jpg" TargetMode="External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hyperlink" Target="http://www.kommersant.ru/ISSUES.PHOTO/SPORT/2006/052M/sport_52_006-1.jpg" TargetMode="External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msi.ru/media/3d6e8ab5-be57-44d7-8eeb-3269e234ba20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IPC_logo_(2004).svg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3" descr=""/>
          <p:cNvPicPr/>
          <p:nvPr/>
        </p:nvPicPr>
        <p:blipFill>
          <a:blip r:embed="rId1"/>
          <a:stretch/>
        </p:blipFill>
        <p:spPr>
          <a:xfrm>
            <a:off x="781200" y="353880"/>
            <a:ext cx="8038800" cy="19195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928840" y="4643280"/>
            <a:ext cx="2986200" cy="1967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у выполнила  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ошева Наталья Дмитриевна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3" descr="C:\Documents and Settings\ad\Рабочий стол\АЛЬБИНА\флаг.jpg"/>
          <p:cNvPicPr/>
          <p:nvPr/>
        </p:nvPicPr>
        <p:blipFill>
          <a:blip r:embed="rId2"/>
          <a:stretch/>
        </p:blipFill>
        <p:spPr>
          <a:xfrm>
            <a:off x="2571840" y="2500200"/>
            <a:ext cx="357192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928800" y="4857480"/>
            <a:ext cx="7772400" cy="150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2010 году  Паралимпийские игры прошли в канадском Ванкувере. На них РФ была представлена в трёх видах спорта из пяти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5" name="Picture 2" descr="Картинка 17 из 74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43120" y="1071720"/>
            <a:ext cx="428616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523800" y="712800"/>
            <a:ext cx="8175600" cy="197496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500040" y="1571400"/>
            <a:ext cx="7772400" cy="3786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ыжные гонки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атлон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ные лыжи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ккей с шайбой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ёрлинг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401760" y="712800"/>
            <a:ext cx="7907040" cy="197496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71680" y="2286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первые лыжные гонки появились в программе Паралимпийских игр в 1976 году в Орнсколдсвике (Швеция)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оревнованиях на Паралимпийских играх принимают участие мужчины и женщины с разными видами инвалидности: травма позвоночника, церебральный паралич, ампутация, слепота или частичная потеря зрения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бы обеспечить честную борьбу и равные условия на дистанции, все участники проходят классификацию по степени своих функциональных возможностей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0" name="Picture 2" descr="http://sochi2014.com/games/sport/paralympic-games/sports/cross.gif"/>
          <p:cNvPicPr/>
          <p:nvPr/>
        </p:nvPicPr>
        <p:blipFill>
          <a:blip r:embed="rId2"/>
          <a:stretch/>
        </p:blipFill>
        <p:spPr>
          <a:xfrm>
            <a:off x="6143760" y="928800"/>
            <a:ext cx="9284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-30240" y="-291960"/>
            <a:ext cx="8094600" cy="14256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213840" y="135720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ществует четыре вида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дивидуальных гонок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ринт( от 800 до 1200 м)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нки на короткие, средние и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инные дистанции, длина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торых варьируется от 2,5 до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 км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аждой гонке спортсмены 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ртуют по очереди с интервалом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30 секунд.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эстафетной гонке команды 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оят из трёх спортсменов с разными 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ами инвалидности, но таким образом,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бы ни одна команда не имела 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имуществ перед другими. 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3" name="Picture 2" descr="http://www.ksrk.ru/files/sport/snow_lizi_pyatnica0021.jpg"/>
          <p:cNvPicPr/>
          <p:nvPr/>
        </p:nvPicPr>
        <p:blipFill>
          <a:blip r:embed="rId2"/>
          <a:stretch/>
        </p:blipFill>
        <p:spPr>
          <a:xfrm>
            <a:off x="5857920" y="3857760"/>
            <a:ext cx="1863720" cy="2500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Картинка 8 из 3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680" y="13572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-30240" y="-291960"/>
            <a:ext cx="8094600" cy="14256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28760" y="128592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зависимости от своих физических возможностей спортсмены используют специально сконструированное кресло, которое крепится к паре лыж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          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зрячих и слабовидящих спортсменов на дистанции сопровождают так называемые «лидеры»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7" name="Picture 2" descr="C:\Documents and Settings\ad\Рабочий стол\АЛЬБИНА\лг.jpg"/>
          <p:cNvPicPr/>
          <p:nvPr/>
        </p:nvPicPr>
        <p:blipFill>
          <a:blip r:embed="rId2"/>
          <a:stretch/>
        </p:blipFill>
        <p:spPr>
          <a:xfrm>
            <a:off x="2786040" y="2714760"/>
            <a:ext cx="385776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-30240" y="-291960"/>
            <a:ext cx="8094600" cy="14256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714560" y="1643040"/>
            <a:ext cx="4143240" cy="5214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ыжи для классического стиля достаточно лёгкие, так как сделаны из стеклопластика. Обычно они превышают рост лыжника на 25-30 см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ыжи для конькового стиля на 10 или 15 см короче тех, что используются при классической технике, для большей манёвренност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0" name="Picture 2" descr="http://mirsovetov.ru/images/574/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4240" y="1643040"/>
            <a:ext cx="285768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493560" y="755640"/>
            <a:ext cx="7785360" cy="19684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571680" y="2286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первые такие соревнования были проведены на Паралимпийских играх 1988 г. в Инсбруке (Австрия)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аралимпийском биатлоне две дистанции — короткая с двумя огневыми рубежами (7, 5 км) и длинная (12 км) с четырьмя остановками на стрельбище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стояние до мишени составляет 10 метров. Спортсмену даётся пять выстрелов. Стрельба ведётся из положения только лёжа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траф за промах назначается либо в виде дополнительного времени, которое добавляется к основному, либо в виде штрафных кругов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3" name="Picture 2" descr="C:\Documents and Settings\ad\Рабочий стол\АЛЬБИНА\biathlon.gif"/>
          <p:cNvPicPr/>
          <p:nvPr/>
        </p:nvPicPr>
        <p:blipFill>
          <a:blip r:embed="rId2"/>
          <a:stretch/>
        </p:blipFill>
        <p:spPr>
          <a:xfrm>
            <a:off x="5715000" y="85716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-30240" y="-291960"/>
            <a:ext cx="8094600" cy="14256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Картинка 5 из 7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7160" y="3143160"/>
            <a:ext cx="4089600" cy="3071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Картинка 48 из 7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29120" y="642960"/>
            <a:ext cx="3721320" cy="25002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57120" y="1071360"/>
            <a:ext cx="8143920" cy="5429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юди с ослабленным зрением использу -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т мишени диаметром 30 мм, люди с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угими видами инвалидности – 20 мм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TextBox 6"/>
          <p:cNvSpPr/>
          <p:nvPr/>
        </p:nvSpPr>
        <p:spPr>
          <a:xfrm>
            <a:off x="4929120" y="3714840"/>
            <a:ext cx="392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рячие и слабовидящие спортсмены при стрельбе используют ружья , оснащённые электронно-акустическими оч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ближе прицел к центру цели, тем громче сигн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Заголовок 1" descr=""/>
          <p:cNvPicPr/>
          <p:nvPr/>
        </p:nvPicPr>
        <p:blipFill>
          <a:blip r:embed="rId1"/>
          <a:stretch/>
        </p:blipFill>
        <p:spPr>
          <a:xfrm>
            <a:off x="-30240" y="-291960"/>
            <a:ext cx="8094600" cy="14256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786200" y="1071720"/>
            <a:ext cx="4143600" cy="5357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ртсмены с соответствующими физическими ограниченными возможностями используют «сани» - специально сконструированное кресло, которое крепится к паре лыж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ие лыжи короче обычных и присоединяются к креслу с помощью обычных креплений, используемых также и в лыжных гонках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ртсмены с ампутацией могут пользоваться чьей-либо поддержкой во время стрельбы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1" name="Picture 6" descr="Картинка 38 из 7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7160" y="1571760"/>
            <a:ext cx="2714760" cy="40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493560" y="828720"/>
            <a:ext cx="7785360" cy="196992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42960" y="20001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рограмму Паралимпийских игр в 1976 году в Орнсколдсвике (Швеция) впервые вошли две дисциплины горнолыжного спорта — слалом и слалом-гигант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оростной спуск был добавлен в программу Игр в 1984 году в Инсбруке (Австрия), а супергигантский слалом — в 1994 г. на Играх в Лиллехаммере (Норвегия)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4" name="Picture 2" descr="C:\Documents and Settings\ad\Рабочий стол\АЛЬБИНА\гл.gif"/>
          <p:cNvPicPr/>
          <p:nvPr/>
        </p:nvPicPr>
        <p:blipFill>
          <a:blip r:embed="rId2"/>
          <a:stretch/>
        </p:blipFill>
        <p:spPr>
          <a:xfrm>
            <a:off x="6357960" y="928800"/>
            <a:ext cx="92880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99680" y="928800"/>
            <a:ext cx="3755880" cy="557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спорта инвалидов имеет более чем столетнюю историю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щё в XVIII и XIX в. установлено, что двигательная активность является одним из основных факторов реабилитации инвалидов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ые попытки приобщения инвалидов к спорту были предприняты в XIX в., когда, в 1888 г., в Берлине формировался первый спортивный клуб для глухих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Picture 2" descr="Картинка 43 из 23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86240" y="1357200"/>
            <a:ext cx="314352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Заголовок 1" descr=""/>
          <p:cNvPicPr/>
          <p:nvPr/>
        </p:nvPicPr>
        <p:blipFill>
          <a:blip r:embed="rId1"/>
          <a:stretch/>
        </p:blipFill>
        <p:spPr>
          <a:xfrm>
            <a:off x="-30240" y="-291960"/>
            <a:ext cx="8094600" cy="14256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285480" y="1785600"/>
            <a:ext cx="4429080" cy="5072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нолыжный спорт для слепых или людей с частичной потерей зрения является «командным» видом спорта, так как на дистанции их сопровождают зрячие «гиды», которые дают спортсменам голосовые команды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коростном спуске длинная, крутая трасса. Спортсмены должны пройти сквозь специальные ворота, выполняющие роль контрольных отметок на трассе. Пропуск ворот карается дисквалификацией. Каждый спортсмен совершает только один спуск. Время прохождения трассы и определяет победителя гонки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7" name="Picture 2" descr="Картинка 26 из 3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6200" y="2428920"/>
            <a:ext cx="39657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-30240" y="-291960"/>
            <a:ext cx="8094600" cy="14256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285480" y="1571400"/>
            <a:ext cx="4429080" cy="5072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лом является техническим видом соревнования. Трассы в нём короче, чем в других дисциплинах горнолыжного спорта, а вот ворот на дистанции больше (55-75 для мужчин и 40-60 для женщин)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гантский слалом также является техническим видом соревнования. Трассы в нем длиннее, чем в слаломе, но поворотов меньше и они более просторные и плавные. Количество ворот зависит от наклона трассы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0" name="Picture 2" descr="Картинка 25 из 3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86240" y="2071800"/>
            <a:ext cx="2811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-30240" y="-291960"/>
            <a:ext cx="8094600" cy="14256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285480" y="1143000"/>
            <a:ext cx="8001000" cy="5500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упергигантском слаломе скорость играет ключевую роль. Трассы в супер-гиганте короче, чем в скоростном спуске, но длиннее, чем в слаломе и гигантском слаломе. Количество ворот зависит от наклона трассы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нако количество виражей в мужских соревнованиях не должно быть меньше 35, в женских — меньше 30. Ворота устанавливаются на расстоянии не менее 25 м друг от друга. Каждый спортсмен совершает только один спуск. Время прохождения трассы и определяет победителя гонки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3" name="Picture 2" descr="C:\Documents and Settings\ad\Рабочий стол\АЛЬБИНА\слалом.jpg"/>
          <p:cNvPicPr/>
          <p:nvPr/>
        </p:nvPicPr>
        <p:blipFill>
          <a:blip r:embed="rId2"/>
          <a:stretch/>
        </p:blipFill>
        <p:spPr>
          <a:xfrm>
            <a:off x="2571840" y="2214720"/>
            <a:ext cx="364320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-30240" y="-291960"/>
            <a:ext cx="8094600" cy="14256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85840" y="3428640"/>
            <a:ext cx="8858160" cy="3429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9000"/>
          </a:bodyPr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ртсмены с инвалидностью используют специальное оборудование, полностью адаптированное к их возможностям. Например, монолыжи, кресло для лыж, ортопедические средства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ыжные палки помогают спортсменам набирать скорость и сохранять равновесие. В скоростном спуске и супер-гиганте палки изогнуты, в слаломе — прямые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лем с жёстким корпусом предохраняет голову спортсмена от повреждений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6" name="Picture 2" descr="Картинка 4 из 35"/>
          <p:cNvPicPr/>
          <p:nvPr/>
        </p:nvPicPr>
        <p:blipFill>
          <a:blip r:embed="rId2"/>
          <a:stretch/>
        </p:blipFill>
        <p:spPr>
          <a:xfrm>
            <a:off x="2428920" y="1143000"/>
            <a:ext cx="442908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Заголовок 1" descr=""/>
          <p:cNvPicPr/>
          <p:nvPr/>
        </p:nvPicPr>
        <p:blipFill>
          <a:blip r:embed="rId1"/>
          <a:stretch/>
        </p:blipFill>
        <p:spPr>
          <a:xfrm>
            <a:off x="493560" y="828720"/>
            <a:ext cx="7785360" cy="196992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571680" y="25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едж хоккей является паралимпийской версией хоккея на льду. Первый матч по следж хоккею на Паралимпийских играх был проведен между двумя шведскими командами в 1976 г. в Эрнсщёльдсвике (Швеция)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фициально этот вид спорта включён в программу Зимних Паралимпийских игр в 1994 году в Лиллехамере (Норвегия)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9" name="Picture 2" descr="C:\Documents and Settings\ad\Рабочий стол\АЛЬБИНА\hockey.gif"/>
          <p:cNvPicPr/>
          <p:nvPr/>
        </p:nvPicPr>
        <p:blipFill>
          <a:blip r:embed="rId2"/>
          <a:stretch/>
        </p:blipFill>
        <p:spPr>
          <a:xfrm>
            <a:off x="6929280" y="85716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1" descr=""/>
          <p:cNvPicPr/>
          <p:nvPr/>
        </p:nvPicPr>
        <p:blipFill>
          <a:blip r:embed="rId1"/>
          <a:stretch/>
        </p:blipFill>
        <p:spPr>
          <a:xfrm>
            <a:off x="-30240" y="-291960"/>
            <a:ext cx="8094600" cy="142560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285480" y="1785600"/>
            <a:ext cx="4071960" cy="43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77000"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 заключается в противоборстве двух команд, которые с помощью клюшек стремятся забросить шайбу в ворота соперника и не пропустить её в свои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новременно на поле со стороны каждой из команд должны находиться шесть игроков, включая вратаря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2" name="Picture 2" descr="Картинка 1 из 13"/>
          <p:cNvPicPr/>
          <p:nvPr/>
        </p:nvPicPr>
        <p:blipFill>
          <a:blip r:embed="rId2"/>
          <a:stretch/>
        </p:blipFill>
        <p:spPr>
          <a:xfrm>
            <a:off x="571680" y="3143160"/>
            <a:ext cx="3047760" cy="2028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http://www.paralymp.ru/fpoda/images/slede_4.jpg"/>
          <p:cNvPicPr/>
          <p:nvPr/>
        </p:nvPicPr>
        <p:blipFill>
          <a:blip r:embed="rId3"/>
          <a:stretch/>
        </p:blipFill>
        <p:spPr>
          <a:xfrm>
            <a:off x="5286240" y="1643040"/>
            <a:ext cx="3113280" cy="2071800"/>
          </a:xfrm>
          <a:prstGeom prst="rect">
            <a:avLst/>
          </a:prstGeom>
          <a:ln w="0">
            <a:noFill/>
          </a:ln>
        </p:spPr>
      </p:pic>
      <p:sp>
        <p:nvSpPr>
          <p:cNvPr id="274" name="TextBox 5"/>
          <p:cNvSpPr/>
          <p:nvPr/>
        </p:nvSpPr>
        <p:spPr>
          <a:xfrm>
            <a:off x="5214960" y="4286160"/>
            <a:ext cx="342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ждает команда,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росившая больш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шайб в ворота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ер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Заголовок 1" descr=""/>
          <p:cNvPicPr/>
          <p:nvPr/>
        </p:nvPicPr>
        <p:blipFill>
          <a:blip r:embed="rId1"/>
          <a:stretch/>
        </p:blipFill>
        <p:spPr>
          <a:xfrm>
            <a:off x="-30240" y="-291960"/>
            <a:ext cx="8094600" cy="14256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357440" y="1642680"/>
            <a:ext cx="4500360" cy="43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 время игры спортсмены передвигаются не на коньках, а на алюминиевых или стальных санях, оборудованных двумя полозьями, и пользуются двумя клюшками  - по одной в каждой руке - зубчатых с одного конца и изогнутых с другого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им образом, игроки могут отталкиваться ото льда с помощью металлических зубьев клюшки, а изогнутым концом они передают шайбу друг другу и бьют по воротам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 состоит из трёх 15-минутных периодов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7" name="Picture 4" descr="http://www.rezeptsport.ru/b_sport/images/slede_1.jpg"/>
          <p:cNvPicPr/>
          <p:nvPr/>
        </p:nvPicPr>
        <p:blipFill>
          <a:blip r:embed="rId2"/>
          <a:stretch/>
        </p:blipFill>
        <p:spPr>
          <a:xfrm>
            <a:off x="1143000" y="1500120"/>
            <a:ext cx="2076480" cy="25718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http://www.lookatme.ru/assets/article_image-image/db/9c/87674/article_image-image-article.jpg"/>
          <p:cNvPicPr/>
          <p:nvPr/>
        </p:nvPicPr>
        <p:blipFill>
          <a:blip r:embed="rId3"/>
          <a:stretch/>
        </p:blipFill>
        <p:spPr>
          <a:xfrm>
            <a:off x="857160" y="4643280"/>
            <a:ext cx="285768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Заголовок 1" descr=""/>
          <p:cNvPicPr/>
          <p:nvPr/>
        </p:nvPicPr>
        <p:blipFill>
          <a:blip r:embed="rId1"/>
          <a:stretch/>
        </p:blipFill>
        <p:spPr>
          <a:xfrm>
            <a:off x="-30240" y="-291960"/>
            <a:ext cx="8094600" cy="14256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85480" y="1928520"/>
            <a:ext cx="4071960" cy="43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1000"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  хоккеисты обязаны надевать шлем с маской, а также защитный воротник или нагрудник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оки используют защитные подкладки, в том числе наплечники, налокотники, наколенники, а также «краги» - перчатк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атарь имеет дополнительные защитные приспособления- нагрудник и щитки для ног, шлем с маской, а также перчатку-ловушку, которая дает возможность поймать шайбу, скорость которой может достигать 100 км/час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1" name="Picture 6" descr="http://www.paralymp.ru/fpoda/images/slede_1.jpg"/>
          <p:cNvPicPr/>
          <p:nvPr/>
        </p:nvPicPr>
        <p:blipFill>
          <a:blip r:embed="rId2"/>
          <a:stretch/>
        </p:blipFill>
        <p:spPr>
          <a:xfrm>
            <a:off x="4857840" y="2428920"/>
            <a:ext cx="333684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Заголовок 1" descr=""/>
          <p:cNvPicPr/>
          <p:nvPr/>
        </p:nvPicPr>
        <p:blipFill>
          <a:blip r:embed="rId1"/>
          <a:stretch/>
        </p:blipFill>
        <p:spPr>
          <a:xfrm>
            <a:off x="493560" y="828720"/>
            <a:ext cx="7785360" cy="19699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642960" y="20001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ёрлинг на колясках является относительно новым видом спорта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го дебют в официальной программе зимних Паралимпийских Игр состоялся в 2006 году в Турине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ый всемирный чемпионат по кёрлингу на колясках прошёл в Швейцарии в 2002 г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4" name="Picture 2" descr="C:\Documents and Settings\ad\Рабочий стол\АЛЬБИНА\ё.gif"/>
          <p:cNvPicPr/>
          <p:nvPr/>
        </p:nvPicPr>
        <p:blipFill>
          <a:blip r:embed="rId2"/>
          <a:stretch/>
        </p:blipFill>
        <p:spPr>
          <a:xfrm>
            <a:off x="5214960" y="928800"/>
            <a:ext cx="92880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Заголовок 1" descr=""/>
          <p:cNvPicPr/>
          <p:nvPr/>
        </p:nvPicPr>
        <p:blipFill>
          <a:blip r:embed="rId1"/>
          <a:stretch/>
        </p:blipFill>
        <p:spPr>
          <a:xfrm>
            <a:off x="-30240" y="-291960"/>
            <a:ext cx="8094600" cy="14256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71640" y="1142640"/>
            <a:ext cx="4071960" cy="278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7000"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 состоит из восьми «эндов». Две команды по четыре человека поочередно пускают по льду по восемь камней, то есть по два камня каждый участник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мень должен быть пущен таким образом, чтобы при его движении по направлению к «дому» коляска спортсмена была неподвижна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7" name="Picture 2" descr="Картинка 8 из 39"/>
          <p:cNvPicPr/>
          <p:nvPr/>
        </p:nvPicPr>
        <p:blipFill>
          <a:blip r:embed="rId2"/>
          <a:stretch/>
        </p:blipFill>
        <p:spPr>
          <a:xfrm>
            <a:off x="428760" y="135720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" descr="Картинка 15 из 39"/>
          <p:cNvPicPr/>
          <p:nvPr/>
        </p:nvPicPr>
        <p:blipFill>
          <a:blip r:embed="rId3"/>
          <a:stretch/>
        </p:blipFill>
        <p:spPr>
          <a:xfrm>
            <a:off x="4500720" y="3786120"/>
            <a:ext cx="3776400" cy="2643120"/>
          </a:xfrm>
          <a:prstGeom prst="rect">
            <a:avLst/>
          </a:prstGeom>
          <a:ln w="0">
            <a:noFill/>
          </a:ln>
        </p:spPr>
      </p:pic>
      <p:sp>
        <p:nvSpPr>
          <p:cNvPr id="289" name="TextBox 7"/>
          <p:cNvSpPr/>
          <p:nvPr/>
        </p:nvSpPr>
        <p:spPr>
          <a:xfrm>
            <a:off x="428760" y="3571920"/>
            <a:ext cx="3143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ревнованиях по кёрлингу на колясках принимают участие команды, в состав которых могут входить одновременно и мужчины, и женщ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игры - попасть пущенным по льду камнем как можно ближе к центру вычерченной мишени, называемой «домом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00360" y="1143000"/>
            <a:ext cx="4414680" cy="557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валиды с повреждениями опорно-двигательного аппарата стали активно приобщаться к занятиям спортом только после второй мировой войны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никновение видов спорта, в которых они  могли участвовать , связывают с именем английского нейрохирурга Людвига Гуттмана 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, преодолевая вековые стереотипы по отношению к людям с физическими недостатками, ввёл спорт в процесс реабилитации больных с повреждениями спинного мозг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Picture 2" descr="Картинка 5 из 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1571760"/>
            <a:ext cx="279720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Заголовок 1" descr=""/>
          <p:cNvPicPr/>
          <p:nvPr/>
        </p:nvPicPr>
        <p:blipFill>
          <a:blip r:embed="rId1"/>
          <a:stretch/>
        </p:blipFill>
        <p:spPr>
          <a:xfrm>
            <a:off x="-30240" y="-291960"/>
            <a:ext cx="8094600" cy="142560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428720" y="1571760"/>
            <a:ext cx="4071960" cy="4929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5000"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ьше очков получает команда, чьи камни находятся ближе к центру «дома». Подсчёт очков производится после 8 «эндов»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мень для игры весит около 19, 1 кг. К каждому камню приделана ручк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осать камень можно либо держась руками непосредственно за ручку, либо используя специальный кий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2" name="Picture 4" descr="Картинка 9 из 39"/>
          <p:cNvPicPr/>
          <p:nvPr/>
        </p:nvPicPr>
        <p:blipFill>
          <a:blip r:embed="rId2"/>
          <a:stretch/>
        </p:blipFill>
        <p:spPr>
          <a:xfrm>
            <a:off x="357120" y="1500120"/>
            <a:ext cx="328608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Заголовок 1" descr=""/>
          <p:cNvPicPr/>
          <p:nvPr/>
        </p:nvPicPr>
        <p:blipFill>
          <a:blip r:embed="rId1"/>
          <a:stretch/>
        </p:blipFill>
        <p:spPr>
          <a:xfrm>
            <a:off x="-30240" y="208080"/>
            <a:ext cx="8126640" cy="8823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499680" y="1428480"/>
            <a:ext cx="4643640" cy="5143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2010 году зимние Паралимпийские игры прошли в канадском Ванкувере. На них  было разыграно 64 комплекта наград в пяти видах спорта – горнолыжном спорте, биатлоне, лыжных гонках, хоккее и кёрлинге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борная России стала второй в общекомандном зачете, завоевав 38 медалей – 12 золотых, 16 серебряных и 10 бронзовых. Победила команда Германии за счёт большего числа золотых наград (13-5-6)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5" name="Picture 2" descr="Paralympic/Paralympicsumbol_121109.JPG"/>
          <p:cNvPicPr/>
          <p:nvPr/>
        </p:nvPicPr>
        <p:blipFill>
          <a:blip r:embed="rId2"/>
          <a:stretch/>
        </p:blipFill>
        <p:spPr>
          <a:xfrm>
            <a:off x="5500800" y="1571760"/>
            <a:ext cx="32274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Заголовок 1" descr=""/>
          <p:cNvPicPr/>
          <p:nvPr/>
        </p:nvPicPr>
        <p:blipFill>
          <a:blip r:embed="rId1"/>
          <a:stretch/>
        </p:blipFill>
        <p:spPr>
          <a:xfrm>
            <a:off x="182520" y="281160"/>
            <a:ext cx="8766360" cy="106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7" name=""/>
          <p:cNvGraphicFramePr/>
          <p:nvPr/>
        </p:nvGraphicFramePr>
        <p:xfrm>
          <a:off x="1571760" y="1785960"/>
          <a:ext cx="5611680" cy="4429080"/>
        </p:xfrm>
        <a:graphic>
          <a:graphicData uri="http://schemas.openxmlformats.org/drawingml/2006/table">
            <a:tbl>
              <a:tblPr/>
              <a:tblGrid>
                <a:gridCol w="1690560"/>
                <a:gridCol w="873000"/>
                <a:gridCol w="1016280"/>
                <a:gridCol w="1015920"/>
                <a:gridCol w="1015920"/>
              </a:tblGrid>
              <a:tr h="371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7520" rIns="0" tIns="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   Герм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   Ро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0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   Кана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   Словак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   Укра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0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   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   Авст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   Япо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   Белору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20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 Фран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42840" y="171360"/>
            <a:ext cx="8021520" cy="13161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4071960" y="1500120"/>
            <a:ext cx="4857840" cy="4857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9000"/>
          </a:bodyPr>
          <a:p>
            <a:pPr algn="r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атлон : пять золотых, семь серебряных и четыре бронзовых медали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ыжные гонки : семь золотых, девять серебряных и шесть бронзовых медалей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нолыжный спорт : без медалей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ёрлинге и хоккее с шайбой российская сборная участия не принимал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0" name="Picture 4" descr="Картинка 9 из 3686"/>
          <p:cNvPicPr/>
          <p:nvPr/>
        </p:nvPicPr>
        <p:blipFill>
          <a:blip r:embed="rId2"/>
          <a:stretch/>
        </p:blipFill>
        <p:spPr>
          <a:xfrm>
            <a:off x="571680" y="2143080"/>
            <a:ext cx="2857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182520" y="353880"/>
            <a:ext cx="8096400" cy="10969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529920" y="1714320"/>
            <a:ext cx="4970520" cy="4429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рипов Ирек Айратович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ализация : биатлон, лыжные гонки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тегория с поражением опорно-двигательного аппарат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олото - биатлон,  2,4 км индивидуальное преследование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олото - лыжные гонки, 15 км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олото -биатлон, 12,5 км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олото -лыжные гонки, 10 км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ебро -лыжные гонки, 1 км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3" name="Picture 2" descr="Irek Zaripov.jpg"/>
          <p:cNvPicPr/>
          <p:nvPr/>
        </p:nvPicPr>
        <p:blipFill>
          <a:blip r:embed="rId2"/>
          <a:stretch/>
        </p:blipFill>
        <p:spPr>
          <a:xfrm>
            <a:off x="5715000" y="1714680"/>
            <a:ext cx="27147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Заголовок 1" descr=""/>
          <p:cNvPicPr/>
          <p:nvPr/>
        </p:nvPicPr>
        <p:blipFill>
          <a:blip r:embed="rId1"/>
          <a:stretch/>
        </p:blipFill>
        <p:spPr>
          <a:xfrm>
            <a:off x="42840" y="420840"/>
            <a:ext cx="8126280" cy="8841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4286160" y="1999800"/>
            <a:ext cx="4500720" cy="4714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хайлов Кирилл Андреевич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ализация : биатлон, лыжные гонки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тегория спортсменов  с физическими особенностями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олото -биатлон, 3 км индивидуальное преследование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олото -лыжные гонки, 20 км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ебро -лыжные гонки 10 км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6" name="Picture 2" descr="http://img.beta.rian.ru/images/21415/70/214157091.jpg"/>
          <p:cNvPicPr/>
          <p:nvPr/>
        </p:nvPicPr>
        <p:blipFill>
          <a:blip r:embed="rId2"/>
          <a:stretch/>
        </p:blipFill>
        <p:spPr>
          <a:xfrm>
            <a:off x="357120" y="2500200"/>
            <a:ext cx="36734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Заголовок 1" descr=""/>
          <p:cNvPicPr/>
          <p:nvPr/>
        </p:nvPicPr>
        <p:blipFill>
          <a:blip r:embed="rId1"/>
          <a:stretch/>
        </p:blipFill>
        <p:spPr>
          <a:xfrm>
            <a:off x="-30240" y="353880"/>
            <a:ext cx="8094600" cy="10242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571320" y="1856880"/>
            <a:ext cx="4143240" cy="4286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на Бурмистров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ализация : биатлон, лыжные гонки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тегория спортсменов  с физическими особенностями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олото –биатлон, гонка преследования стоя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олото – лыжные гонки, 15 км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9" name="Picture 2" descr="Картинка 2 из 8"/>
          <p:cNvPicPr/>
          <p:nvPr/>
        </p:nvPicPr>
        <p:blipFill>
          <a:blip r:embed="rId2"/>
          <a:stretch/>
        </p:blipFill>
        <p:spPr>
          <a:xfrm>
            <a:off x="5357880" y="1643040"/>
            <a:ext cx="2724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109440" y="281160"/>
            <a:ext cx="7900920" cy="98712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99680" y="1785600"/>
            <a:ext cx="7915320" cy="4714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олотые медалисты : Мария Иовлева, Михалина Лысова, Любовь Васильева, Сергей Шилов, Кирилл Михайлов, Николай Полухин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ебряные медалисты : Мария Иовлева, Николай Полухин, Любовь Васильева, Роман Петушков, Анна Бурмистрова, Владимир Киселёв, Кирилл Михайлов, Михалина Лысова, Ирек Зарипов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онзовые медалисты : Алёна Горбунова, Михалина Лысова, Владимир Кононов, Анна Бурмистрова, Николай Полухин, Татьяна Ильюченко, Владимир Киселёв, Любовь Васильев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566640" y="573120"/>
            <a:ext cx="8229600" cy="193824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42960" y="20001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участников Паралимпиады нет возрастных ограничений. Например, американская велосипедистка Барбара Бьюкен завоевала золото на Играх в Пекине, когда ей было уже 52 год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нолыжный спорт для инвалидов начал развиваться после окончания Второй мировой войны, когда покалеченные солдаты, вернувшиеся с фронта стремились продолжить занятия любимым спортом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кинская Паралимпиада 2008 года стала самой представительной в истории Паралимпийского движения. В ней приняли участие почти 4 тысяч спортсменов из 146 стран мир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еди паралимпийцев есть люди, ранее серьёзно занимавшиеся спортом, но затем получившие инвалидность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857160" y="1214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епенно мир убеждается в том, что спорт не является прерогативой здоровых людей. Инвалиды даже с такими серьёзными травмами, как повреждение позвоночника при желании могут принимать участие в соревнованиях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5" name="Picture 2" descr="C:\Documents and Settings\ad\Рабочий стол\АЛЬБИНА\paralimp07-09.jpg"/>
          <p:cNvPicPr/>
          <p:nvPr/>
        </p:nvPicPr>
        <p:blipFill>
          <a:blip r:embed="rId1"/>
          <a:stretch/>
        </p:blipFill>
        <p:spPr>
          <a:xfrm>
            <a:off x="1857240" y="2643120"/>
            <a:ext cx="57866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28760" y="642960"/>
            <a:ext cx="7772400" cy="557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оследующие годы увеличилась не только численность участников, но и количество видов спорт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дея проведения соревнований инвалидов была поддержана международной общественностью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ы стали ежегодным международным спортивным праздником, и, начиная с 1952 г., спортсмены-инвалиды из Нидерландов, ФРГ, Швеции, Норвегии регулярно принимали в них участие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ссийские спортсмены впервые приняли участие в Паралимпиаде в составе сборной СССР в 1992 году на V Играх в Альбервиле (Франция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85880" y="713880"/>
            <a:ext cx="7542000" cy="5286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ые   зимние   Паралимпийские   игры  состоялись в 1976 г. в Орнсколддсвике (Швеция). Соревнования для спортсменов с ампутированными конечностями и нарушением зрения были организованы на треке и в поле. Впервые демонстрировались соревнования в гонках на санях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1" name="Picture 4" descr="http://upload.wikimedia.org/wikipedia/commons/thumb/e/e6/IPC_logo_%282004%29.svg/300px-IPC_logo_%282004%29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7680" y="1071720"/>
            <a:ext cx="38224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85840" y="428400"/>
            <a:ext cx="4000320" cy="642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пешное проведение  первых   зимних   Игр  позволило организовать вторые  паралимпийские  соревнования в 1980 г. в Гейло (Норвегия)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Picture 3" descr="C:\Documents and Settings\ad\Рабочий стол\ЗЛАТА\1.jpg"/>
          <p:cNvPicPr/>
          <p:nvPr/>
        </p:nvPicPr>
        <p:blipFill>
          <a:blip r:embed="rId1"/>
          <a:stretch/>
        </p:blipFill>
        <p:spPr>
          <a:xfrm>
            <a:off x="5786280" y="785880"/>
            <a:ext cx="2395800" cy="1906560"/>
          </a:xfrm>
          <a:prstGeom prst="rect">
            <a:avLst/>
          </a:prstGeom>
          <a:ln w="0">
            <a:noFill/>
          </a:ln>
        </p:spPr>
      </p:pic>
      <p:sp>
        <p:nvSpPr>
          <p:cNvPr id="214" name="TextBox 5"/>
          <p:cNvSpPr/>
          <p:nvPr/>
        </p:nvSpPr>
        <p:spPr>
          <a:xfrm>
            <a:off x="5715000" y="3286080"/>
            <a:ext cx="29289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0c9f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ной спуск на санях проводился как показательные выступ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0c9f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аралимпийских стартах приняли участие спортсмены всех групп инвалид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C:\Documents and Settings\ad\Рабочий стол\ЗЛАТА\3.jpg"/>
          <p:cNvPicPr/>
          <p:nvPr/>
        </p:nvPicPr>
        <p:blipFill>
          <a:blip r:embed="rId2"/>
          <a:stretch/>
        </p:blipFill>
        <p:spPr>
          <a:xfrm>
            <a:off x="642960" y="3143160"/>
            <a:ext cx="3500280" cy="29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857840" y="1071360"/>
            <a:ext cx="4286160" cy="443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I  зимние   Паралимпийские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ы  были проведены в Инсбруке (Австрия) в 1984 г. Впервые 30 мужчин на трех лыжах приняли участие в гигантском слаломе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500040" y="5000760"/>
            <a:ext cx="3714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0c9f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ские спортсмены впервые приняли участие в Паралимпиаде в 1988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C:\Documents and Settings\ad\Рабочий стол\ЗЛАТА\2.jpg"/>
          <p:cNvPicPr/>
          <p:nvPr/>
        </p:nvPicPr>
        <p:blipFill>
          <a:blip r:embed="rId1"/>
          <a:stretch/>
        </p:blipFill>
        <p:spPr>
          <a:xfrm>
            <a:off x="285840" y="1357200"/>
            <a:ext cx="3929040" cy="2954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C:\Documents and Settings\ad\Рабочий стол\ЗЛАТА\4.jpg"/>
          <p:cNvPicPr/>
          <p:nvPr/>
        </p:nvPicPr>
        <p:blipFill>
          <a:blip r:embed="rId2"/>
          <a:stretch/>
        </p:blipFill>
        <p:spPr>
          <a:xfrm>
            <a:off x="5000760" y="3143160"/>
            <a:ext cx="342900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99680" y="1356840"/>
            <a:ext cx="3970440" cy="5643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алимпиада в мире считается практически таким же выдающимся событием, как и сама Олимпиада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диционно проводятся после главных Олимпийских игр , а начиная с 1992 - в тех же городах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2001 эта практика закреплена соглашением между МОК и Международным паралимпийским комитетом (МПК)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1" name="Picture 1" descr="C:\Documents and Settings\ad\Рабочий стол\АЛЬБИНА\руки.jpg"/>
          <p:cNvPicPr/>
          <p:nvPr/>
        </p:nvPicPr>
        <p:blipFill>
          <a:blip r:embed="rId1"/>
          <a:stretch/>
        </p:blipFill>
        <p:spPr>
          <a:xfrm>
            <a:off x="4532400" y="1785960"/>
            <a:ext cx="43020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571680" y="128592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вание «паралимпийский» образовано от греческой     приставки «παρα-» — «около, наряду»; имеется в виду параллелизм и равноправие паралимпийских соревнований с олимпийскими. Название никак не связано с термином паралич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3" name="Picture 4" descr="http://photo.sportcom.ru/images/origin/42908.jpeg"/>
          <p:cNvPicPr/>
          <p:nvPr/>
        </p:nvPicPr>
        <p:blipFill>
          <a:blip r:embed="rId1"/>
          <a:stretch/>
        </p:blipFill>
        <p:spPr>
          <a:xfrm>
            <a:off x="2286000" y="3000240"/>
            <a:ext cx="470844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5-02-28T18:26:39Z</dcterms:modified>
  <cp:revision>37</cp:revision>
  <dc:subject/>
  <dc:title>Зимние Паралимпийские игры</dc:title>
</cp:coreProperties>
</file>