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2.png" ContentType="image/png"/>
  <Override PartName="/ppt/media/image11.png" ContentType="image/png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5.gif" ContentType="image/gif"/>
  <Override PartName="/ppt/media/image28.gif" ContentType="image/gif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2.jpeg" ContentType="image/jpeg"/>
  <Override PartName="/ppt/media/applause.wav" ContentType="audio/x-wav"/>
  <Override PartName="/ppt/media/image16.jpeg" ContentType="image/jpeg"/>
  <Override PartName="/ppt/media/image26.gif" ContentType="image/gif"/>
  <Override PartName="/ppt/media/image18.png" ContentType="image/png"/>
  <Override PartName="/ppt/media/image25.gif" ContentType="image/gif"/>
  <Override PartName="/ppt/media/image22.gif" ContentType="image/gif"/>
  <Override PartName="/ppt/media/image14.png" ContentType="image/png"/>
  <Override PartName="/ppt/media/image20.gif" ContentType="image/gif"/>
  <Override PartName="/ppt/media/image21.gif" ContentType="image/gif"/>
  <Override PartName="/ppt/media/image19.gif" ContentType="image/gif"/>
  <Override PartName="/ppt/media/image17.gif" ContentType="image/gif"/>
  <Override PartName="/ppt/media/image15.png" ContentType="image/png"/>
  <Override PartName="/ppt/media/image1.jpeg" ContentType="image/jpeg"/>
  <Override PartName="/ppt/media/image27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5C55-9772-4862-B57A-59350B91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CDB-DD5D-4EC4-83CB-74598707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5CC-0A9B-4775-9198-75A138DB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903-AF7F-4032-8BC5-2212404C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9E6C-C5C5-465D-B5A1-6B7B145E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E78F-FF9E-4EC9-8FA0-4B110F28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9D00-05EB-4999-8186-895E587F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3ACB-778D-40C1-AA6C-4EB8F13F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34C9-6AAE-4FD3-A0B8-0668400F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7F6C-3062-4955-98D1-9DDC59D7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90A9-CAAB-427E-BB71-EF670A6F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6F9-D833-43A1-8AEE-AE0CFADA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BB06-1A8E-47F4-90DE-DE43A735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067F-9BFE-470D-B60A-FEBCE598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B312-9300-469A-9419-97D39DD1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7064-B28B-468C-AF7C-3004EB43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08A3-FA34-44B5-892E-1D683896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6D330-76EB-429C-8517-6F9FB4A7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BC17B-20AE-48A8-961B-AC707F7F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B7920-1E81-47C7-B387-4AB5F138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BFE52-7B27-473B-9862-F580B766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6ACFC-0CE1-4C78-96BF-444B5818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629-F416-472D-9D9F-AF2560AE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53A15-6516-4594-8587-2E026518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A157C-32E3-492E-9ACC-FEC59347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EDF85-A34B-4842-97F6-290EF1CB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DE211-7040-4A77-9D74-E1384312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A36CD-43E8-4E3A-8937-A02F5684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39EA9-4880-49C2-B05A-E3AE49E2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E2029-EF06-4CE0-A0C2-2107970F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3D2A6-5C54-4364-808E-69A2FB88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4AA53-F0A7-4E9A-9E38-4548030E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F4E7F-B0E2-45D3-8C93-286F1AC2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EEF-5366-4402-979A-1E8E2E22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0F321-2193-4182-ACCF-259DF4E8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599FF-894A-4B2D-90E0-1452D5BD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F165D-2C7D-4E95-9DE2-B4BECFA1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B18B8-20AD-49DD-8E24-7A28897B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DE3D6-146B-4D6E-9792-64C1475D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1D99F-4066-4A0E-8550-DEDABF14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39670-0B3D-41B4-B105-5DFEE238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BF1F9-9A90-442D-AC3A-8A0A8DA2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F0C59-51C5-4C73-ACF9-F64BF0CF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256-FD7D-4D2D-AA75-8BB7D944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A0D-58DD-4E77-A841-5FD667A2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42A-6DC9-43F0-8224-9DA6DA8A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D42C-C42E-4D24-80D1-347597F0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EDC-34F6-46A0-9FFC-7864D11C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6159-CDB4-4DCB-8DF8-235ABAE9F7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pic>
        <p:nvPicPr>
          <p:cNvPr id="51" name="Picture 11" descr="liam_ball_1.gif"/>
          <p:cNvPicPr/>
          <p:nvPr/>
        </p:nvPicPr>
        <p:blipFill>
          <a:blip r:embed="rId3"/>
          <a:stretch/>
        </p:blipFill>
        <p:spPr>
          <a:xfrm>
            <a:off x="3657600" y="380880"/>
            <a:ext cx="866880" cy="1019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E9CE-227F-4EBA-94DA-F65B77BCD5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94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6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>
              <a:off x="1015920" y="1079640"/>
              <a:ext cx="810252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pic>
        <p:nvPicPr>
          <p:cNvPr id="98" name="Picture 6" descr="liam_ball_1.gif"/>
          <p:cNvPicPr/>
          <p:nvPr/>
        </p:nvPicPr>
        <p:blipFill>
          <a:blip r:embed="rId3"/>
          <a:stretch/>
        </p:blipFill>
        <p:spPr>
          <a:xfrm>
            <a:off x="304920" y="4572000"/>
            <a:ext cx="866520" cy="10191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07C9-CB9C-46F9-8F81-62ADC69009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141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142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143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144" name="Freeform 15"/>
            <p:cNvSpPr/>
            <p:nvPr/>
          </p:nvSpPr>
          <p:spPr>
            <a:xfrm>
              <a:off x="1015920" y="1079640"/>
              <a:ext cx="810252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pic>
        <p:nvPicPr>
          <p:cNvPr id="145" name="Picture 8" descr="Bitmap_125.bmp"/>
          <p:cNvPicPr/>
          <p:nvPr/>
        </p:nvPicPr>
        <p:blipFill>
          <a:blip r:embed="rId3"/>
          <a:stretch/>
        </p:blipFill>
        <p:spPr>
          <a:xfrm>
            <a:off x="914400" y="1371600"/>
            <a:ext cx="5715000" cy="4572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3772-1433-4DD1-A877-DF67E20107FB}" type="slidenum"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8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85520" y="1071720"/>
            <a:ext cx="66438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3356f"/>
                </a:solidFill>
                <a:latin typeface="Arial"/>
                <a:ea typeface="Arial"/>
              </a:rPr>
              <a:t>День здоровья</a:t>
            </a:r>
            <a:endParaRPr b="0" lang="en-US" sz="7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2163240" y="25718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6eb2"/>
                </a:solidFill>
                <a:latin typeface="Arial"/>
              </a:rPr>
              <a:t>Станция «Загадочная»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214720" y="1676520"/>
            <a:ext cx="5024160" cy="24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6eb2"/>
                </a:solidFill>
                <a:latin typeface="Arial"/>
              </a:rPr>
              <a:t>Из-под небес,</a:t>
            </a:r>
            <a:br>
              <a:rPr sz="2800"/>
            </a:br>
            <a:r>
              <a:rPr b="1" lang="ru-RU" sz="2800" spc="-1" strike="noStrike">
                <a:solidFill>
                  <a:srgbClr val="446eb2"/>
                </a:solidFill>
                <a:latin typeface="Arial"/>
              </a:rPr>
              <a:t>Как в страшном сне,</a:t>
            </a:r>
            <a:br>
              <a:rPr sz="2800"/>
            </a:br>
            <a:r>
              <a:rPr b="1" lang="ru-RU" sz="2800" spc="-1" strike="noStrike">
                <a:solidFill>
                  <a:srgbClr val="446eb2"/>
                </a:solidFill>
                <a:latin typeface="Arial"/>
              </a:rPr>
              <a:t>Спортсмен летит</a:t>
            </a:r>
            <a:br>
              <a:rPr sz="2800"/>
            </a:br>
            <a:r>
              <a:rPr b="1" lang="ru-RU" sz="2800" spc="-1" strike="noStrike">
                <a:solidFill>
                  <a:srgbClr val="446eb2"/>
                </a:solidFill>
                <a:latin typeface="Arial"/>
              </a:rPr>
              <a:t>На простыне!</a:t>
            </a:r>
            <a:br>
              <a:rPr sz="2800"/>
            </a:br>
            <a:r>
              <a:rPr b="1" lang="ru-RU" sz="2800" spc="-1" strike="noStrike">
                <a:solidFill>
                  <a:srgbClr val="446eb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2714760" y="3571920"/>
            <a:ext cx="24764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23e96"/>
                </a:solidFill>
                <a:latin typeface="Arial Black"/>
              </a:rPr>
              <a:t>Физминутка </a:t>
            </a:r>
            <a:br>
              <a:rPr sz="3200"/>
            </a:br>
            <a:r>
              <a:rPr b="0" lang="ru-RU" sz="3200" spc="-1" strike="noStrike">
                <a:solidFill>
                  <a:srgbClr val="123e96"/>
                </a:solidFill>
                <a:latin typeface="Arial Black"/>
              </a:rPr>
              <a:t>«Две сестрицы –две руки»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pic>
        <p:nvPicPr>
          <p:cNvPr id="230" name="Picture 2" descr="C:\рисунки\анимашки\танцы спорт\126598fc0d9c1fe87eb0b111e43e8ac8.gif"/>
          <p:cNvPicPr/>
          <p:nvPr/>
        </p:nvPicPr>
        <p:blipFill>
          <a:blip r:embed="rId2"/>
          <a:stretch/>
        </p:blipFill>
        <p:spPr>
          <a:xfrm>
            <a:off x="571680" y="35712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231" name="dve_ruki.mp3" descr=""/>
          <p:cNvPicPr/>
          <p:nvPr/>
        </p:nvPicPr>
        <p:blipFill>
          <a:blip r:embed="rId3"/>
          <a:stretch/>
        </p:blipFill>
        <p:spPr>
          <a:xfrm>
            <a:off x="-642960" y="4857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C:\рисунки\анимашки\танцы спорт\366870342.gif"/>
          <p:cNvPicPr/>
          <p:nvPr/>
        </p:nvPicPr>
        <p:blipFill>
          <a:blip r:embed="rId2"/>
          <a:stretch/>
        </p:blipFill>
        <p:spPr>
          <a:xfrm>
            <a:off x="2214720" y="571680"/>
            <a:ext cx="5208480" cy="42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рисунки\анимашки\танцы спорт\sporta-490.gif"/>
          <p:cNvPicPr/>
          <p:nvPr/>
        </p:nvPicPr>
        <p:blipFill>
          <a:blip r:embed="rId2"/>
          <a:stretch/>
        </p:blipFill>
        <p:spPr>
          <a:xfrm>
            <a:off x="2103480" y="1928880"/>
            <a:ext cx="597204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рисунки\анимашки\танцы спорт\sporta-1097.gif"/>
          <p:cNvPicPr/>
          <p:nvPr/>
        </p:nvPicPr>
        <p:blipFill>
          <a:blip r:embed="rId2"/>
          <a:stretch/>
        </p:blipFill>
        <p:spPr>
          <a:xfrm>
            <a:off x="2928960" y="1000080"/>
            <a:ext cx="343368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рисунки\анимашки\танцы спорт\sports-5.gif"/>
          <p:cNvPicPr/>
          <p:nvPr/>
        </p:nvPicPr>
        <p:blipFill>
          <a:blip r:embed="rId2"/>
          <a:stretch/>
        </p:blipFill>
        <p:spPr>
          <a:xfrm>
            <a:off x="1714680" y="1857240"/>
            <a:ext cx="5551200" cy="20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рисунки\анимашки\танцы спорт\sports-373.gif"/>
          <p:cNvPicPr/>
          <p:nvPr/>
        </p:nvPicPr>
        <p:blipFill>
          <a:blip r:embed="rId2"/>
          <a:stretch/>
        </p:blipFill>
        <p:spPr>
          <a:xfrm>
            <a:off x="1979640" y="979560"/>
            <a:ext cx="4592520" cy="45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C:\рисунки\анимашки\танцы спорт\1eea639589fa1f2f4b4af4dafe942428.gif"/>
          <p:cNvPicPr/>
          <p:nvPr/>
        </p:nvPicPr>
        <p:blipFill>
          <a:blip r:embed="rId2"/>
          <a:stretch/>
        </p:blipFill>
        <p:spPr>
          <a:xfrm>
            <a:off x="2500200" y="-149400"/>
            <a:ext cx="4214880" cy="700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C:\рисунки\анимашки\танцы спорт\3fde2f8e4bcce9d1d1dee2ce082a06f7.gif"/>
          <p:cNvPicPr/>
          <p:nvPr/>
        </p:nvPicPr>
        <p:blipFill>
          <a:blip r:embed="rId2"/>
          <a:stretch/>
        </p:blipFill>
        <p:spPr>
          <a:xfrm>
            <a:off x="2286000" y="714240"/>
            <a:ext cx="4403880" cy="559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C:\рисунки\анимашки\танцы спорт\5ba19a1d79cb449be32002025714f5ba.gif"/>
          <p:cNvPicPr/>
          <p:nvPr/>
        </p:nvPicPr>
        <p:blipFill>
          <a:blip r:embed="rId2"/>
          <a:stretch/>
        </p:blipFill>
        <p:spPr>
          <a:xfrm>
            <a:off x="2857680" y="1143000"/>
            <a:ext cx="328608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3deee"/>
                </a:solidFill>
                <a:latin typeface="Arial Black"/>
              </a:rPr>
              <a:t>Игра по станциям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Станция «Загадочная»</a:t>
            </a:r>
            <a:endParaRPr b="0" lang="en-US" sz="5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C:\рисунки\анимашки\танцы спорт\165432618.jpg"/>
          <p:cNvPicPr/>
          <p:nvPr/>
        </p:nvPicPr>
        <p:blipFill>
          <a:blip r:embed="rId2"/>
          <a:stretch/>
        </p:blipFill>
        <p:spPr>
          <a:xfrm>
            <a:off x="1249200" y="317520"/>
            <a:ext cx="6251760" cy="56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C:\рисунки\Шаблоны презентаций\Фоны\bv10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рисунки\анимашки\РАЗНОЕ\Руки.gif"/>
          <p:cNvPicPr/>
          <p:nvPr/>
        </p:nvPicPr>
        <p:blipFill>
          <a:blip r:embed="rId2"/>
          <a:stretch/>
        </p:blipFill>
        <p:spPr>
          <a:xfrm>
            <a:off x="3143160" y="3071880"/>
            <a:ext cx="3419640" cy="32893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"/>
          <p:cNvSpPr/>
          <p:nvPr/>
        </p:nvSpPr>
        <p:spPr>
          <a:xfrm>
            <a:off x="214200" y="357120"/>
            <a:ext cx="864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6eb2"/>
                </a:solidFill>
                <a:latin typeface="Calibri"/>
              </a:rPr>
              <a:t>Береги </a:t>
            </a:r>
            <a:endParaRPr b="0" lang="en-US" sz="4000" spc="-1" strike="noStrike">
              <a:solidFill>
                <a:srgbClr val="446eb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6eb2"/>
                </a:solidFill>
                <a:latin typeface="Calibri"/>
              </a:rPr>
              <a:t>         </a:t>
            </a:r>
            <a:r>
              <a:rPr b="0" lang="ru-RU" sz="4000" spc="-1" strike="noStrike">
                <a:solidFill>
                  <a:srgbClr val="446eb2"/>
                </a:solidFill>
                <a:latin typeface="Calibri"/>
              </a:rPr>
              <a:t>здоровье </a:t>
            </a:r>
            <a:endParaRPr b="0" lang="en-US" sz="4000" spc="-1" strike="noStrike">
              <a:solidFill>
                <a:srgbClr val="446eb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6eb2"/>
                </a:solidFill>
                <a:latin typeface="Calibri"/>
              </a:rPr>
              <a:t>                      </a:t>
            </a:r>
            <a:r>
              <a:rPr b="0" lang="ru-RU" sz="4000" spc="-1" strike="noStrike">
                <a:solidFill>
                  <a:srgbClr val="446eb2"/>
                </a:solidFill>
                <a:latin typeface="Calibri"/>
              </a:rPr>
              <a:t>смолоду!</a:t>
            </a:r>
            <a:endParaRPr b="0" lang="en-US" sz="40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2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3c2e0"/>
                </a:solidFill>
                <a:latin typeface="Arial Black"/>
              </a:rPr>
              <a:t>Доскажи словечко</a:t>
            </a:r>
            <a:endParaRPr b="0" lang="en-US" sz="36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28440" y="1714680"/>
            <a:ext cx="7715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6eb2"/>
                </a:solidFill>
                <a:latin typeface="Arial"/>
              </a:rPr>
              <a:t>Холода не бойся, сам по пояс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6eb2"/>
                </a:solidFill>
                <a:latin typeface="Arial"/>
              </a:rPr>
              <a:t>Кто спортом занимается, тот силы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6eb2"/>
                </a:solidFill>
                <a:latin typeface="Arial"/>
              </a:rPr>
              <a:t>Солнце, воздух и вода - наши верные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6eb2"/>
                </a:solidFill>
                <a:latin typeface="Arial"/>
              </a:rPr>
              <a:t>Пешком ходить — долго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7143840" y="1857240"/>
            <a:ext cx="71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7072200" y="1643040"/>
            <a:ext cx="1357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6572160" y="221472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мойся</a:t>
            </a:r>
            <a:endParaRPr b="0" lang="en-US" sz="3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1428840" y="321480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набирается</a:t>
            </a:r>
            <a:endParaRPr b="0" lang="en-US" sz="3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1357200" y="4286160"/>
            <a:ext cx="15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друзья</a:t>
            </a:r>
            <a:endParaRPr b="0" lang="en-US" sz="3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5572080" y="47149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жить</a:t>
            </a:r>
            <a:endParaRPr b="0" lang="en-US" sz="3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2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3c2e0"/>
                </a:solidFill>
                <a:latin typeface="Arial Black"/>
              </a:rPr>
              <a:t>Угадай - ка</a:t>
            </a:r>
            <a:endParaRPr b="0" lang="en-US" sz="4000" spc="-1" strike="noStrike">
              <a:solidFill>
                <a:srgbClr val="123e96"/>
              </a:solidFill>
              <a:latin typeface="Arial Black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473040" y="1357200"/>
            <a:ext cx="2313000" cy="2500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3357720" y="3071880"/>
            <a:ext cx="2274840" cy="2428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"/>
          <p:cNvPicPr/>
          <p:nvPr/>
        </p:nvPicPr>
        <p:blipFill>
          <a:blip r:embed="rId3"/>
          <a:stretch/>
        </p:blipFill>
        <p:spPr>
          <a:xfrm>
            <a:off x="6143760" y="1428840"/>
            <a:ext cx="2500200" cy="25336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5"/>
          <p:cNvSpPr/>
          <p:nvPr/>
        </p:nvSpPr>
        <p:spPr>
          <a:xfrm>
            <a:off x="793440" y="421488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6eb2"/>
                </a:solidFill>
                <a:latin typeface="Arial"/>
              </a:rPr>
              <a:t>Лыжные гонки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3788640" y="54291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6eb2"/>
                </a:solidFill>
                <a:latin typeface="Arial"/>
              </a:rPr>
              <a:t>Баскетбол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6507000" y="407196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6eb2"/>
                </a:solidFill>
                <a:latin typeface="Arial"/>
              </a:rPr>
              <a:t>Бокс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14320" y="42840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3c2e0"/>
                </a:solidFill>
                <a:latin typeface="Arial Black"/>
              </a:rPr>
              <a:t>Угадай - ка</a:t>
            </a:r>
            <a:endParaRPr b="0" lang="en-US" sz="3600" spc="-1" strike="noStrike">
              <a:solidFill>
                <a:srgbClr val="123e96"/>
              </a:solidFill>
              <a:latin typeface="Arial Black"/>
            </a:endParaRPr>
          </a:p>
        </p:txBody>
      </p:sp>
      <p:pic>
        <p:nvPicPr>
          <p:cNvPr id="207" name="Picture 2" descr="D:\Мои документы\Люба\Ст ихи\О спорте\волейбол.gif"/>
          <p:cNvPicPr/>
          <p:nvPr/>
        </p:nvPicPr>
        <p:blipFill>
          <a:blip r:embed="rId1"/>
          <a:stretch/>
        </p:blipFill>
        <p:spPr>
          <a:xfrm>
            <a:off x="571680" y="1428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5715000" y="2000160"/>
            <a:ext cx="2741760" cy="1571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D:\Мои документы\Люба\Ст ихи\О спорте\плавание.gif"/>
          <p:cNvPicPr/>
          <p:nvPr/>
        </p:nvPicPr>
        <p:blipFill>
          <a:blip r:embed="rId3"/>
          <a:stretch/>
        </p:blipFill>
        <p:spPr>
          <a:xfrm>
            <a:off x="3143160" y="3214800"/>
            <a:ext cx="2463840" cy="24969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1000800" y="442908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6eb2"/>
                </a:solidFill>
                <a:latin typeface="Arial"/>
              </a:rPr>
              <a:t>Волейбол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6575760" y="385776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6eb2"/>
                </a:solidFill>
                <a:latin typeface="Arial"/>
              </a:rPr>
              <a:t>Гимнастика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3863880" y="585792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6eb2"/>
                </a:solidFill>
                <a:latin typeface="Arial"/>
              </a:rPr>
              <a:t>Плавание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3c2e0"/>
                </a:solidFill>
                <a:latin typeface="Arial Black"/>
              </a:rPr>
              <a:t>Отгадай-ка</a:t>
            </a:r>
            <a:endParaRPr b="0" lang="en-US" sz="36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42960" y="1285560"/>
            <a:ext cx="72151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6eb2"/>
                </a:solidFill>
                <a:latin typeface="Arial"/>
              </a:rPr>
              <a:t>Кто по снегу быстро мчится,</a:t>
            </a:r>
            <a:br>
              <a:rPr sz="3600"/>
            </a:br>
            <a:r>
              <a:rPr b="0" lang="ru-RU" sz="3600" spc="-1" strike="noStrike">
                <a:solidFill>
                  <a:srgbClr val="446eb2"/>
                </a:solidFill>
                <a:latin typeface="Arial"/>
              </a:rPr>
              <a:t>Провалиться не боится?</a:t>
            </a:r>
            <a:br>
              <a:rPr sz="3600"/>
            </a:br>
            <a:r>
              <a:rPr b="0" lang="ru-RU" sz="3600" spc="-1" strike="noStrike">
                <a:solidFill>
                  <a:srgbClr val="446eb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215" name="Рисунок 3" descr=""/>
          <p:cNvPicPr/>
          <p:nvPr/>
        </p:nvPicPr>
        <p:blipFill>
          <a:blip r:embed="rId1"/>
          <a:stretch/>
        </p:blipFill>
        <p:spPr>
          <a:xfrm>
            <a:off x="3000240" y="2928960"/>
            <a:ext cx="2643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6eb2"/>
                </a:solidFill>
                <a:latin typeface="Arial"/>
              </a:rPr>
              <a:t>Трибуны – сотни глаз!</a:t>
            </a:r>
            <a:br>
              <a:rPr sz="2800"/>
            </a:br>
            <a:r>
              <a:rPr b="1" lang="ru-RU" sz="2800" spc="-1" strike="noStrike">
                <a:solidFill>
                  <a:srgbClr val="446eb2"/>
                </a:solidFill>
                <a:latin typeface="Arial"/>
              </a:rPr>
              <a:t>Трибуны – не шумят!</a:t>
            </a:r>
            <a:br>
              <a:rPr sz="2800"/>
            </a:br>
            <a:r>
              <a:rPr b="1" lang="ru-RU" sz="2800" spc="-1" strike="noStrike">
                <a:solidFill>
                  <a:srgbClr val="446eb2"/>
                </a:solidFill>
                <a:latin typeface="Arial"/>
              </a:rPr>
              <a:t>Вот он выходит – раз!</a:t>
            </a:r>
            <a:br>
              <a:rPr sz="2800"/>
            </a:br>
            <a:r>
              <a:rPr b="1" lang="ru-RU" sz="2800" spc="-1" strike="noStrike">
                <a:solidFill>
                  <a:srgbClr val="446eb2"/>
                </a:solidFill>
                <a:latin typeface="Arial"/>
              </a:rPr>
              <a:t>И вес рекордный взят!</a:t>
            </a:r>
            <a:br>
              <a:rPr sz="2800"/>
            </a:br>
            <a:r>
              <a:rPr b="1" lang="ru-RU" sz="2800" spc="-1" strike="noStrike">
                <a:solidFill>
                  <a:srgbClr val="446eb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218" name="Рисунок 3" descr=""/>
          <p:cNvPicPr/>
          <p:nvPr/>
        </p:nvPicPr>
        <p:blipFill>
          <a:blip r:embed="rId1"/>
          <a:srcRect l="0" t="-908" r="0" b="0"/>
          <a:stretch/>
        </p:blipFill>
        <p:spPr>
          <a:xfrm>
            <a:off x="2857680" y="3714840"/>
            <a:ext cx="24285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6eb2"/>
                </a:solidFill>
                <a:latin typeface="Arial"/>
              </a:rPr>
              <a:t>На полных трибунах крики и свист – </a:t>
            </a:r>
            <a:br>
              <a:rPr sz="2800"/>
            </a:br>
            <a:r>
              <a:rPr b="1" lang="ru-RU" sz="2800" spc="-1" strike="noStrike">
                <a:solidFill>
                  <a:srgbClr val="446eb2"/>
                </a:solidFill>
                <a:latin typeface="Arial"/>
              </a:rPr>
              <a:t>Мчится к воротам с мячом ... </a:t>
            </a:r>
            <a:br>
              <a:rPr sz="2800"/>
            </a:br>
            <a:r>
              <a:rPr b="1" lang="ru-RU" sz="2800" spc="-1" strike="noStrike">
                <a:solidFill>
                  <a:srgbClr val="446eb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221" name="Рисунок 3" descr=""/>
          <p:cNvPicPr/>
          <p:nvPr/>
        </p:nvPicPr>
        <p:blipFill>
          <a:blip r:embed="rId1"/>
          <a:stretch/>
        </p:blipFill>
        <p:spPr>
          <a:xfrm>
            <a:off x="3643200" y="350028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828800" y="1676520"/>
            <a:ext cx="510048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6eb2"/>
                </a:solidFill>
                <a:latin typeface="Arial"/>
              </a:rPr>
              <a:t>Он съел коня,</a:t>
            </a:r>
            <a:br>
              <a:rPr sz="2800"/>
            </a:br>
            <a:r>
              <a:rPr b="1" lang="ru-RU" sz="2800" spc="-1" strike="noStrike">
                <a:solidFill>
                  <a:srgbClr val="446eb2"/>
                </a:solidFill>
                <a:latin typeface="Arial"/>
              </a:rPr>
              <a:t>Он съел слона</a:t>
            </a:r>
            <a:br>
              <a:rPr sz="2800"/>
            </a:br>
            <a:r>
              <a:rPr b="1" lang="ru-RU" sz="2800" spc="-1" strike="noStrike">
                <a:solidFill>
                  <a:srgbClr val="446eb2"/>
                </a:solidFill>
                <a:latin typeface="Arial"/>
              </a:rPr>
              <a:t>И победил.</a:t>
            </a:r>
            <a:br>
              <a:rPr sz="2800"/>
            </a:br>
            <a:r>
              <a:rPr b="1" lang="ru-RU" sz="2800" spc="-1" strike="noStrike">
                <a:solidFill>
                  <a:srgbClr val="446eb2"/>
                </a:solidFill>
                <a:latin typeface="Arial"/>
              </a:rPr>
              <a:t>Гордись, страна!</a:t>
            </a:r>
            <a:br>
              <a:rPr sz="2800"/>
            </a:br>
            <a:r>
              <a:rPr b="1" lang="ru-RU" sz="2800" spc="-1" strike="noStrike">
                <a:solidFill>
                  <a:srgbClr val="446eb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2786040" y="3714840"/>
            <a:ext cx="35719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9:21:29Z</dcterms:created>
  <dc:creator>Admin</dc:creator>
  <dc:description>Презентации по МХК, шаблоны PowerPoint - http://freeppt.ru/</dc:description>
  <dc:language>en-US</dc:language>
  <cp:lastModifiedBy>ххх</cp:lastModifiedBy>
  <dcterms:modified xsi:type="dcterms:W3CDTF">2015-02-09T06:16:07Z</dcterms:modified>
  <cp:revision>28</cp:revision>
  <dc:subject>Анимированный шаблон</dc:subject>
  <dc:title>День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