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2.png" ContentType="image/png"/>
  <Override PartName="/ppt/media/image24.jpeg" ContentType="image/jpeg"/>
  <Override PartName="/ppt/media/image59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40.jpeg" ContentType="image/jpeg"/>
  <Override PartName="/ppt/media/image46.jpeg" ContentType="image/jpeg"/>
  <Override PartName="/ppt/media/image49.jpeg" ContentType="image/jpeg"/>
  <Override PartName="/ppt/media/image20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8.png" ContentType="image/png"/>
  <Override PartName="/ppt/media/image28.jpeg" ContentType="image/jpeg"/>
  <Override PartName="/ppt/media/image51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39.jpeg" ContentType="image/jpeg"/>
  <Override PartName="/ppt/media/image8.jpeg" ContentType="image/jpeg"/>
  <Override PartName="/ppt/media/image13.png" ContentType="image/png"/>
  <Override PartName="/ppt/media/image54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AC5-EF3D-4B6A-B24F-988A1C47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DD3-DE89-4BAE-B4B1-90C55818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54A-7575-48F1-8069-8DC9C6AE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C03-A421-4236-9E9D-53E914E5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8EB-B191-4B72-B7DE-70F66185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A40-F9A5-4E11-81FB-C54D5BD7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FC4-4F64-49D7-A9B8-C42D3E33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805-0550-4036-ACC7-BB9A6683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E78-2370-4AB3-BFE1-0EF64B08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E11-A044-47FD-BC54-83A91B3A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EB1-25C0-48F9-9343-80CA3948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FCD-15A9-4595-8228-E493AA0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8FBB-9914-4AA2-8111-EE7AF779D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6.jpeg"/><Relationship Id="rId4" Type="http://schemas.openxmlformats.org/officeDocument/2006/relationships/image" Target="../media/image58.png"/><Relationship Id="rId5" Type="http://schemas.openxmlformats.org/officeDocument/2006/relationships/image" Target="../media/image56.jpe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4167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«Применение информационно – коммуникационных технологий как средство повышения качества образования младших школьников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640" y="4365720"/>
            <a:ext cx="521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СОШ №2 г. Лермонтова Стародубцева Елена Владими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81440" y="260280"/>
            <a:ext cx="9541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учение нового материала               Систематизация и закрепление матери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D:\школа\фоны школьные 3\шаблоны\shablony-dlya-prezentaziy-powerpoint-16-2.jpg"/>
          <p:cNvPicPr/>
          <p:nvPr/>
        </p:nvPicPr>
        <p:blipFill>
          <a:blip r:embed="rId1"/>
          <a:stretch/>
        </p:blipFill>
        <p:spPr>
          <a:xfrm>
            <a:off x="4211640" y="907920"/>
            <a:ext cx="3251160" cy="2449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724000" y="907920"/>
            <a:ext cx="19400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50920" y="2997360"/>
            <a:ext cx="2449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Безымянный.png"/>
          <p:cNvPicPr/>
          <p:nvPr/>
        </p:nvPicPr>
        <p:blipFill>
          <a:blip r:embed="rId2"/>
          <a:stretch/>
        </p:blipFill>
        <p:spPr>
          <a:xfrm>
            <a:off x="250920" y="1052640"/>
            <a:ext cx="3759120" cy="23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школа\фоны школьные 3\шаблоны\shablony-dlya-prezentaziy-powerpoint-16-2.jpg"/>
          <p:cNvPicPr/>
          <p:nvPr/>
        </p:nvPicPr>
        <p:blipFill>
          <a:blip r:embed="rId3"/>
          <a:stretch/>
        </p:blipFill>
        <p:spPr>
          <a:xfrm>
            <a:off x="4211640" y="3573360"/>
            <a:ext cx="3730680" cy="280836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4439160" y="98100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Из каких басен стро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4427640" y="1341360"/>
            <a:ext cx="165708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от пуще прежнего пошли у них разбо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И спор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Кому и как сиде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лучилось соловью на шум их прилететь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272-10-1"/>
          <p:cNvPicPr/>
          <p:nvPr/>
        </p:nvPicPr>
        <p:blipFill>
          <a:blip r:embed="rId4"/>
          <a:stretch/>
        </p:blipFill>
        <p:spPr>
          <a:xfrm>
            <a:off x="6156360" y="1413000"/>
            <a:ext cx="1193760" cy="1512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4356000" y="3789360"/>
            <a:ext cx="180036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Голубушка, как хороша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у что за шейка, что за глазки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Рассказывать, так, право сказки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акие перышки! Какой носок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И, верно, ангельский быть должен голосок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img291"/>
          <p:cNvPicPr/>
          <p:nvPr/>
        </p:nvPicPr>
        <p:blipFill>
          <a:blip r:embed="rId5"/>
          <a:stretch/>
        </p:blipFill>
        <p:spPr>
          <a:xfrm>
            <a:off x="6443640" y="4005360"/>
            <a:ext cx="1324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77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Учебные программы          Программы –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тренаж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Содержимое 3" descr="cover_image_big (1).jpg"/>
          <p:cNvPicPr/>
          <p:nvPr/>
        </p:nvPicPr>
        <p:blipFill>
          <a:blip r:embed="rId1"/>
          <a:stretch/>
        </p:blipFill>
        <p:spPr>
          <a:xfrm>
            <a:off x="395280" y="1197000"/>
            <a:ext cx="2158920" cy="2160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cover_image_big.jpg"/>
          <p:cNvPicPr/>
          <p:nvPr/>
        </p:nvPicPr>
        <p:blipFill>
          <a:blip r:embed="rId2"/>
          <a:stretch/>
        </p:blipFill>
        <p:spPr>
          <a:xfrm>
            <a:off x="1979640" y="2997360"/>
            <a:ext cx="2089080" cy="2087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MP-3-klass-trenazher-po-matematike-k-uchebniku-bashmakova-2.jpg"/>
          <p:cNvPicPr/>
          <p:nvPr/>
        </p:nvPicPr>
        <p:blipFill>
          <a:blip r:embed="rId3"/>
          <a:stretch/>
        </p:blipFill>
        <p:spPr>
          <a:xfrm>
            <a:off x="4140360" y="1413000"/>
            <a:ext cx="3108240" cy="1800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trenazher-po-russkomu-yazyku-4-klass-zheltovskoj-1.png"/>
          <p:cNvPicPr/>
          <p:nvPr/>
        </p:nvPicPr>
        <p:blipFill>
          <a:blip r:embed="rId4"/>
          <a:stretch/>
        </p:blipFill>
        <p:spPr>
          <a:xfrm>
            <a:off x="5580000" y="2924280"/>
            <a:ext cx="3256200" cy="1873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b3-mp-3-klass-trenazher-po-matematike-k-uchebniku-bashmakova.gif"/>
          <p:cNvPicPr/>
          <p:nvPr/>
        </p:nvPicPr>
        <p:blipFill>
          <a:blip r:embed="rId5"/>
          <a:stretch/>
        </p:blipFill>
        <p:spPr>
          <a:xfrm>
            <a:off x="4211640" y="4365720"/>
            <a:ext cx="19368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0589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нформационно –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справочные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програ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Рисунок 4" descr="slide_2.jpg"/>
          <p:cNvPicPr/>
          <p:nvPr/>
        </p:nvPicPr>
        <p:blipFill>
          <a:blip r:embed="rId1"/>
          <a:stretch/>
        </p:blipFill>
        <p:spPr>
          <a:xfrm>
            <a:off x="539640" y="1557360"/>
            <a:ext cx="3233880" cy="26636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4716360" y="33336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Мультимедиа – учеб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1007206608.jpg"/>
          <p:cNvPicPr/>
          <p:nvPr/>
        </p:nvPicPr>
        <p:blipFill>
          <a:blip r:embed="rId2"/>
          <a:stretch/>
        </p:blipFill>
        <p:spPr>
          <a:xfrm>
            <a:off x="5003640" y="1268280"/>
            <a:ext cx="2946600" cy="25923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1644773.jpg"/>
          <p:cNvPicPr/>
          <p:nvPr/>
        </p:nvPicPr>
        <p:blipFill>
          <a:blip r:embed="rId3"/>
          <a:stretch/>
        </p:blipFill>
        <p:spPr>
          <a:xfrm>
            <a:off x="3995640" y="3789360"/>
            <a:ext cx="288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Работа с интерактивной доск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2" descr="DSCN3535.JPG"/>
          <p:cNvPicPr/>
          <p:nvPr/>
        </p:nvPicPr>
        <p:blipFill>
          <a:blip r:embed="rId1"/>
          <a:stretch/>
        </p:blipFill>
        <p:spPr>
          <a:xfrm>
            <a:off x="324000" y="112536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Фото0232.jpg"/>
          <p:cNvPicPr/>
          <p:nvPr/>
        </p:nvPicPr>
        <p:blipFill>
          <a:blip r:embed="rId2"/>
          <a:stretch/>
        </p:blipFill>
        <p:spPr>
          <a:xfrm>
            <a:off x="4140360" y="1125360"/>
            <a:ext cx="3600360" cy="2698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Фото0233.jpg"/>
          <p:cNvPicPr/>
          <p:nvPr/>
        </p:nvPicPr>
        <p:blipFill>
          <a:blip r:embed="rId3"/>
          <a:stretch/>
        </p:blipFill>
        <p:spPr>
          <a:xfrm>
            <a:off x="3564000" y="393372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Работа с  ресурсами Интерн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1476360" y="1484280"/>
            <a:ext cx="646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разнообразить виды учебной  деятельности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уро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ожность для профессионального ро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вает творческие возмо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использовать на уроке современные  технически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частие в интеллектуальных конкурс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Рисунок 2" descr="Image0003.JPG"/>
          <p:cNvPicPr/>
          <p:nvPr/>
        </p:nvPicPr>
        <p:blipFill>
          <a:blip r:embed="rId1"/>
          <a:stretch/>
        </p:blipFill>
        <p:spPr>
          <a:xfrm>
            <a:off x="2195640" y="836640"/>
            <a:ext cx="2314440" cy="17985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Image0003.JPG"/>
          <p:cNvPicPr/>
          <p:nvPr/>
        </p:nvPicPr>
        <p:blipFill>
          <a:blip r:embed="rId2"/>
          <a:stretch/>
        </p:blipFill>
        <p:spPr>
          <a:xfrm>
            <a:off x="179280" y="3860640"/>
            <a:ext cx="2422800" cy="1830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Image0004.JPG"/>
          <p:cNvPicPr/>
          <p:nvPr/>
        </p:nvPicPr>
        <p:blipFill>
          <a:blip r:embed="rId3"/>
          <a:stretch/>
        </p:blipFill>
        <p:spPr>
          <a:xfrm>
            <a:off x="2771640" y="3068640"/>
            <a:ext cx="1827360" cy="28796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Image0005.JPG"/>
          <p:cNvPicPr/>
          <p:nvPr/>
        </p:nvPicPr>
        <p:blipFill>
          <a:blip r:embed="rId4"/>
          <a:stretch/>
        </p:blipFill>
        <p:spPr>
          <a:xfrm>
            <a:off x="250920" y="765000"/>
            <a:ext cx="1592280" cy="22323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4643280" y="23493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частие в международных дистанционных олимпи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format_A4_document_133081.jpg"/>
          <p:cNvPicPr/>
          <p:nvPr/>
        </p:nvPicPr>
        <p:blipFill>
          <a:blip r:embed="rId5"/>
          <a:stretch/>
        </p:blipFill>
        <p:spPr>
          <a:xfrm>
            <a:off x="5292720" y="3068640"/>
            <a:ext cx="2592360" cy="1827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format_A4_document_109172.jpg"/>
          <p:cNvPicPr/>
          <p:nvPr/>
        </p:nvPicPr>
        <p:blipFill>
          <a:blip r:embed="rId6"/>
          <a:stretch/>
        </p:blipFill>
        <p:spPr>
          <a:xfrm>
            <a:off x="5292720" y="5030640"/>
            <a:ext cx="2592360" cy="18273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format_A4_document_306511.jpg"/>
          <p:cNvPicPr/>
          <p:nvPr/>
        </p:nvPicPr>
        <p:blipFill>
          <a:blip r:embed="rId7"/>
          <a:stretch/>
        </p:blipFill>
        <p:spPr>
          <a:xfrm>
            <a:off x="5292720" y="404640"/>
            <a:ext cx="2592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Проведение внеклассных  мероприятий и классных час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Рисунок 2" descr="IMG_3846.JPG"/>
          <p:cNvPicPr/>
          <p:nvPr/>
        </p:nvPicPr>
        <p:blipFill>
          <a:blip r:embed="rId1"/>
          <a:stretch/>
        </p:blipFill>
        <p:spPr>
          <a:xfrm>
            <a:off x="4535640" y="112536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IMG_7485.JPG"/>
          <p:cNvPicPr/>
          <p:nvPr/>
        </p:nvPicPr>
        <p:blipFill>
          <a:blip r:embed="rId2"/>
          <a:stretch/>
        </p:blipFill>
        <p:spPr>
          <a:xfrm>
            <a:off x="539640" y="1052640"/>
            <a:ext cx="3456000" cy="23050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IMG_7493.JPG"/>
          <p:cNvPicPr/>
          <p:nvPr/>
        </p:nvPicPr>
        <p:blipFill>
          <a:blip r:embed="rId3"/>
          <a:stretch/>
        </p:blipFill>
        <p:spPr>
          <a:xfrm>
            <a:off x="4572000" y="3789360"/>
            <a:ext cx="3457440" cy="23036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250920" y="3357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Участие в фестивалях детского и юношеского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Image0002.JPG"/>
          <p:cNvPicPr/>
          <p:nvPr/>
        </p:nvPicPr>
        <p:blipFill>
          <a:blip r:embed="rId4"/>
          <a:stretch/>
        </p:blipFill>
        <p:spPr>
          <a:xfrm>
            <a:off x="250920" y="3933720"/>
            <a:ext cx="1981080" cy="2660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" descr="Image0001.JPG"/>
          <p:cNvPicPr/>
          <p:nvPr/>
        </p:nvPicPr>
        <p:blipFill>
          <a:blip r:embed="rId5"/>
          <a:stretch/>
        </p:blipFill>
        <p:spPr>
          <a:xfrm>
            <a:off x="2340000" y="3860640"/>
            <a:ext cx="19447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оведение игр с использованием И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Рисунок 2" descr="DSCN4065.JPG"/>
          <p:cNvPicPr/>
          <p:nvPr/>
        </p:nvPicPr>
        <p:blipFill>
          <a:blip r:embed="rId1"/>
          <a:stretch/>
        </p:blipFill>
        <p:spPr>
          <a:xfrm>
            <a:off x="468360" y="981000"/>
            <a:ext cx="3575160" cy="23767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DSCN4001.JPG"/>
          <p:cNvPicPr/>
          <p:nvPr/>
        </p:nvPicPr>
        <p:blipFill>
          <a:blip r:embed="rId2"/>
          <a:stretch/>
        </p:blipFill>
        <p:spPr>
          <a:xfrm>
            <a:off x="4211640" y="981000"/>
            <a:ext cx="3600360" cy="23767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DSCN4375.JPG"/>
          <p:cNvPicPr/>
          <p:nvPr/>
        </p:nvPicPr>
        <p:blipFill>
          <a:blip r:embed="rId3"/>
          <a:stretch/>
        </p:blipFill>
        <p:spPr>
          <a:xfrm>
            <a:off x="5796000" y="3573360"/>
            <a:ext cx="2916360" cy="2421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DSCN4195.JPG"/>
          <p:cNvPicPr/>
          <p:nvPr/>
        </p:nvPicPr>
        <p:blipFill>
          <a:blip r:embed="rId4"/>
          <a:stretch/>
        </p:blipFill>
        <p:spPr>
          <a:xfrm>
            <a:off x="2700360" y="3573360"/>
            <a:ext cx="3060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Учебное и социальное проек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Рисунок 2" descr="DSCN0798.JPG"/>
          <p:cNvPicPr/>
          <p:nvPr/>
        </p:nvPicPr>
        <p:blipFill>
          <a:blip r:embed="rId1"/>
          <a:stretch/>
        </p:blipFill>
        <p:spPr>
          <a:xfrm>
            <a:off x="684360" y="1125360"/>
            <a:ext cx="3095640" cy="2517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DSCN0805.JPG"/>
          <p:cNvPicPr/>
          <p:nvPr/>
        </p:nvPicPr>
        <p:blipFill>
          <a:blip r:embed="rId2"/>
          <a:stretch/>
        </p:blipFill>
        <p:spPr>
          <a:xfrm>
            <a:off x="3780000" y="3789360"/>
            <a:ext cx="446400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DSCN3546.JPG"/>
          <p:cNvPicPr/>
          <p:nvPr/>
        </p:nvPicPr>
        <p:blipFill>
          <a:blip r:embed="rId3"/>
          <a:stretch/>
        </p:blipFill>
        <p:spPr>
          <a:xfrm>
            <a:off x="4427640" y="1125360"/>
            <a:ext cx="31543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3743280" cy="490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качеств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Диаграмма 2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722760" cy="28749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4140360" y="1844640"/>
            <a:ext cx="50036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ниторинг участия в интернет-конк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ject 4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4321080" cy="28083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0" y="4221000"/>
            <a:ext cx="45007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ниторинг овладения ИК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ject 5" descr=""/>
          <p:cNvPicPr/>
          <p:nvPr/>
        </p:nvPicPr>
        <p:blipFill>
          <a:blip r:embed="rId6"/>
          <a:stretch/>
        </p:blipFill>
        <p:spPr>
          <a:xfrm>
            <a:off x="0" y="4581360"/>
            <a:ext cx="4537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ктуальность выбранной 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бходимость применения ИКТ в учебно – воспитательном процессе для реализации целей образования в начальной школе, а имен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готовность детей к овладению современными компьютерными технолог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пособность актуализировать полученную с их помощью информацию для дальнейшего сам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7680" y="-458640"/>
            <a:ext cx="8626320" cy="59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Литерату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 http://nsportal.ru/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2. http://festival.1september.ru/primary-school/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3. Всемирный доклад ЮНЕСКО по коммуникации и информации, 1999-2000гг.-М.: 2000. -168с.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4. Виноградова Л.П. Использование информационных технологий в начальной школе: Материалы научно-практической конференции.-2000г.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5. Захарова Н. И. Внедрение информационных технологий в учебный процесс. // Начальная школа. №1. 2008.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6. Юркина С.В. «Использование ИКТ в начальной школе»//http://festival.1september.ru/articles/565527/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7. Яковлев А.И. «Информационно-коммуникационные технологии в образовании» //http://emag.iis.ru/arc/infosoc/emag.nsf/BPA/bce6d4452de1cad0c3256c4d005253d0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ознавательная активность ребенка организует внимание, если изучаемый материал интерес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Содержимое 4" descr="DSCN3534.JPG"/>
          <p:cNvPicPr/>
          <p:nvPr/>
        </p:nvPicPr>
        <p:blipFill>
          <a:blip r:embed="rId1"/>
          <a:stretch/>
        </p:blipFill>
        <p:spPr>
          <a:xfrm>
            <a:off x="2916360" y="2276640"/>
            <a:ext cx="5286240" cy="3457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7960" y="1599840"/>
            <a:ext cx="201132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24000" y="2133360"/>
            <a:ext cx="94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Для достижения этих целей решаю следующие 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42560" y="4723920"/>
            <a:ext cx="8893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уровня комфортност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дидактических затруднений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активности и инициативности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560" y="299736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ация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отивации к обучени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информационного мыш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навыков самоконтроля и само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79280" y="260280"/>
            <a:ext cx="93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сновными целями использования ИКТ счита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324000" y="981000"/>
            <a:ext cx="82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результативност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интеллектуального развития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спользование возможностей программ – приложений пакета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Microsoft Office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создания разнообразных материа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435640" y="1773360"/>
            <a:ext cx="302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3" descr="excel2007.gif"/>
          <p:cNvPicPr/>
          <p:nvPr/>
        </p:nvPicPr>
        <p:blipFill>
          <a:blip r:embed="rId1"/>
          <a:stretch/>
        </p:blipFill>
        <p:spPr>
          <a:xfrm>
            <a:off x="3492360" y="4149720"/>
            <a:ext cx="4238640" cy="2219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word_ga.jpg"/>
          <p:cNvPicPr/>
          <p:nvPr/>
        </p:nvPicPr>
        <p:blipFill>
          <a:blip r:embed="rId2"/>
          <a:stretch/>
        </p:blipFill>
        <p:spPr>
          <a:xfrm>
            <a:off x="395280" y="1557360"/>
            <a:ext cx="3884760" cy="23763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viewer-powerpoint.jpg"/>
          <p:cNvPicPr/>
          <p:nvPr/>
        </p:nvPicPr>
        <p:blipFill>
          <a:blip r:embed="rId3"/>
          <a:stretch/>
        </p:blipFill>
        <p:spPr>
          <a:xfrm>
            <a:off x="4859280" y="1557360"/>
            <a:ext cx="3718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333360"/>
            <a:ext cx="3456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ВЕРОЧНАЯ РАБОТА №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. Запиши слово, сделай запись звукового состава этого слов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ньки 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. Составь предложение из этих сло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Желтые, березы, стали, листья, н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Запиши предложение, раздели слова на слоги и поставь ударение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. Вставь вместо точек буквы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  ж…вом   уголке   ж…ли   уж…   да   еж…  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. Вставь  вместо точек буквы. Подбери проверочные слов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…сна -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…ды -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оро… - 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Черте…  - 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6. Составь предложения по схеме. Запиши их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то? Что делает? 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кая? Что? Что делает? Где?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 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7. Раздели слова для перенос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стреча, яма, тонна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8. Запиши слова по алфавит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ереза, тетрадь, медведь, собака, арбу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924360" y="4017240"/>
            <a:ext cx="4859280" cy="253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рточка 11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__________________________________________Фамилия, им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Подчеркни слова, в которых есть гласные, обозначающие два  зву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ждик на луже рисует картинку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тлую, лёгкую – как паутинк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в неё заглянуть с высоты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о на картине появишься т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. Пинег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дели слова на слоги. Запиши все возможные случай перенос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венья 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лотаю 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юзник - 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язык - 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ставь пропущенные буквы. Измени слова по числ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…га - ______, эт…жи- _________, пч…ла-_________, …гла - _______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284720" y="351000"/>
            <a:ext cx="3168720" cy="3596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ст по окружающему миру   3 клас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и состояния воды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. Три состояния воды это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) твердое, жидкое и газообразн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) цвет, запах, фор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Вода, как и всякая другая жидкость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) теку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) плаву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  Свойства воды в жидком состояни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) имеет цвет, форму и запа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) прозрачная, бесцветная, без запах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Важное свойство воды, как жидкост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) может растворять другие веще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) она растворяет другие жидк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  Вода в твердом состоянии это _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) лед и сне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) облако и дожд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Снег имеет свой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) не прозрачный, без запаха, рыхл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) прозрачный, без запаха, не та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Превращение воды в пар называют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) исчезнове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) испаре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2" descr="Рисунок1.png"/>
          <p:cNvPicPr/>
          <p:nvPr/>
        </p:nvPicPr>
        <p:blipFill>
          <a:blip r:embed="rId1"/>
          <a:stretch/>
        </p:blipFill>
        <p:spPr>
          <a:xfrm>
            <a:off x="395280" y="333360"/>
            <a:ext cx="3745080" cy="2813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DSCN0663.JPG"/>
          <p:cNvPicPr/>
          <p:nvPr/>
        </p:nvPicPr>
        <p:blipFill>
          <a:blip r:embed="rId2"/>
          <a:stretch/>
        </p:blipFill>
        <p:spPr>
          <a:xfrm>
            <a:off x="4788000" y="3213000"/>
            <a:ext cx="3976560" cy="3168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DSCN4949.JPG"/>
          <p:cNvPicPr/>
          <p:nvPr/>
        </p:nvPicPr>
        <p:blipFill>
          <a:blip r:embed="rId3"/>
          <a:stretch/>
        </p:blipFill>
        <p:spPr>
          <a:xfrm>
            <a:off x="4211640" y="333360"/>
            <a:ext cx="3924360" cy="273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DSCN5243.JPG"/>
          <p:cNvPicPr/>
          <p:nvPr/>
        </p:nvPicPr>
        <p:blipFill>
          <a:blip r:embed="rId4"/>
          <a:stretch/>
        </p:blipFill>
        <p:spPr>
          <a:xfrm>
            <a:off x="1187280" y="3213000"/>
            <a:ext cx="33134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Цель уро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92000" y="4508280"/>
            <a:ext cx="518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I:\DCIM\114NIKON\DSCN4959.JPG"/>
          <p:cNvPicPr/>
          <p:nvPr/>
        </p:nvPicPr>
        <p:blipFill>
          <a:blip r:embed="rId1"/>
          <a:stretch/>
        </p:blipFill>
        <p:spPr>
          <a:xfrm>
            <a:off x="4572000" y="1413000"/>
            <a:ext cx="3205080" cy="2693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I:\DCIM\114NIKON\DSCN4955.JPG"/>
          <p:cNvPicPr/>
          <p:nvPr/>
        </p:nvPicPr>
        <p:blipFill>
          <a:blip r:embed="rId2"/>
          <a:stretch/>
        </p:blipFill>
        <p:spPr>
          <a:xfrm>
            <a:off x="395280" y="1341360"/>
            <a:ext cx="37749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Алгоритм проведения урока с применением И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35640" y="1773360"/>
            <a:ext cx="302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D:\школа\фоны школьные 3\w0ZCly4b4J.PNG"/>
          <p:cNvPicPr/>
          <p:nvPr/>
        </p:nvPicPr>
        <p:blipFill>
          <a:blip r:embed="rId1"/>
          <a:stretch/>
        </p:blipFill>
        <p:spPr>
          <a:xfrm>
            <a:off x="395280" y="14842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902880" y="1916280"/>
            <a:ext cx="11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Ро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1216080" cy="93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2340000" y="1773360"/>
            <a:ext cx="1206360" cy="817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2268360" y="2637000"/>
            <a:ext cx="1216080" cy="936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D:\школа\фоны школьные 3\шаблоны\shablony-dlya-prezentaziy-powerpoint-16-2.jpg"/>
          <p:cNvPicPr/>
          <p:nvPr/>
        </p:nvPicPr>
        <p:blipFill>
          <a:blip r:embed="rId5"/>
          <a:stretch/>
        </p:blipFill>
        <p:spPr>
          <a:xfrm>
            <a:off x="4356000" y="1484280"/>
            <a:ext cx="3378240" cy="2544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3"/>
          <p:cNvSpPr/>
          <p:nvPr/>
        </p:nvSpPr>
        <p:spPr>
          <a:xfrm>
            <a:off x="4868280" y="155736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Басни И.А.Кры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Lebi"/>
          <p:cNvPicPr/>
          <p:nvPr/>
        </p:nvPicPr>
        <p:blipFill>
          <a:blip r:embed="rId6"/>
          <a:stretch/>
        </p:blipFill>
        <p:spPr>
          <a:xfrm>
            <a:off x="4427640" y="1989000"/>
            <a:ext cx="936360" cy="110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img293"/>
          <p:cNvPicPr/>
          <p:nvPr/>
        </p:nvPicPr>
        <p:blipFill>
          <a:blip r:embed="rId7"/>
          <a:stretch/>
        </p:blipFill>
        <p:spPr>
          <a:xfrm>
            <a:off x="6659640" y="1989000"/>
            <a:ext cx="903240" cy="104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img291"/>
          <p:cNvPicPr/>
          <p:nvPr/>
        </p:nvPicPr>
        <p:blipFill>
          <a:blip r:embed="rId8"/>
          <a:stretch/>
        </p:blipFill>
        <p:spPr>
          <a:xfrm>
            <a:off x="5508720" y="1989000"/>
            <a:ext cx="1014480" cy="111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D:\школа\фоны школьные 3\les2.jpg"/>
          <p:cNvPicPr/>
          <p:nvPr/>
        </p:nvPicPr>
        <p:blipFill>
          <a:blip r:embed="rId9"/>
          <a:stretch/>
        </p:blipFill>
        <p:spPr>
          <a:xfrm>
            <a:off x="3203640" y="4365720"/>
            <a:ext cx="3635280" cy="22762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9"/>
          <p:cNvSpPr/>
          <p:nvPr/>
        </p:nvSpPr>
        <p:spPr>
          <a:xfrm>
            <a:off x="3436200" y="450864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поминаем, закрепля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0"/>
          <p:cNvSpPr/>
          <p:nvPr/>
        </p:nvSpPr>
        <p:spPr>
          <a:xfrm>
            <a:off x="3348000" y="5013360"/>
            <a:ext cx="3024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В еловом лес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Какой лес называют еловым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Каковы особенности елового леса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Какие растения растут в ельнике и каков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их особенности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Какие животные обитают в еловом лесу 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каковы их особенности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481680" y="112536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организационном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4443840" y="1125360"/>
            <a:ext cx="34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этапе актуализации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2278440" y="407664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рка усвоения предыдуще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34:06Z</dcterms:created>
  <dc:creator>Стародубцева Елена Владимировна</dc:creator>
  <dc:description/>
  <dc:language>en-US</dc:language>
  <cp:lastModifiedBy>Елена</cp:lastModifiedBy>
  <dcterms:modified xsi:type="dcterms:W3CDTF">2015-02-28T11:45:29Z</dcterms:modified>
  <cp:revision>69</cp:revision>
  <dc:subject/>
  <dc:title>Слайд 1</dc:title>
</cp:coreProperties>
</file>