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FF1B-98B2-4F83-B79F-7F8A9176D7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130E-542E-40B1-BBD8-FD262AA9EC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865B-D396-4A0E-B2DF-1CA7DEC6B6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5EC-FE14-4BF6-B413-47878DBD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49C-9A56-4342-8979-5958811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8EC-975E-44EC-A38B-B3E4FC74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6D8-9B22-4688-A5A5-7533B311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2360-3BAB-4B38-9BFE-9654ED49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55D2-B6BD-4002-8DCB-A579CFBD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CE2-DF21-4CD4-82D3-B2D3C9BD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C5CC-5493-47B9-89E7-2A4D7A9D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587D-4F0A-4C4C-9D24-59C59A94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54FD-33BD-4C3F-B1DA-292CCB62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A52D-4FF0-41F5-8DB1-2E83595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5DE-420E-44E7-8598-B0B2526D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5AF3-D787-4415-9880-15FB4505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CD88-425E-4FC6-8886-40BB979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9998-0D00-4BA2-8D88-4ED40556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3AF8-1B78-4676-9B81-2666C69C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EEB-73B6-4B8E-BF46-F24B9625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EF58-CDA8-4597-836A-4334C197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3AE8-6B82-45A1-BAA2-15DDD80B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8FA8-0598-4B03-93B3-8E913A0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9FF3-D71E-42A8-BEE8-6DCCC018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D1D8-E116-441B-B646-568FDA2B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65E-26EF-4BF0-BC70-5B045D58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A512-E9A2-4005-BB14-15C151AB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916E-B42B-48A0-B88B-F2C8AC2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E5C7-FC68-431A-ACD2-AF356461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9215-4106-4840-8509-CD5249E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9F01-581D-4AA0-8AB4-1666111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FFBF-6491-48F4-A289-F7DC2122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0138-4ED9-4BC6-92AC-2A44AD78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F892-7774-42EA-91D1-D18DDDA3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F55D-ECC3-42DB-BA71-BD104701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7FAB-A563-4B92-B0F4-29162988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C18-3C37-47F9-9448-BC5F947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4751-CF67-426A-9DE6-8A5552A1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407D9-494B-4DD9-9DC9-0BE25398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2EFA6-8BC9-4687-A77D-78DBD51D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8B2B5-8F82-4678-857C-32A471A4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E65A-7FE9-4AE2-A906-E710E97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7673-111E-45DF-B88A-4FAE092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0759-D47C-4430-91E7-717FAE2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FF6E-9192-4CEF-9EDB-C9C4A14B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3D58B-0D9E-4FE0-BA54-999744AB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82EF-8660-4218-9594-89E55DCA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956-C8E3-4766-AAE9-E7A25DAC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29F4-47E2-491E-84B4-A739B23A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B336-D878-4193-A959-0F590FD7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E052-CD52-4A41-872A-79241A28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74BB-CABA-4D83-A8CE-EB5BD6AB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A87E-1EF7-43AC-A349-20BCD99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12F95-760A-40EF-AAFD-F29DCEBC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01178-835A-4D14-92C7-DFA5D4F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0502-99AD-4FB2-92D3-818B4702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FE89D-8326-4F10-A47B-7D12E59E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2D88-92E0-459C-B6F5-724F7912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1F9-CB6B-47A8-9ACA-A24BB28B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66197-3136-4229-A3E5-3A3EBCFA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A46F3-446B-4AA4-A385-E30C76CF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E59E-E6A8-45AF-8959-F4AB3047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98BD9-0926-4211-9BC9-CB545640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147C6-6203-410A-99D3-7790DCAF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07510-01BB-44A9-98F1-4A6F3E60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5958-1E7A-4D9C-8153-A6C3FB3A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EDCE9-C456-46BE-8167-3680D605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6ED76-8760-46E4-A735-F54D0D1C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4350-264A-4FE4-911E-27BE9ED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884-F25A-40E4-AC3F-662428E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5C3AB-4F85-4E2A-B756-2614DC04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A226-082B-4893-8970-E34CA059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0646E-68C4-409D-ABFD-F5D35EE5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9F51A-D515-4D53-B2D1-FE510FDB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D437-32B9-432E-9FE7-AD098535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1EDE8-20C8-45E8-83F9-987B183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E9F54-5267-422C-A24D-678C370D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6D6DD-4EF7-4716-A5D0-F9795F25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A046-48B2-431A-B11F-EF06FB82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3511B-F536-4FD6-9C16-F4CFE288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365-868E-4C50-A2CA-586121E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7C2C-CAE0-461C-9BDD-4D688A07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83F3F-AB89-40E1-82DE-07CD4DA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12E88-1652-4FA6-8506-96385100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7070-FA74-4CCA-9F25-BAC6818E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E2845-5367-4EEC-9B1C-7D2D23F6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52495-8C5D-499F-AA18-E53A584A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39EB4-B064-4AF4-8164-FC9B981C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60431-E877-43BD-AF83-F8D4326F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3C020-2542-4599-91DB-65AC21F1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83EE6-DB04-4B23-948A-FAC6D1DD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7B6-CD64-4746-8C65-22AAE14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5BDA2-D4CD-405C-A022-3FBF9C24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49B8B-F79A-4C6F-890F-BA05B32A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8EF0-BBBB-4F4D-AA05-381E4E2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43E0F-565D-4B72-86C6-BBC4F8F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D642E-2580-4DA9-96F5-EEE54438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EC44-249C-46AD-B1F7-22175402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9D125-628F-46D2-B623-10341676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3363-52DF-4C1D-911B-255B4BDFE6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6560"/>
              <a:ext cx="9093240" cy="78588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BE42-4AB3-4A8B-BC9D-9DCEC35553C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D242-CDAA-4010-A2DE-06F537730E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4EAF-1D89-4E04-9C7E-47F94A557D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778A-A57E-4AD9-8FC7-4FBD200C08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9139-16D4-43DD-AEE4-145FB2EBA3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C75E-A444-4EB0-BEAE-8BDCCB8CBF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E109-F84D-4E1D-9E40-0F9C3C78C9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749160" y="1189080"/>
            <a:ext cx="7718400" cy="23288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611280" y="5589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мастер п/о по профессии «Делопроизводитель»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еримова Асия Гаджиевн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79280" y="357120"/>
            <a:ext cx="8785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графическое (логографическое) письмо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торая ступень - идеографическое (логографическое) письмо (знак равен слову). В этом типе письма отдельные знаки передают уже слова. Появление идеографического письма связано исторически с дальнейшим развитием человеческого мышления и, следовательно, языка, с приобретенной ими способностью к большим абстракциям, с умением человека разлагать речь на элементы – слова. Древнейшие логографические системы письма – египетская, шумерская, критская, китайская – обычно возникали в связи с формированием первых рабовладельческих государств (І</a:t>
            </a: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начало </a:t>
            </a: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тысячелетия до н.э.).Возникновение этих систем письма было обусловлено потребностью государств в более точном и упорядоченном письме. Такая потребность появлялась в связи со сложностью хозяйственного учета, в связи с развивавшейся торговлей, для записи крупнейших исторических событий, религиозных обряд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http://dok.opredelim.com/pars_docs/refs/10/9295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208080" y="255600"/>
            <a:ext cx="8697960" cy="62308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539640" y="554760"/>
            <a:ext cx="83534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говое письм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ья ступень – слоговое письмо. В этой системе письма кажды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 равен слогу (например, ассиро-вавилонская, урартска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енность, письмо майя, корейская, японская письменность, индейское слоговое письмо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говым, или силлабическим (от греч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yllab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«слог»), называется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е письмо, в котором каждый графический знак обозначает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ую единицу языка, как слог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енность, построенная на слоговой системе, имеет от 35 – 40 до 200 – 300 знаков. Древнейшие слоговые знаки возникли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ысячелетии до нашей эры в шумерском письме из логограмм. Наиболее известными являются такие слоговые письменности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: клинописная (древнеперсидская, аккадская), западносемитские (наследники древнеегипетской иероглифики) и две японски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говые системы (наследницы китайского письма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особому типу относятся западносемитские письменности (арабская, финикийская, арамейская, древнееврейская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http://dok.opredelim.com/pars_docs/refs/10/9295/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213840" y="981000"/>
            <a:ext cx="864396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ая ступень – буквенно-звуковое письмо. Возникло из слогового в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ом тысячелетии до нашей эры. Появление буквенно-звукового письма имело огромное значение для развития мировой культур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ое письмо делится на консонантно-звуковое (передает только согласные) и вокализовано - звуковое -передает как согласные, так и гласные. О происхождении вокализовано-звукового письма до сих пор идут научные споры. Но наиболее распространено мнение, что оно создано на базе слогового письма финикийцами, у которых его заимствовали, усовершенствовав, греки. От греческого алфавита ведут происхождение почти все последующие вокализовано-звуковые системы мир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шее на основе греческого алфавит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е письмо послужило основой для большинства современных систем письм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08080" y="73080"/>
            <a:ext cx="86979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08080" y="328680"/>
            <a:ext cx="8697960" cy="6230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http://dok.opredelim.com/pars_docs/refs/10/9295/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-360" y="549360"/>
            <a:ext cx="8991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им из древнейших материалов для письма по праву считается папирус. Римский естествоиспытатель Плиний оставил подробное описание процесса изготовления из растения писчего материала.</a:t>
            </a:r>
            <a:r>
              <a:rPr b="0" lang="ru-RU" sz="2800" spc="-1" strike="noStrike" u="sng" baseline="30000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тем появился пергамент. Его изобрел Евмен. Кожа применялась в качестве писчего материал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ранее – в Египте и Месопотамии. Древнейшие документы на пергаменте были обнаружены в 1923 г. при раскопках на берегах Евфрат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947 г. в пещерах на западном берегу Мертвого моря найдены Кумранские рукописи (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ек д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ей эры на древнееврейском язык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6997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50920" y="415440"/>
            <a:ext cx="8686800" cy="59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агодаря нашему исследования мы выяснили, что письменность — одна из форм существования человеческого языка, предназначенная для формализации, фиксации и передачи тех или иных данны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расстоянии и придания этим данным вневременного характер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ая письменность прошла достаточно длительный период становления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выделить следующие этапы её формирования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едметное письмо, когда люди пытались передавать информацию при помощи различных предметов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иктографическое письмо (изображение) при котором с помощью определенного знака выражается некоторое понятие (понятие «человек» - могло быть передано изображением человека, понятие «зоркость» - передавалось изображением глаза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Иероглифическое письмо, где письменная и устная речь существуют как бы по отдельности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логовое письмо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которого произошли латиница, кириллица и соответственно большинство современных письменностей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Алфавитное письмо, имеющее стандартный, так называемый, алфавитный порядок знаков, которые в настоящее время называются буквам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развитием письменности совершенствовалис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иалы и орудия для письма: камень, глиняные и бамбуковые дощечки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епаховые щитки, дерево и металл, папирус, кожа и наконец - бумаг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благодаря изобретению письменности человечество сделало огромный прорыв в своём развити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6997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4920" y="282600"/>
            <a:ext cx="8497800" cy="62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ное нами исследование позволяет сформулировать основные положения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оявление письменности стало одним из самых важных, фундаментальнейших открытий на долгом пути эволюции человечества. По значимости этот шаг можно, пожалуй, сравнить с добыванием огня или с переходом к выращиванию растений вместо долгой поры собирательства. Становление письменности – очень непростой процесс, длившийся тысячелетия. Обычно последовательно устанавливаются четыре типа письма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ктографическое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идеографическое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говое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квенно-звуковое.  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е деление дает возможность увидеть последовательность основных этапов в истории письма, выявить своеобразие формирования его основных типов и тем самым представить себе общую картину становления и развития начертательного письм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овременное письмо, которым мы повседневно пользуемся, иногда даже не задумываясь над тем, как оно возникло, представляет собой результат творчества народов многих стран в течение десятков тысяч лет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явление документа – это закономерный этап развития хозяйственных, деловых и межличностных отношений людей.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стоящее время документ является тем материальным объектом, который несет в себе информацию, обрабатываемую, создаваемую и переносимую в глобальном информационном пространств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данные положения являются доказательством того, что цель исследования достигнута, поставленные задачи решены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697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04560" y="1052280"/>
            <a:ext cx="844380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евнейших времен дошли до нас различные виды документов, с помощью которых мы узнаем историю своей страны, особенности быта и различных отношений, складывающихся в те далекие времена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ем представить себе, какой была бы наша жизнь, если бы когда-то, тысячи лет назад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не изобрели письмо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думали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писывать свои мысли, закреплять в документах все то, что нужно запомнить. Мы жили бы без книг и газет. Весь накопленный людьми опыт передавался из поколения в поколение только устно. Развитие человечества шло бы очень медленно, буквальн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ьи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ом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документ сопровождает человека от рождения до смерти и в нем фиксируются важнейшие события всей его жизни: рождение, окончание школы, получение специального среднего и высшего образования, вступление в брак. Наличие или отсутствие какого-либо документа может изменить всю его жизнь. Однако, одна из интереснейших тем документирования – эволюция документа является недостаточно изученной, так как до настоящего времени не выработано четкого и однозначного определ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а «документ». За длительный исторический период значение понятия «документ» постоянно менялось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является объектом исследования многих научных дисциплин. Отдельные виды документов изучают сфрагистика, бонистика, геральдика, нумизматика, филигранология, эпистология, маргиналистик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98440" y="30240"/>
            <a:ext cx="86994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927000" y="828720"/>
            <a:ext cx="8247240" cy="12380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59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о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 является документ как источник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и и средство социальной коммуникаци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 – историческое развитие письменности и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умент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ходя из цели исследования, были сформулированы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ующие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сти теоретический анализ изобретение письменности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роследить историю появления документов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оказать эволюцию документа в его историческом развитии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ассмотреть сущность документа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редставить современное определение документа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изучить общую классификацию документов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определить роль документа в жизни человека и обществ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95640" cy="306684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5"/>
          <p:cNvSpPr/>
          <p:nvPr/>
        </p:nvSpPr>
        <p:spPr>
          <a:xfrm>
            <a:off x="684360" y="404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68360" y="102600"/>
            <a:ext cx="828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следовательской работы обусловлена необходимостью изучения истории возникновения письменности и появления первого документа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14200" y="7858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решения поставленных в исследовани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 использовался комплекс взаимосвязанных и взаимо-дополняющих методов: изучение и анализ литературы и документов по теме исследования, метод обобщения, библиографический метод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овую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зу исследования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яют законодательно-правовые акты, государственные стандарты, нормативные и методически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бники и учебные пособия следующих авторов: Авдиева В.И., Басакова М.И., Булатовой А.Т., Истрина В.А., Кузнецовой Т.В., Ларина М.В.,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ле П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-108000" y="333000"/>
            <a:ext cx="8966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НОВЕНИЕ ПИСМЕН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ы развития письмен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сть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один из главных признаков появления цивилизации, демонстрирующий общий уровень развития культуры. Письменность может возникнуть лишь в обществе, которое «доросло» до сознания необходимости хранения информации в форме, неподвластной искажениям – в отличие от устной речи. Первые письменные памятники – это надписи владельцев предметов на печатях-пломбах, посвящения богам, финансовые отчёты первых государственных чиновников. Более поздние – летописи и памятные надписи царей и знат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м способом запечатления мысли явилось слово. Слово передавало общее представление человека об окружающем мире. Однако слово, как средство запечатления, имеет существенные недостатки. Являясь средством передачи мысли, оно ограничено расстоянием и кратковременно.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символов прост, но беден. Ему доступны лишь самые простые понятия. Попытки передать мысли посложнее приводят уже к кривотолкам. Поэтому человечество с древнейших времен постоянно ищет более надежный и быстрый способ передачи информации.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стоящему человек научился закреплять информацию с изобретением письменности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прошло длинный путь развития, который охватывает период в несколько тысяч лет. Обычно последовательно устанавливаются четыре типа письма: пиктографическое; идеографическое; слоговое; буквенно-звуковое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еление в известной мере условно, так как ни один из указанных типов не выступает в «чистом» виде. Каждый из них включает в себя элементы другого типа письм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в пиктографии уже содержатся зачатки идеографии, а в идеографическом письме обнаруживаются многочисленные элементы слогового и буквенно-звукового письм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ю очередь, буквенно-звуковое письмо часто совмещает в текстах идеографические знаки - цифры, математические, физические и химические формулы. Но такое деление дает возможность увидеть последовательность основных этапов в истории письма, выявить своеобразие формирования его основных типов и тем самым представить себе общую картину становления и развития начертательного письма.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ктографическое письм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6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ервая ступень - пиктографическое письмо (картинно-синтетическое, 8-6 тыс. лет до н.э.) . Это древнейший, самый первоначальный тип письма (от лат. </a:t>
            </a:r>
            <a:r>
              <a:rPr b="0" lang="en-US" sz="26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pictus</a:t>
            </a:r>
            <a:r>
              <a:rPr b="0" lang="ru-RU" sz="26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«картинный, нарисованный» и греч. </a:t>
            </a:r>
            <a:r>
              <a:rPr b="0" lang="en-US" sz="26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grapho</a:t>
            </a:r>
            <a:r>
              <a:rPr b="0" lang="ru-RU" sz="26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«пишу»). Основными средствами этого письма были более или менее сложные рисунки сюжетного, повествовательного характера или же серии рисунков. Оно представляет собой преднамеренное изображение на камне, дереве, глине предметов, действий, событий и с целью общения. Пиктографическое письмо (письмо в картинках) передает целые сообщения, графически не расчлененные на отдельные слова. </a:t>
            </a:r>
            <a:r>
              <a:rPr b="1" i="1" lang="ru-RU" sz="26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171360" y="396720"/>
            <a:ext cx="8697960" cy="1084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http://dok.opredelim.com/pars_docs/refs/10/9295/img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24000" y="232920"/>
            <a:ext cx="8665920" cy="63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  <a:ea typeface="Calibri"/>
              </a:rPr>
              <a:t>Пиктографическое письмо выполняло самые разнообразные функ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  <a:ea typeface="Calibri"/>
              </a:rPr>
              <a:t>Известны следующие разновидности пиктограм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азличные записи условий обмена предметов охоты, рыбной ловл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ообщения о боевых походах, стычках, охот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азные письма, в том числе и любовны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леменные летописи-хроник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надгробные мемориальные надпис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записи магических и заклинательных формул, легенд, обычаев, заповед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ктографическое письмо не требовало обучения и было доступно для всех. Языком рисунков пользовались многие народы нашей страны, не имевшие письменности, вплоть до нача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ек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ктографическое письмо в настоящее время применяется в изображении товаров на вывесках магазинов, условных знаках на погонах, герба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7:06:22Z</dcterms:created>
  <dc:creator>Шибеко</dc:creator>
  <dc:description/>
  <dc:language>en-US</dc:language>
  <cp:lastModifiedBy>user</cp:lastModifiedBy>
  <dcterms:modified xsi:type="dcterms:W3CDTF">2015-02-06T04:48:42Z</dcterms:modified>
  <cp:revision>42</cp:revision>
  <dc:subject/>
  <dc:title>Нормативно-методическая база делопроизводства.</dc:title>
</cp:coreProperties>
</file>