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7E5A-E25F-409C-9920-8C7F47B09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3E18-F3BD-43D5-AB96-A8C9122CC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CF04-5ADA-46DC-91DA-096B09773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82C7-6E8B-408B-B273-D334A9DCB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74AE-2F94-41AF-A19A-3BEA8CF7B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62C-4D85-4EA3-BAC3-5EBEA2A5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7EF-5FD0-41FF-8331-DB61E30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D3F-7074-4B33-8876-5DBD9FF2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9DA-7B40-40BC-A877-214CFA47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434-AC77-4F94-AFF3-32A74B3D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B08-2D6A-4EE4-A516-B5A0817B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A63-5E36-4A03-8688-690DD00B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467-6E09-4A67-8B82-BAA72297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09A-B87B-4A0E-B85A-C1936B23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4F9-095F-4FB4-810A-88DAACA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4AB-9438-48C5-A7C3-DD31E854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F46-84D8-4B34-8EFD-19C7B08C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7CA0-31DA-4FB8-8D3E-5E3755255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99ff"/>
          </a:soli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УРОК   МАТЕМА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Пользователь\Рабочий стол\image_b.php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724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7"/>
          <p:cNvSpPr/>
          <p:nvPr/>
        </p:nvSpPr>
        <p:spPr>
          <a:xfrm>
            <a:off x="0" y="5786280"/>
            <a:ext cx="9144000" cy="1071720"/>
          </a:xfrm>
          <a:prstGeom prst="rect">
            <a:avLst/>
          </a:prstGeom>
          <a:solidFill>
            <a:srgbClr val="ff99ff"/>
          </a:soli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f0"/>
                </a:solidFill>
                <a:latin typeface="Calibri"/>
              </a:rPr>
              <a:t>1 класс, МОУ СОШ №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селите дом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2195640" y="2492280"/>
            <a:ext cx="2016000" cy="3024360"/>
          </a:xfrm>
          <a:prstGeom prst="rect">
            <a:avLst/>
          </a:prstGeom>
          <a:solidFill>
            <a:srgbClr val="99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6"/>
          <p:cNvSpPr/>
          <p:nvPr/>
        </p:nvSpPr>
        <p:spPr>
          <a:xfrm>
            <a:off x="4788000" y="4221000"/>
            <a:ext cx="64764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17"/>
          <p:cNvSpPr/>
          <p:nvPr/>
        </p:nvSpPr>
        <p:spPr>
          <a:xfrm>
            <a:off x="1692360" y="1197000"/>
            <a:ext cx="2950920" cy="1295280"/>
          </a:xfrm>
          <a:prstGeom prst="triangle">
            <a:avLst>
              <a:gd name="adj" fmla="val 50000"/>
            </a:avLst>
          </a:prstGeom>
          <a:solidFill>
            <a:srgbClr val="ec06d1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Calibri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8"/>
          <p:cNvSpPr/>
          <p:nvPr/>
        </p:nvSpPr>
        <p:spPr>
          <a:xfrm>
            <a:off x="4643280" y="3645000"/>
            <a:ext cx="1657440" cy="177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9"/>
          <p:cNvSpPr/>
          <p:nvPr/>
        </p:nvSpPr>
        <p:spPr>
          <a:xfrm>
            <a:off x="4716360" y="4724280"/>
            <a:ext cx="64764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0"/>
          <p:cNvSpPr/>
          <p:nvPr/>
        </p:nvSpPr>
        <p:spPr>
          <a:xfrm>
            <a:off x="4716360" y="3789360"/>
            <a:ext cx="64764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1"/>
          <p:cNvSpPr/>
          <p:nvPr/>
        </p:nvSpPr>
        <p:spPr>
          <a:xfrm>
            <a:off x="5508720" y="4724280"/>
            <a:ext cx="64764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2"/>
          <p:cNvSpPr/>
          <p:nvPr/>
        </p:nvSpPr>
        <p:spPr>
          <a:xfrm>
            <a:off x="5508720" y="3789360"/>
            <a:ext cx="64764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Равнобедренный треугольник 23"/>
          <p:cNvSpPr/>
          <p:nvPr/>
        </p:nvSpPr>
        <p:spPr>
          <a:xfrm>
            <a:off x="4500720" y="2492280"/>
            <a:ext cx="1942920" cy="1130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Calibri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6732720" y="2349360"/>
            <a:ext cx="2016000" cy="3024360"/>
          </a:xfrm>
          <a:prstGeom prst="rect">
            <a:avLst/>
          </a:prstGeom>
          <a:solidFill>
            <a:srgbClr val="99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Равнобедренный треугольник 25"/>
          <p:cNvSpPr/>
          <p:nvPr/>
        </p:nvSpPr>
        <p:spPr>
          <a:xfrm>
            <a:off x="6264360" y="1052640"/>
            <a:ext cx="2879640" cy="127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1"/>
          <p:cNvSpPr/>
          <p:nvPr/>
        </p:nvSpPr>
        <p:spPr>
          <a:xfrm>
            <a:off x="6948360" y="2637000"/>
            <a:ext cx="64800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2"/>
          <p:cNvSpPr/>
          <p:nvPr/>
        </p:nvSpPr>
        <p:spPr>
          <a:xfrm>
            <a:off x="7956720" y="3573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3"/>
          <p:cNvSpPr/>
          <p:nvPr/>
        </p:nvSpPr>
        <p:spPr>
          <a:xfrm>
            <a:off x="7956720" y="263700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4"/>
          <p:cNvSpPr/>
          <p:nvPr/>
        </p:nvSpPr>
        <p:spPr>
          <a:xfrm>
            <a:off x="6948360" y="3573360"/>
            <a:ext cx="648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5"/>
          <p:cNvSpPr/>
          <p:nvPr/>
        </p:nvSpPr>
        <p:spPr>
          <a:xfrm>
            <a:off x="7020000" y="4581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6"/>
          <p:cNvSpPr/>
          <p:nvPr/>
        </p:nvSpPr>
        <p:spPr>
          <a:xfrm>
            <a:off x="7956720" y="4581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7"/>
          <p:cNvSpPr/>
          <p:nvPr/>
        </p:nvSpPr>
        <p:spPr>
          <a:xfrm>
            <a:off x="3419640" y="4581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8"/>
          <p:cNvSpPr/>
          <p:nvPr/>
        </p:nvSpPr>
        <p:spPr>
          <a:xfrm>
            <a:off x="2411280" y="4581360"/>
            <a:ext cx="648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9"/>
          <p:cNvSpPr/>
          <p:nvPr/>
        </p:nvSpPr>
        <p:spPr>
          <a:xfrm>
            <a:off x="3348000" y="350028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0"/>
          <p:cNvSpPr/>
          <p:nvPr/>
        </p:nvSpPr>
        <p:spPr>
          <a:xfrm>
            <a:off x="2340000" y="350028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4"/>
          <p:cNvSpPr/>
          <p:nvPr/>
        </p:nvSpPr>
        <p:spPr>
          <a:xfrm>
            <a:off x="2340000" y="263700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5"/>
          <p:cNvSpPr/>
          <p:nvPr/>
        </p:nvSpPr>
        <p:spPr>
          <a:xfrm>
            <a:off x="3348000" y="2637000"/>
            <a:ext cx="6476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6" descr="нюша"/>
          <p:cNvPicPr/>
          <p:nvPr/>
        </p:nvPicPr>
        <p:blipFill>
          <a:blip r:embed="rId1"/>
          <a:stretch/>
        </p:blipFill>
        <p:spPr>
          <a:xfrm>
            <a:off x="0" y="2895480"/>
            <a:ext cx="2195640" cy="335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9 0.011 0.08659 0.028 0.11323 C 0.028 0.11456 0.055 0.15053 0.055 0.1492 C 0.07 0.16918 0.079 0.19715 0.079 0.22646 C 0.079 0.28507 0.044 0.33169 0 0.33302 C -0.044 0.33169 -0.079 0.28507 -0.079 0.22646 C -0.079 0.19715 -0.07 0.16918 -0.055 0.1492 C -0.055 0.15053 -0.028 0.11456 -0.028 0.11323 C -0.011 0.08659 -0.001 0.04529 0 0 Z">
                                      <p:cBhvr>
                                        <p:cTn id="5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нюш"/>
          <p:cNvPicPr/>
          <p:nvPr/>
        </p:nvPicPr>
        <p:blipFill>
          <a:blip r:embed="rId1"/>
          <a:stretch/>
        </p:blipFill>
        <p:spPr>
          <a:xfrm>
            <a:off x="3505320" y="22860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 0.125 0.16651 C 0.125 0.25843 0.069 0.33302 0 0.33302 C -0.069 0.33302 -0.125 0.25843 -0.125 0.16651 C -0.125 0.0746 -0.069 0 0 0 Z">
                                      <p:cBhvr>
                                        <p:cTn id="6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Рис"/>
          <p:cNvPicPr/>
          <p:nvPr/>
        </p:nvPicPr>
        <p:blipFill>
          <a:blip r:embed="rId1"/>
          <a:stretch/>
        </p:blipFill>
        <p:spPr>
          <a:xfrm>
            <a:off x="914400" y="1295280"/>
            <a:ext cx="5253120" cy="5562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1 0.007 -0.04929 0.015 -0.04929 C 0.024 -0.04929 0.027 -0.02531 0.03 0 C 0.034 0.02797 0.037 0.05595 0.047 0.05595 C 0.056 0.05595 0.059 0.02797 0.063 0 C 0.065 -0.02531 0.069 -0.04929 0.078 -0.04929 C 0.086 -0.04929 0.09 -0.02531 0.093 0 C 0.096 0.02797 0.1 0.05595 0.109 0.05595 C 0.118 0.05595 0.125 0 0.125 0 C 0.128 -0.02531 0.131 -0.04929 0.14 -0.04929 C 0.149 -0.04929 0.152 -0.02531 0.155 0 C 0.159 0.02797 0.162 0.05595 0.172 0.05595 C 0.181 0.05595 0.184 0.02797 0.187 0 C 0.191 -0.02531 0.194 -0.04929 0.203 -0.04929 C 0.211 -0.04929 0.215 -0.02531 0.218 0 C 0.221 0.02797 0.225 0.05595 0.234 0.05595 C 0.243 0.05595 0.246 0.02797 0.25 0 E">
                                      <p:cBhvr>
                                        <p:cTn id="7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к1"/>
          <p:cNvPicPr/>
          <p:nvPr/>
        </p:nvPicPr>
        <p:blipFill>
          <a:blip r:embed="rId1"/>
          <a:stretch/>
        </p:blipFill>
        <p:spPr>
          <a:xfrm>
            <a:off x="1752480" y="1219320"/>
            <a:ext cx="4891320" cy="5333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1"/>
          <p:cNvSpPr/>
          <p:nvPr/>
        </p:nvSpPr>
        <p:spPr>
          <a:xfrm>
            <a:off x="1143000" y="3505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cument"/>
          <p:cNvSpPr/>
          <p:nvPr/>
        </p:nvSpPr>
        <p:spPr>
          <a:xfrm>
            <a:off x="228600" y="152280"/>
            <a:ext cx="1905120" cy="304812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по учебн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ца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6858000" y="3733920"/>
            <a:ext cx="1981080" cy="28954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-те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9 C 0.034 -0.15719 0.061 -0.18516 0.1 -0.18516 C 0.12 -0.18516 0.138 -0.17451 0.152 -0.15719 C 0.162 -0.1452 0.174 -0.13854 0.187 -0.13854 C 0.212 -0.13854 0.233 -0.16252 0.241 -0.19715 L 0.25 -0.23845 L 0.232 -0.15053 C 0.215 -0.08126 0.188 -0.05328 0.15 -0.05328 C 0.13 -0.05328 0.111 -0.06394 0.096 -0.08259 C 0.087 -0.09325 0.075 -0.09991 0.063 -0.09991 C 0.038 -0.09991 0.017 -0.07593 0.009 -0.0413 L 0 0 Z">
                                      <p:cBhvr>
                                        <p:cTn id="7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копат"/>
          <p:cNvPicPr/>
          <p:nvPr/>
        </p:nvPicPr>
        <p:blipFill>
          <a:blip r:embed="rId1"/>
          <a:stretch/>
        </p:blipFill>
        <p:spPr>
          <a:xfrm>
            <a:off x="1066680" y="1676520"/>
            <a:ext cx="4800600" cy="457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706 0.007 0.16918 0.025 0.16784 C 0.051 0.16784 0.053 -0.16252 0.084 -0.16385 C 0.112 -0.16385 0.097 0.12522 0.124 0.12389 C 0.152 0.12389 0.137 -0.08525 0.167 -0.08525 C 0.194 -0.08525 0.179 0.05595 0.203 0.05595 C 0.226 0.05595 0.214 -0.05195 0.235 -0.05195 C 0.247 -0.05195 0.248 -0.02265 0.249 0 E">
                                      <p:cBhvr>
                                        <p:cTn id="8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л"/>
          <p:cNvPicPr/>
          <p:nvPr/>
        </p:nvPicPr>
        <p:blipFill>
          <a:blip r:embed="rId1"/>
          <a:stretch/>
        </p:blipFill>
        <p:spPr>
          <a:xfrm>
            <a:off x="0" y="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09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утались числ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3124080" y="44197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8381880" y="3886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8305920" y="16002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12"/>
          <p:cNvSpPr txBox="1"/>
          <p:nvPr/>
        </p:nvSpPr>
        <p:spPr>
          <a:xfrm>
            <a:off x="4724280" y="5105520"/>
            <a:ext cx="281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6324480" y="403848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4"/>
          <p:cNvSpPr txBox="1"/>
          <p:nvPr/>
        </p:nvSpPr>
        <p:spPr>
          <a:xfrm>
            <a:off x="4114800" y="19810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5410080" y="335268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16"/>
          <p:cNvSpPr txBox="1"/>
          <p:nvPr/>
        </p:nvSpPr>
        <p:spPr>
          <a:xfrm>
            <a:off x="7772400" y="56386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6400800" y="2133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18"/>
          <p:cNvSpPr txBox="1"/>
          <p:nvPr/>
        </p:nvSpPr>
        <p:spPr>
          <a:xfrm>
            <a:off x="1600200" y="541008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0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7 C 0.08 0.07327 0.088 0.07726 0.098 0.07726 C 0.112 0.07726 0.124 0.0666 0.125 0.05062 C 0.124 0.0373 0.112 0.02531 0.098 0.02531 C 0.088 0.02531 0.08 0.03064 0.075 0.0373 L 0.052 0.0746 C 0.042 0.09058 0.023 0.10124 0 0.10257 C -0.023 0.10124 -0.042 0.09058 -0.052 0.0746 L -0.075 0.0373 C -0.08 0.03064 -0.088 0.02531 -0.098 0.02531 C -0.112 0.02531 -0.124 0.0373 -0.125 0.05062 C -0.124 0.0666 -0.112 0.07726 -0.098 0.07726 C -0.088 0.07726 -0.08 0.07327 -0.075 0.06527 L -0.052 0.02797 C -0.042 0.01199 -0.023 0.00133 0 0 Z">
                                      <p:cBhvr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крош2"/>
          <p:cNvPicPr/>
          <p:nvPr/>
        </p:nvPicPr>
        <p:blipFill>
          <a:blip r:embed="rId1"/>
          <a:stretch/>
        </p:blipFill>
        <p:spPr>
          <a:xfrm>
            <a:off x="457200" y="304920"/>
            <a:ext cx="4600440" cy="58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8320" y="304920"/>
            <a:ext cx="4495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иши красиво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!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66ff66"/>
                </a:solidFill>
                <a:latin typeface="Arial"/>
              </a:rPr>
              <a:t>7 3 6   7 3 6 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7 0.037 0.06527 0.055 0.07859 C 0.082 0.09991 0.108 0.1079 0.113 0.09724 C 0.117 0.08659 0.099 0.05994 0.072 0.03863 C 0.054 0.02531 0.021 0.01599 -0.008 0.01465 C -0.036 0.01599 -0.07 0.02531 -0.088 0.03863 C -0.115 0.05994 -0.133 0.08659 -0.128 0.09724 C -0.123 0.1079 -0.097 0.09991 -0.071 0.07859 C -0.053 0.06527 -0.03 0.03197 -0.016 0 C -0.001 -0.0333 0.009 -0.07726 0.009 -0.10524 C 0.009 -0.14786 0.002 -0.18117 -0.008 -0.18117 C -0.017 -0.18117 -0.025 -0.14786 -0.025 -0.10524 C -0.025 -0.07726 -0.014 -0.0333 0 0 Z">
                                      <p:cBhvr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Рис"/>
          <p:cNvPicPr/>
          <p:nvPr/>
        </p:nvPicPr>
        <p:blipFill>
          <a:blip r:embed="rId1"/>
          <a:stretch/>
        </p:blipFill>
        <p:spPr>
          <a:xfrm>
            <a:off x="762120" y="1295280"/>
            <a:ext cx="525276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1 0.007 -0.04929 0.015 -0.04929 C 0.024 -0.04929 0.027 -0.02531 0.03 0 C 0.034 0.02797 0.037 0.05595 0.047 0.05595 C 0.056 0.05595 0.059 0.02797 0.063 0 C 0.065 -0.02531 0.069 -0.04929 0.078 -0.04929 C 0.086 -0.04929 0.09 -0.02531 0.093 0 C 0.096 0.02797 0.1 0.05595 0.109 0.05595 C 0.118 0.05595 0.125 0 0.125 0 C 0.128 -0.02531 0.131 -0.04929 0.14 -0.04929 C 0.149 -0.04929 0.152 -0.02531 0.155 0 C 0.159 0.02797 0.162 0.05595 0.172 0.05595 C 0.181 0.05595 0.184 0.02797 0.187 0 C 0.191 -0.02531 0.194 -0.04929 0.203 -0.04929 C 0.211 -0.04929 0.215 -0.02531 0.218 0 C 0.221 0.02797 0.225 0.05595 0.234 0.05595 C 0.243 0.05595 0.246 0.02797 0.25 0 E">
                                      <p:cBhvr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ка морковку в корзине не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покупкой довольна бы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еще 6 морковку куп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их буд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можешь сло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2133720" y="38088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и  в  стих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638680" y="1676520"/>
            <a:ext cx="3297240" cy="403848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3581280" y="5562720"/>
            <a:ext cx="2895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 + 6 = 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715000" y="4648320"/>
            <a:ext cx="38088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324480" y="3276720"/>
            <a:ext cx="38124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324480" y="1981080"/>
            <a:ext cx="685800" cy="38124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8610480" y="4419720"/>
            <a:ext cx="3812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8763120" y="3429000"/>
            <a:ext cx="22860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8001000" y="1600200"/>
            <a:ext cx="5335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6553080" y="3200400"/>
            <a:ext cx="5335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7772400" y="3352680"/>
            <a:ext cx="533520" cy="38124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3019680" cy="2543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жик по лесу шёл, на обед грибы нашё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ь – под берёз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– у о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их буд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летёной кор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2209680" y="38088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и  в  стих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82" name="Picture 5" descr="ёж"/>
          <p:cNvPicPr/>
          <p:nvPr/>
        </p:nvPicPr>
        <p:blipFill>
          <a:blip r:embed="rId2">
            <a:lum contrast="12000"/>
          </a:blip>
          <a:srcRect l="15331" t="0" r="12673" b="0"/>
          <a:stretch/>
        </p:blipFill>
        <p:spPr>
          <a:xfrm>
            <a:off x="6781680" y="1600200"/>
            <a:ext cx="253548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609480" y="518148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5 + 3 =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мяча у А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мяча у В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мяча да два мяч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раз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133720" y="38088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и  в  стих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381040" cy="230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2381040" cy="230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4191120" y="2971800"/>
            <a:ext cx="2509560" cy="250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509920" cy="2509560"/>
          </a:xfrm>
          <a:prstGeom prst="rect">
            <a:avLst/>
          </a:prstGeom>
          <a:ln w="0">
            <a:noFill/>
          </a:ln>
        </p:spPr>
      </p:pic>
      <p:sp>
        <p:nvSpPr>
          <p:cNvPr id="90" name="WordArt 8"/>
          <p:cNvSpPr txBox="1"/>
          <p:nvPr/>
        </p:nvSpPr>
        <p:spPr>
          <a:xfrm>
            <a:off x="1447920" y="5410080"/>
            <a:ext cx="3581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 + 2 =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71840" y="5866920"/>
            <a:ext cx="2971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2 + 3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мышки проникли в кварти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ли попробовать сы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т следом явились подруж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сереньких мышки-но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 спал в это время на крыш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 этот не ведая п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, ну, сосчитай, сколько мыш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ъели оставленный сы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2286000" y="228600"/>
            <a:ext cx="4800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дачи  в  стих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477120" y="1523880"/>
            <a:ext cx="224784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6324480" y="2590920"/>
            <a:ext cx="2248200" cy="1874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304920" y="5110200"/>
            <a:ext cx="209556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2286000" y="5110200"/>
            <a:ext cx="2095560" cy="174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5"/>
          <a:stretch/>
        </p:blipFill>
        <p:spPr>
          <a:xfrm>
            <a:off x="4114800" y="4983120"/>
            <a:ext cx="2247840" cy="18748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5943600" y="56386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Рис"/>
          <p:cNvPicPr/>
          <p:nvPr/>
        </p:nvPicPr>
        <p:blipFill>
          <a:blip r:embed="rId1"/>
          <a:stretch/>
        </p:blipFill>
        <p:spPr>
          <a:xfrm>
            <a:off x="990720" y="1295280"/>
            <a:ext cx="5252760" cy="556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1 0.007 -0.04929 0.015 -0.04929 C 0.024 -0.04929 0.027 -0.02531 0.03 0 C 0.034 0.02797 0.037 0.05595 0.047 0.05595 C 0.056 0.05595 0.059 0.02797 0.063 0 C 0.065 -0.02531 0.069 -0.04929 0.078 -0.04929 C 0.086 -0.04929 0.09 -0.02531 0.093 0 C 0.096 0.02797 0.1 0.05595 0.109 0.05595 C 0.118 0.05595 0.125 0 0.125 0 C 0.128 -0.02531 0.131 -0.04929 0.14 -0.04929 C 0.149 -0.04929 0.152 -0.02531 0.155 0 C 0.159 0.02797 0.162 0.05595 0.172 0.05595 C 0.181 0.05595 0.184 0.02797 0.187 0 C 0.191 -0.02531 0.194 -0.04929 0.203 -0.04929 C 0.211 -0.04929 0.215 -0.02531 0.218 0 C 0.221 0.02797 0.225 0.05595 0.234 0.05595 C 0.243 0.05595 0.246 0.02797 0.25 0 E">
                                      <p:cBhvr>
                                        <p:cTn id="5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3:43:43Z</dcterms:created>
  <dc:creator>user</dc:creator>
  <dc:description/>
  <dc:language>en-US</dc:language>
  <cp:lastModifiedBy>HP</cp:lastModifiedBy>
  <dcterms:modified xsi:type="dcterms:W3CDTF">2015-02-28T11:07:01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