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21.gif" ContentType="image/gif"/>
  <Override PartName="/ppt/media/image19.jpeg" ContentType="image/jpeg"/>
  <Override PartName="/ppt/media/image1.jpeg" ContentType="image/jpeg"/>
  <Override PartName="/ppt/media/image16.jpeg" ContentType="image/jpeg"/>
  <Override PartName="/ppt/media/image15.png" ContentType="image/png"/>
  <Override PartName="/ppt/media/image6.gif" ContentType="image/gif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jpeg" ContentType="image/jpeg"/>
  <Override PartName="/ppt/media/image20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6DCE-F5BB-47BA-A0BA-8AD880BBAB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536F-BB13-4157-A34E-1A92D54FEB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1A05-F70E-42CD-AE59-12845ACF09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5B9-91F0-498D-9C49-F4F58627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49B-F8C7-4DF0-B8BD-2B79F296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689-149B-4E8A-9358-9C060D7F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3C9-8AAE-490D-AD3E-A93BE071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EA17-8EDA-4730-921C-1BF020D5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91C3-5589-4187-8B07-CE7C5AAB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8BC2-316F-4454-8D1D-DFB289B5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1620-9C76-428D-83B3-AE7ECB6E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6944-5CB2-4B67-86D2-B9EFD3C6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AEA1-7AC6-453F-8E47-DF9F391C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1F2E-3D06-475A-BB29-4B02E72A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11E-B5A4-4F10-BA01-092229E6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10EB-D7A8-4DD2-AA66-4CF275B4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0846-8A15-49AA-8A63-12DD3EC7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893D-48AE-4259-B47F-D438B843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EEA7-C4EE-404D-BB85-D607A577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84A6-8C18-4923-8C9A-C2AD43A2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7F7-90C4-4595-8330-AE19F68E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044-1B0D-4FCE-92C6-B7EAA3AE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68C-7C03-48E4-B9C2-59818429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EC0-BBC9-4317-B3E0-242BEFF8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8771-5C19-4048-BB3E-7097EA66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26E-020B-4FA1-B119-448F5508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668-CC5F-4698-9511-6C0E2770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C657-1FF0-48B2-B0CD-4FE1D1232DE7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4B1D-CCF9-46EF-BE70-D1E3A7910AE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59E3-AB33-4D30-8E92-E4F78417B668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Не губите первоцветы, весны первые примет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B0F5-B325-4CBE-834A-5552BEB2363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sportal.ru/detskiy-sad/raznoe/2014/06/22/pervotsvety" TargetMode="External"/><Relationship Id="rId2" Type="http://schemas.openxmlformats.org/officeDocument/2006/relationships/hyperlink" Target="http://www.maam.ru/detskijsad/predlagayu-vashemu-vnimaniyu-prezentaciyu-proekta-pro-pervocvety.html" TargetMode="External"/><Relationship Id="rId3" Type="http://schemas.openxmlformats.org/officeDocument/2006/relationships/hyperlink" Target="http://www.2do2go.ru/msk/city/v-fokuse/270/vesennie-cvety-kupit-v-moskve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8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ологический проект «Первоцветы»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196640"/>
            <a:ext cx="456552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я Государственного бюджетного общеобразовательного учреждения города Москв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"Школа № 2101 "Филёвский образовательный центр"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разделение № 12 Детский сад № 2061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дрой Лоры Хусанбаевны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сква, 2015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4" name="Picture 5" descr="C:\Users\1\Pictures\Рисунок1.jpg"/>
          <p:cNvPicPr/>
          <p:nvPr/>
        </p:nvPicPr>
        <p:blipFill>
          <a:blip r:embed="rId1"/>
          <a:stretch/>
        </p:blipFill>
        <p:spPr>
          <a:xfrm>
            <a:off x="5148360" y="2492280"/>
            <a:ext cx="3800520" cy="2849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1179360" cy="119700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3"/>
          <p:cNvSpPr/>
          <p:nvPr/>
        </p:nvSpPr>
        <p:spPr>
          <a:xfrm>
            <a:off x="250920" y="6356520"/>
            <a:ext cx="869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губите первоцветы, весны первые приметы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33[1]"/>
          <p:cNvPicPr/>
          <p:nvPr/>
        </p:nvPicPr>
        <p:blipFill>
          <a:blip r:embed="rId3"/>
          <a:stretch/>
        </p:blipFill>
        <p:spPr>
          <a:xfrm>
            <a:off x="7956720" y="2938320"/>
            <a:ext cx="798480" cy="569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16490958-web"/>
          <p:cNvPicPr/>
          <p:nvPr/>
        </p:nvPicPr>
        <p:blipFill>
          <a:blip r:embed="rId4"/>
          <a:stretch/>
        </p:blipFill>
        <p:spPr>
          <a:xfrm>
            <a:off x="7048440" y="4599000"/>
            <a:ext cx="774720" cy="743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11200717201814"/>
          <p:cNvPicPr/>
          <p:nvPr/>
        </p:nvPicPr>
        <p:blipFill>
          <a:blip r:embed="rId5"/>
          <a:stretch/>
        </p:blipFill>
        <p:spPr>
          <a:xfrm>
            <a:off x="8354880" y="4522680"/>
            <a:ext cx="594000" cy="80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DSCF1108"/>
          <p:cNvPicPr/>
          <p:nvPr/>
        </p:nvPicPr>
        <p:blipFill>
          <a:blip r:embed="rId6"/>
          <a:stretch/>
        </p:blipFill>
        <p:spPr>
          <a:xfrm>
            <a:off x="5148360" y="4727520"/>
            <a:ext cx="776160" cy="582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1"/>
          <p:cNvSpPr/>
          <p:nvPr/>
        </p:nvSpPr>
        <p:spPr>
          <a:xfrm>
            <a:off x="250920" y="6356520"/>
            <a:ext cx="86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губите первоцветы, весны первые приметы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826920" y="1052640"/>
            <a:ext cx="763272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сурсы которые были использова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http://nsportal.ru/detskiy-sad/raznoe/2014/06/22/pervotsv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2"/>
              </a:rPr>
              <a:t>http://www.maam.ru/detskijsad/predlagayu-vashemu-vnimaniyu-prezentaciyu-proekta-pro-pervocvety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3"/>
              </a:rPr>
              <a:t>http://www.2do2go.ru/msk/city/v-fokuse/270/vesennie-cvety-kupit-v-mosk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2"/>
          <p:cNvSpPr/>
          <p:nvPr/>
        </p:nvSpPr>
        <p:spPr>
          <a:xfrm>
            <a:off x="250920" y="115920"/>
            <a:ext cx="87138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ологический проект «Первоцветы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ктуальность: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 в  недостаточной степени имеют представления о первоцветах, почему их так называют, о том, где и как они растут. Не всегда точно и полно могут объяснить значение знакомых слов, подобрать к существительным прилагательные и глаголы. Рассказы детей недостаточно полны. В ходе проекта решается задача повышения речевой активности детей, совершенствование связной речи, развитие слова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представление о ранних цветах – первоцве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getImage?photoId=494371795498&amp;photoType=0"/>
          <p:cNvPicPr/>
          <p:nvPr/>
        </p:nvPicPr>
        <p:blipFill>
          <a:blip r:embed="rId1"/>
          <a:stretch/>
        </p:blipFill>
        <p:spPr>
          <a:xfrm>
            <a:off x="352440" y="3284640"/>
            <a:ext cx="4103640" cy="286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User\Desktop\ПОДСНЕЖНИКИ ИЗ ТАЛДЫКОРГАНА.jpg"/>
          <p:cNvPicPr/>
          <p:nvPr/>
        </p:nvPicPr>
        <p:blipFill>
          <a:blip r:embed="rId2"/>
          <a:stretch/>
        </p:blipFill>
        <p:spPr>
          <a:xfrm>
            <a:off x="4608360" y="3303720"/>
            <a:ext cx="4203720" cy="2842920"/>
          </a:xfrm>
          <a:prstGeom prst="rect">
            <a:avLst/>
          </a:prstGeom>
          <a:ln w="0">
            <a:noFill/>
          </a:ln>
        </p:spPr>
      </p:pic>
      <p:sp>
        <p:nvSpPr>
          <p:cNvPr id="114" name="Нижний колонтитул 1"/>
          <p:cNvSpPr/>
          <p:nvPr/>
        </p:nvSpPr>
        <p:spPr>
          <a:xfrm>
            <a:off x="352440" y="6356520"/>
            <a:ext cx="845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губите первоцветы, весны первые приметы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Объект 1"/>
          <p:cNvGraphicFramePr/>
          <p:nvPr/>
        </p:nvGraphicFramePr>
        <p:xfrm>
          <a:off x="2484360" y="2565360"/>
          <a:ext cx="1079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565360"/>
                    <a:ext cx="1079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Box 1"/>
          <p:cNvSpPr/>
          <p:nvPr/>
        </p:nvSpPr>
        <p:spPr>
          <a:xfrm>
            <a:off x="468360" y="981000"/>
            <a:ext cx="8136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закрепить представление о весне и её приме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изучить экологическое состояние природы Филевского парка, виды первоцветов, растущих на этой терр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закрепить и систематизировать знания детей о ранних цве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сформировать у детей представление о необходимости бережного и созидательного отношения к природе через различные виды деятельност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·Развитие познавательных способностей детей в процессе совместной исследователь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·ценностно-ориентированну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·творческую (художественно-эстетическую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·коммуникатив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Формировать опыт экологически грамотного поведения детей в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Развивать эмоционально-эстетическое отношение к окружающему ми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Закреплять умение использовать модели для составления рассказов о первоцветах Филевского пар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активизировать совместную деятельность родителей и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butterfly008"/>
          <p:cNvPicPr/>
          <p:nvPr/>
        </p:nvPicPr>
        <p:blipFill>
          <a:blip r:embed="rId3"/>
          <a:stretch/>
        </p:blipFill>
        <p:spPr>
          <a:xfrm>
            <a:off x="7667640" y="69228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3"/>
          <p:cNvSpPr/>
          <p:nvPr/>
        </p:nvSpPr>
        <p:spPr>
          <a:xfrm>
            <a:off x="449280" y="6284880"/>
            <a:ext cx="8450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губите первоцветы, весны первые приметы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395280" y="981000"/>
            <a:ext cx="84978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проекта: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, педагоги,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и реализации проекта: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2 по 31 марта 2015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ы реализаци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·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ая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·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скур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·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ктическая деятельность в прир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·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оохранные а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·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дение экологических виктор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·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уск экологических листо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овместной деятельности широко используется: блиц-опрос, проблемные ситуации, практическая работа, поисковая деятельность, игровые приё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оненты экологического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·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ологические знания и ум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·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ологическое мыш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·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ностные ориен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·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ологически оправданное по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ouquet13"/>
          <p:cNvPicPr/>
          <p:nvPr/>
        </p:nvPicPr>
        <p:blipFill>
          <a:blip r:embed="rId1"/>
          <a:stretch/>
        </p:blipFill>
        <p:spPr>
          <a:xfrm>
            <a:off x="6300720" y="2133720"/>
            <a:ext cx="2232000" cy="196344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2"/>
          <p:cNvSpPr/>
          <p:nvPr/>
        </p:nvSpPr>
        <p:spPr>
          <a:xfrm>
            <a:off x="324000" y="6356520"/>
            <a:ext cx="84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губите первоцветы, весны первые приметы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395280" y="981000"/>
            <a:ext cx="84978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полагаемы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воение детьми необходимых знаний по теме: « Первоцвет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устойчивого интереса к природе через экологические игры, создание альбома «Первоцветы», составление брошю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огащение словаря детей. Создав сборник экологических сказок, театрализованных постановок. «Двенадцать месяце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предметно-развиваю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·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пы реализации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этап. Подготовительны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ение знаний детей о первоцветах и роли по охране окружающ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 этап. Основ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butterfly013"/>
          <p:cNvPicPr/>
          <p:nvPr/>
        </p:nvPicPr>
        <p:blipFill>
          <a:blip r:embed="rId1"/>
          <a:stretch/>
        </p:blipFill>
        <p:spPr>
          <a:xfrm>
            <a:off x="7807320" y="692280"/>
            <a:ext cx="108576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3"/>
          <p:cNvSpPr/>
          <p:nvPr/>
        </p:nvSpPr>
        <p:spPr>
          <a:xfrm>
            <a:off x="250920" y="6356520"/>
            <a:ext cx="86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губите первоцветы, весны первые приметы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6490958-web"/>
          <p:cNvPicPr/>
          <p:nvPr/>
        </p:nvPicPr>
        <p:blipFill>
          <a:blip r:embed="rId2"/>
          <a:stretch/>
        </p:blipFill>
        <p:spPr>
          <a:xfrm>
            <a:off x="4668840" y="5013360"/>
            <a:ext cx="1341360" cy="128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11200717201814"/>
          <p:cNvPicPr/>
          <p:nvPr/>
        </p:nvPicPr>
        <p:blipFill>
          <a:blip r:embed="rId3"/>
          <a:stretch/>
        </p:blipFill>
        <p:spPr>
          <a:xfrm>
            <a:off x="6562800" y="2797200"/>
            <a:ext cx="1062000" cy="144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DSCF1108"/>
          <p:cNvPicPr/>
          <p:nvPr/>
        </p:nvPicPr>
        <p:blipFill>
          <a:blip r:embed="rId4"/>
          <a:stretch/>
        </p:blipFill>
        <p:spPr>
          <a:xfrm>
            <a:off x="7956720" y="4888080"/>
            <a:ext cx="1058760" cy="1412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395280" y="9810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11280" y="115920"/>
          <a:ext cx="8208720" cy="6251400"/>
        </p:xfrm>
        <a:graphic>
          <a:graphicData uri="http://schemas.openxmlformats.org/drawingml/2006/table">
            <a:tbl>
              <a:tblPr/>
              <a:tblGrid>
                <a:gridCol w="434880"/>
                <a:gridCol w="5808600"/>
                <a:gridCol w="1965240"/>
              </a:tblGrid>
              <a:tr h="32004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та ре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184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зентация на тему "Первоцветы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марта 2015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184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крытое письмо «Зелёному другу...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 марта 2015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184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чер досуга: «А знаете ли вы ….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 марта 2015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184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а путешествие:  "Здравствуй! Кто ты первоцвет?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 марта 2015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184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зготовление  экоплаката: «Природа в опасност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 марта 2015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332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ительское собрание в форме круглого стола «Мир вокруг нас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 марта 2015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184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кологический рейд «Кто просит о помощи?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 марта 2015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184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кскурсии в прир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 марта 2015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332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спут с родителями «Что я могу сделать в защиту природы?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 марта 2015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332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вместный вечер досуга: «Письмо из грустного лес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 марта 2015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184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сещение Библиотеки им В.Биа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5 марта 2015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1184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кскурсия по экологической троп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 марта 2015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131" name="Нижний колонтитул 3"/>
          <p:cNvSpPr/>
          <p:nvPr/>
        </p:nvSpPr>
        <p:spPr>
          <a:xfrm>
            <a:off x="395280" y="6356520"/>
            <a:ext cx="84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губите первоцветы, весны первые приметы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395280" y="981000"/>
            <a:ext cx="84978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I этап. Заключите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вить степень усвоения знаний по содержанию прое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зм внедрения экологического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оответствии с содержанием реализации проекта было проведе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ановка целей, задач и разработка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нирование внедрения экологического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ка исход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ка результа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4716360" y="4365720"/>
            <a:ext cx="1871640" cy="1896840"/>
          </a:xfrm>
          <a:prstGeom prst="rect">
            <a:avLst/>
          </a:prstGeom>
          <a:ln w="0">
            <a:noFill/>
          </a:ln>
        </p:spPr>
      </p:pic>
      <p:sp>
        <p:nvSpPr>
          <p:cNvPr id="134" name="Нижний колонтитул 3"/>
          <p:cNvSpPr/>
          <p:nvPr/>
        </p:nvSpPr>
        <p:spPr>
          <a:xfrm>
            <a:off x="179280" y="6356520"/>
            <a:ext cx="871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губите первоцветы, весны первые приметы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237960" y="298440"/>
            <a:ext cx="6010560" cy="5791320"/>
          </a:xfrm>
          <a:prstGeom prst="rect">
            <a:avLst/>
          </a:prstGeom>
          <a:ln w="0">
            <a:noFill/>
          </a:ln>
        </p:spPr>
      </p:pic>
      <p:pic>
        <p:nvPicPr>
          <p:cNvPr id="136" name="irc_mi" descr="article723"/>
          <p:cNvPicPr/>
          <p:nvPr/>
        </p:nvPicPr>
        <p:blipFill>
          <a:blip r:embed="rId2"/>
          <a:stretch/>
        </p:blipFill>
        <p:spPr>
          <a:xfrm>
            <a:off x="6396120" y="1773360"/>
            <a:ext cx="2475000" cy="276372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3"/>
          <p:cNvSpPr/>
          <p:nvPr/>
        </p:nvSpPr>
        <p:spPr>
          <a:xfrm>
            <a:off x="468360" y="6356520"/>
            <a:ext cx="837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губите первоцветы, весны первые приметы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1"/>
          <p:cNvSpPr/>
          <p:nvPr/>
        </p:nvSpPr>
        <p:spPr>
          <a:xfrm>
            <a:off x="324000" y="6356520"/>
            <a:ext cx="84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губите первоцветы, весны первые приметы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5" descr="885f8b3b0a8c.png"/>
          <p:cNvPicPr/>
          <p:nvPr/>
        </p:nvPicPr>
        <p:blipFill>
          <a:blip r:embed="rId1"/>
          <a:stretch/>
        </p:blipFill>
        <p:spPr>
          <a:xfrm>
            <a:off x="-108000" y="1197000"/>
            <a:ext cx="9144000" cy="4927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1O2[1]"/>
          <p:cNvPicPr/>
          <p:nvPr/>
        </p:nvPicPr>
        <p:blipFill>
          <a:blip r:embed="rId2"/>
          <a:stretch/>
        </p:blipFill>
        <p:spPr>
          <a:xfrm>
            <a:off x="4284720" y="2349360"/>
            <a:ext cx="1154160" cy="12290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1763640" y="549360"/>
            <a:ext cx="64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26:21Z</dcterms:created>
  <dc:creator>Мудрая Лора</dc:creator>
  <dc:description/>
  <cp:keywords>Средняя группа</cp:keywords>
  <dc:language>en-US</dc:language>
  <cp:lastModifiedBy>1</cp:lastModifiedBy>
  <dcterms:modified xsi:type="dcterms:W3CDTF">2015-02-28T14:18:50Z</dcterms:modified>
  <cp:revision>91</cp:revision>
  <dc:subject/>
  <dc:title>Kkkkkkkkkббьтттkkkkkkkkkkkkk</dc:title>
</cp:coreProperties>
</file>