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CF9-64AB-498E-A982-91071164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A56-24B0-4CEA-9B3B-0CD55CC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7FF-8C24-483A-BA0D-2DF858B4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630-44DF-40E4-B574-FB33A333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323-4BA9-4EAE-A2DF-3888F686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135-348D-4F15-8944-CC6EEDE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A867-F06E-405C-A131-0EFF1669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D48F-9874-45B7-B7E9-554D6AD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50D8-9E0B-41FC-8201-74B73ED7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C9C4-FA5D-4582-A873-F06BBF4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65A-AB6A-4307-ACB6-413F381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0FF-6B65-42F0-9F2D-C9ED9B0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60C2-A868-4942-8ABA-A370BF0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6EB-696B-4BAA-A617-7DD1AC9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440-F96E-4170-A1A4-F6E014E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8F5B-698B-450E-B352-809A9BEF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15DB-9FFB-46D0-A4C7-7B6E1DB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DAD-1ADA-44CE-94DD-188C9A94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F26-2CC6-4E8D-B089-AEC3AFE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57E-064E-4CD2-A7BF-F333E3AE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969-C780-4350-B6D0-8EA90D31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0D0-6C5C-425B-9184-D82E8EC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E4B-F2A7-48CF-A7E4-12EEF54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ED1-D22D-4AFD-AADE-32D56F5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5987-0E12-4040-9BEC-0928664EE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6D9-9684-492F-BFDD-810A4A2B6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>
            <a:off x="755640" y="476280"/>
            <a:ext cx="8094600" cy="35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рограмма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индивидуального развития 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ученицы 4 класса Потаповой Марии Александровны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«Я – успешный ученик" 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92360" y="4508640"/>
            <a:ext cx="64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втор: Семенова Елена 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читель 1 катего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БОУ «Большебикшихская  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нашского  района Ч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ятно 1 2" descr=""/>
          <p:cNvPicPr/>
          <p:nvPr/>
        </p:nvPicPr>
        <p:blipFill>
          <a:blip r:embed="rId2"/>
          <a:stretch/>
        </p:blipFill>
        <p:spPr>
          <a:xfrm>
            <a:off x="2273400" y="-12600"/>
            <a:ext cx="467676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2286000" y="3186000"/>
            <a:ext cx="4572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17"/>
          <p:cNvSpPr/>
          <p:nvPr/>
        </p:nvSpPr>
        <p:spPr>
          <a:xfrm>
            <a:off x="285840" y="2500200"/>
            <a:ext cx="2271600" cy="914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я-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(социал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18"/>
          <p:cNvSpPr/>
          <p:nvPr/>
        </p:nvSpPr>
        <p:spPr>
          <a:xfrm>
            <a:off x="6286680" y="436248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Я и оте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(патриотическое воспита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14"/>
          <p:cNvSpPr/>
          <p:nvPr/>
        </p:nvSpPr>
        <p:spPr>
          <a:xfrm>
            <a:off x="6072120" y="2500200"/>
            <a:ext cx="2714760" cy="100008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ой мир зн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(учеб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знавательна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Скругленный прямоугольник 16"/>
          <p:cNvSpPr/>
          <p:nvPr/>
        </p:nvSpPr>
        <p:spPr>
          <a:xfrm>
            <a:off x="3106800" y="5300640"/>
            <a:ext cx="2928960" cy="9860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Я и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экологическое воспита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Скругленный прямоугольник 15"/>
          <p:cNvSpPr/>
          <p:nvPr/>
        </p:nvSpPr>
        <p:spPr>
          <a:xfrm>
            <a:off x="485640" y="4357800"/>
            <a:ext cx="2071800" cy="1143000"/>
          </a:xfrm>
          <a:prstGeom prst="roundRect">
            <a:avLst>
              <a:gd name="adj" fmla="val 16667"/>
            </a:avLst>
          </a:prstGeom>
          <a:solidFill>
            <a:srgbClr val="a365d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1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66"/>
                </a:solidFill>
                <a:latin typeface="Arial"/>
              </a:rPr>
              <a:t>Я и сем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66"/>
                </a:solidFill>
                <a:latin typeface="Arial"/>
              </a:rPr>
              <a:t>(семейное воспита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9"/>
          <p:cNvCxnSpPr/>
          <p:nvPr/>
        </p:nvCxnSpPr>
        <p:spPr>
          <a:xfrm flipH="1">
            <a:off x="2071080" y="1641960"/>
            <a:ext cx="1572120" cy="857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Прямая со стрелкой 33"/>
          <p:cNvCxnSpPr/>
          <p:nvPr/>
        </p:nvCxnSpPr>
        <p:spPr>
          <a:xfrm flipH="1">
            <a:off x="2857320" y="1856880"/>
            <a:ext cx="1072080" cy="2786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4" name="Прямая со стрелкой 26"/>
          <p:cNvCxnSpPr/>
          <p:nvPr/>
        </p:nvCxnSpPr>
        <p:spPr>
          <a:xfrm>
            <a:off x="5714640" y="1500120"/>
            <a:ext cx="1072440" cy="1000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5" name="Прямая со стрелкой 31"/>
          <p:cNvCxnSpPr/>
          <p:nvPr/>
        </p:nvCxnSpPr>
        <p:spPr>
          <a:xfrm>
            <a:off x="4499640" y="1643040"/>
            <a:ext cx="214920" cy="3858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6" name="Прямая со стрелкой 28"/>
          <p:cNvCxnSpPr/>
          <p:nvPr/>
        </p:nvCxnSpPr>
        <p:spPr>
          <a:xfrm>
            <a:off x="5213880" y="1714680"/>
            <a:ext cx="1429560" cy="3072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826920" y="31680"/>
            <a:ext cx="777744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Состояние здоровь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 удовлетворитель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Социальное положение родителей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обеспеченная сем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Взаимоотношения в семье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- дружелюб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Тип темперамент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флегмати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Черты характер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-  активность, инициативность, целеустремленность,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дружелюбность ,бережливость, справедлив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Уровень самооценк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и - низк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Успеваемость, интеллектуальное развитие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отличн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Любимые предметы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русский язык, английский язык , литературное чтение, технолог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Отношение к труду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добросовест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Взаимоотношения в группе, в коллективе, положение в коллективе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- дружелюб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Отношение к родителям, учителям, сверстника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- уважитель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Отношение к себе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: самокритич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Участие в общественной работе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актив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Занятия в свободное врем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 - любит читать, рисовать, общается  с одноклассниками, посещает музыкальный кружок «Поющий мир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Lucida Sans Unicode"/>
              </a:rPr>
              <a:t>Педагогические выводы и рекомендации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У ребёнка высокая мотивация к учению, самооценка занижена; работать по повышению самооценки и развитию коммуникативных навы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250920" y="620640"/>
            <a:ext cx="792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бота над проектом   «Моя родословная ». Районный   конкурс исследовательских работ и творческих проектов дошкольников и младших школьников «Я - исследователь» -2013 год.( 2 мест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282600" y="1557360"/>
            <a:ext cx="813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бота над проектом   «Слово МАМА ». Районный   конкурс исследовательских работ и творческих проектов дошкольников и младших школьников «Я - исследователь» -2014 год. ( 3 мест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C:\Users\дом\Desktop\гр.jpeg"/>
          <p:cNvPicPr/>
          <p:nvPr/>
        </p:nvPicPr>
        <p:blipFill>
          <a:blip r:embed="rId1"/>
          <a:srcRect l="7259" t="603" r="1682" b="2825"/>
          <a:stretch/>
        </p:blipFill>
        <p:spPr>
          <a:xfrm>
            <a:off x="5940360" y="2997360"/>
            <a:ext cx="1793880" cy="259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:\Users\дом\Desktop\грамоты\Изображение.jpg"/>
          <p:cNvPicPr/>
          <p:nvPr/>
        </p:nvPicPr>
        <p:blipFill>
          <a:blip r:embed="rId2"/>
          <a:srcRect l="0" t="0" r="5724" b="0"/>
          <a:stretch/>
        </p:blipFill>
        <p:spPr>
          <a:xfrm>
            <a:off x="1496880" y="299736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2124000" y="260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ервые шаг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успе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362800" cy="4700520"/>
        </p:xfrm>
        <a:graphic>
          <a:graphicData uri="http://schemas.openxmlformats.org/drawingml/2006/table">
            <a:tbl>
              <a:tblPr/>
              <a:tblGrid>
                <a:gridCol w="2386080"/>
                <a:gridCol w="5113440"/>
                <a:gridCol w="863280"/>
              </a:tblGrid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3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курс рисунков «Моя любимая Мур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 активное участие, творчество, инициативу и трудолюбие, проявленные на школьном конкурсе «Дары осен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3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российский конкурс  «Эрудит России-2013» номинация-мате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йонный конкурс «Созвучие  слов жив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68360" y="981000"/>
          <a:ext cx="8362800" cy="4370400"/>
        </p:xfrm>
        <a:graphic>
          <a:graphicData uri="http://schemas.openxmlformats.org/drawingml/2006/table">
            <a:tbl>
              <a:tblPr/>
              <a:tblGrid>
                <a:gridCol w="2386080"/>
                <a:gridCol w="5113080"/>
                <a:gridCol w="863640"/>
              </a:tblGrid>
              <a:tr h="124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1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российская олимпиада для младших школьников по математике 2012. г. Бий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 1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российская дистанционная олимпиада школьников по литературе «Юный литературовед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3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российский конкурс  «Эрудит России-2013» номинация-мате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йонный конкурс «Созвучие  слов жив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95280" y="907920"/>
          <a:ext cx="8362800" cy="4830840"/>
        </p:xfrm>
        <a:graphic>
          <a:graphicData uri="http://schemas.openxmlformats.org/drawingml/2006/table">
            <a:tbl>
              <a:tblPr/>
              <a:tblGrid>
                <a:gridCol w="2386080"/>
                <a:gridCol w="5113440"/>
                <a:gridCol w="863280"/>
              </a:tblGrid>
              <a:tr h="12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видетель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спубликанский этап  IX Международного конкурса детских рисунк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видетель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спубликанский конкурс стихотвор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 рассказов «Мир первозданной природы»  Чебокса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ертификат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российский конкурс  «Эрудит России-2014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плом за высокие 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спубликанский конкурс «Ч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ĕ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ĕ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ĕ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е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ç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279360" y="242100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рия  участвует в школьных и  районных  меропри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нимается в круж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рия  очень ответственная и старательная дев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324000" y="371628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 условий для развития творческих и интеллектуальных способностей ученика, для расширения круга интере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учиться - ставить цели, планировать и организовывать собственную  де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йствие индивидуализации  воспитания и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птимальных условий для развития творческого потенциала ученика в соответствии с его индивидуальными особен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132000" y="404640"/>
            <a:ext cx="389124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33320" y="2892600"/>
            <a:ext cx="362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716360" y="98100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4427640" y="2421000"/>
            <a:ext cx="456228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45c984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тапова Мария -</a:t>
            </a:r>
            <a:endParaRPr b="1" i="1" lang="en-US" sz="3200" spc="1" strike="noStrike">
              <a:ln w="9360">
                <a:solidFill>
                  <a:srgbClr val="45c984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45c984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45c984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ница 4 класса</a:t>
            </a:r>
            <a:endParaRPr b="1" i="1" lang="en-US" sz="3200" spc="1" strike="noStrike">
              <a:ln w="9360">
                <a:solidFill>
                  <a:srgbClr val="45c984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45c984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ОУ «Большебикшихская СОШ"</a:t>
            </a:r>
            <a:endParaRPr b="1" i="1" lang="en-US" sz="3200" spc="1" strike="noStrike">
              <a:ln w="9360">
                <a:solidFill>
                  <a:srgbClr val="45c984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33440" y="1152360"/>
            <a:ext cx="3138480" cy="41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340000" y="476280"/>
            <a:ext cx="44816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меро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61928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79280" y="1252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личности ребенка при помощи    различных мет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в воспитательную деятельность  инновационных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рограммы вос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новых форм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классных и школьных мероприятий с участием  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79280" y="198900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, познавательного интер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оложительной мотивации к уч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уровня воспита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706120" y="692280"/>
            <a:ext cx="44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79280" y="1341360"/>
            <a:ext cx="878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индивидуального развития включа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ите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этап наблюдений, проведения мероприятий по изучению особенностей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этап разработки воспитательной работы, развития способ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лючите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этап формирования качеств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896120" y="22860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мных мероприя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395280" y="112536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 1 этап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наблюдения за ребенком, изучение личного дела, беседы с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мероприятий по изучению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данном этапе используются различные мет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кетирование (родителе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есе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документ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629080" y="333360"/>
            <a:ext cx="38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этап.  Наблю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641880" y="40464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этап. Разработка воспитательной раб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витие способностей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155736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 2 этап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и апробация методик использования воспитатель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ершенствование навыков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5280" y="4149720"/>
            <a:ext cx="85694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ализация задач этого этапа позвол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ить мотивацию и стимул к успешному обуч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 и успешно участвовать в конкурс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ть самооценку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ь дисциплинированность, уверенность в своих силах, ответ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3003296_u858CC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029240" y="40464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этап.  Формирование качеств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8360" y="12891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 3 этап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познав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индивидуального плана само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всех форм внеклассной и внешколь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эффективности реализации программы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ирование собственного жизненного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33Z</dcterms:created>
  <dc:creator>yy</dc:creator>
  <dc:description/>
  <dc:language>en-US</dc:language>
  <cp:lastModifiedBy>дом</cp:lastModifiedBy>
  <dcterms:modified xsi:type="dcterms:W3CDTF">2015-02-28T18:57:04Z</dcterms:modified>
  <cp:revision>91</cp:revision>
  <dc:subject/>
  <dc:title>Слайд 1</dc:title>
</cp:coreProperties>
</file>