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2C8-9A5B-436A-96FE-205E8CD8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BBA-FABE-41D7-B661-5E2D4CA6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268-77E5-4EE3-BE1F-A6BFB3DF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90D-78AC-4A5C-8873-FA98C9A7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0F8F-67A4-4DDA-BB1E-95846F9A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3B38-A36E-49B4-AEC4-C7654C28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DC32-132C-421F-8299-37626E92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7931-1EBF-4CE1-9570-0EA7D828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7D82-A74E-4AAF-941E-A4A10A26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E7C-38E8-4A07-9701-9093BBF3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A759-8076-4F5C-BF33-2C5F479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BCC-A89C-4B4C-9B6D-BE8CB901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95E0-8E09-4A47-92BB-848D3F86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E6AB-A974-4FBB-AA5E-8551B347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184A-BE64-40F1-922F-9DCEF951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3EA4-646A-46E2-888F-1186E79A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9C60-F3F4-4473-8366-553040E5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A9A-FBDD-4E6F-BD8E-E98CD28E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763-F1E2-435E-BBC3-E3BCF97C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2B3-338A-4177-A93C-A4939C38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692-12BD-4EBF-88AA-70E48741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76A-6018-42BA-B141-254C29F8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EC0-9C41-434D-9885-2889E602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841-A793-4875-A20B-85A7AE7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B247-5367-4E58-A3B4-4AD5B772515D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7DD3-205A-4405-8C61-520DA0E9E0E1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gi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1844640"/>
            <a:ext cx="7777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281400"/>
                </a:solidFill>
                <a:latin typeface="a_Albionic"/>
              </a:rPr>
              <a:t>Развитие письменной речи младших школьников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82400"/>
                </a:solidFill>
                <a:latin typeface="Times New Roman"/>
              </a:rPr>
              <a:t>МОУ «Тегульдетская средняя общеобразовательная школа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472428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602136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82400"/>
                </a:solidFill>
                <a:latin typeface="Times New Roman"/>
              </a:rPr>
              <a:t>С. Тегульд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2349000"/>
            <a:ext cx="4518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Репродуктив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82400"/>
                </a:solidFill>
                <a:latin typeface="Times New Roman"/>
              </a:rPr>
              <a:t>Методы работы </a:t>
            </a:r>
            <a:br>
              <a:rPr sz="3600"/>
            </a:br>
            <a:r>
              <a:rPr b="0" i="1" lang="ru-RU" sz="3600" spc="-1" strike="noStrike">
                <a:solidFill>
                  <a:srgbClr val="482400"/>
                </a:solidFill>
                <a:latin typeface="Times New Roman"/>
              </a:rPr>
              <a:t>над обучающим сочинением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3933720"/>
            <a:ext cx="5958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Частично - поисков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2420640"/>
            <a:ext cx="487836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ка к написа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ние сочи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над сочинением после напис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68360" y="1699920"/>
            <a:ext cx="56167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82400"/>
                </a:solidFill>
                <a:latin typeface="Times New Roman"/>
              </a:rPr>
              <a:t>Этапы работы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44364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56000" y="476280"/>
            <a:ext cx="4518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Репродуктив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2349000"/>
            <a:ext cx="776916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подготовительной работы учащимся предлагается тема для написания сочи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357720"/>
            <a:ext cx="76978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анализ текстов. Вопросы подводят к выводу: трудно писать без подготовки. Нужен план, активизировать словарь по теме, возможно не хватает наблюде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013360"/>
            <a:ext cx="46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к сочин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5734080"/>
            <a:ext cx="63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сание сочи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692280"/>
            <a:ext cx="5957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Частично - поисков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68360" y="1699920"/>
            <a:ext cx="561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Этапы работ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Примерные темы сочинений </a:t>
            </a:r>
            <a:br>
              <a:rPr sz="3600"/>
            </a:b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по классам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клас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тельная работа, жанры:   записка, составление поздравления, сочинение загад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 кла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инение считалки, загадки, сказка по опорным словам, дописать текст по началу, «Моё любимое дом.животное», «Если бы я был волшебник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 кла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«Золотая осень», сказка про книжку, сочинения по картине, рассказ о времени года от первого лица (тексты опис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 кла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«Что такое доброта», «Зачем людям сказки», «Почему растут деревья?», письмо другу, сочинения по картинам (тексты рассужд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1773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a_Albionic"/>
              </a:rPr>
              <a:t>Значение системы работ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931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устной и письменной ре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РАЗВИТИЕ ЛИЧНОСТИ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ФОРМИРОВАНИЕ КОММУНИКАТИВНЫХ УМ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4883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482400"/>
                </a:solidFill>
                <a:latin typeface="a_Albionic"/>
              </a:rPr>
              <a:t>Речь. Речь? Речь!</a:t>
            </a:r>
            <a:endParaRPr b="0" lang="en-US" sz="6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550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чь – основа всякой умственной деятельности, средство коммуник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068640"/>
            <a:ext cx="720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ько через развитие речи возможно становление и совершенствование мышления, воображения, эмо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5157720"/>
            <a:ext cx="75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пехи в связной речи определяют успех в учебной работе по всем предмет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06472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82400"/>
                </a:solidFill>
                <a:latin typeface="a_Albionic"/>
              </a:rPr>
              <a:t>Развитие письменной речи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жная задача обучения родному язы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43640" y="4581360"/>
            <a:ext cx="2303640" cy="190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58920" y="3429000"/>
            <a:ext cx="748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только принцип, но и составная часть содержания начального курса русского язы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5084640"/>
            <a:ext cx="1944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 Black"/>
              </a:rPr>
              <a:t>Н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99640" y="2276280"/>
            <a:ext cx="2357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изкий уровень развития речи уча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482400"/>
                </a:solidFill>
                <a:latin typeface="Times New Roman"/>
              </a:rPr>
              <a:t>Противоречие</a:t>
            </a:r>
            <a:endParaRPr b="0" lang="en-US" sz="6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708280"/>
            <a:ext cx="1873080" cy="1368360"/>
          </a:xfrm>
          <a:prstGeom prst="leftRightArrow">
            <a:avLst>
              <a:gd name="adj1" fmla="val 50000"/>
              <a:gd name="adj2" fmla="val 2725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2276640"/>
            <a:ext cx="3313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бходимость успешного овладения речевыми навыками (в соответствии с государст. программами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886920" y="5625360"/>
            <a:ext cx="1441440" cy="79200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af41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дный словарный запа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ует контроль за выбором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умения правильно распределять своё внимание между предметом высказывания и словесным оформлением мыс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482400"/>
                </a:solidFill>
                <a:latin typeface="Times New Roman"/>
              </a:rPr>
              <a:t>Проблем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я упражнений по развитию письменной речи уча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ное тематическое планирование обучающих сочинений, изложений по класс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083440" cy="133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истема работы над обучающим сочинением, изложением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92720" y="4653000"/>
            <a:ext cx="18115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Требования: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исано по план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ма раскрыта полность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ждая мысль обоснована и подкреплена пример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97672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482400"/>
                </a:solidFill>
                <a:latin typeface="Times New Roman"/>
              </a:rPr>
              <a:t>Сочинение</a:t>
            </a:r>
            <a:endParaRPr b="0" lang="en-US" sz="8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3024360" cy="2736720"/>
          </a:xfrm>
          <a:prstGeom prst="rect">
            <a:avLst/>
          </a:prstGeom>
          <a:noFill/>
          <a:ln w="57240">
            <a:solidFill>
              <a:srgbClr val="4824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Типы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еств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уж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1916280"/>
            <a:ext cx="4897440" cy="2736720"/>
          </a:xfrm>
          <a:prstGeom prst="rect">
            <a:avLst/>
          </a:prstGeom>
          <a:noFill/>
          <a:ln w="5724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Жан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каз, сказка, описание картины, письмо, статья в газету, записка, поздравление, объя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869000"/>
            <a:ext cx="8066160" cy="1800000"/>
          </a:xfrm>
          <a:prstGeom prst="rect">
            <a:avLst/>
          </a:prstGeom>
          <a:noFill/>
          <a:ln w="5724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Источник получен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основ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блюдений, прочитанных книг, личных впечат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97672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482400"/>
                </a:solidFill>
                <a:latin typeface="Times New Roman"/>
              </a:rPr>
              <a:t>Сочинение</a:t>
            </a:r>
            <a:endParaRPr b="0" lang="en-US" sz="8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83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абота над словом и словосочет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 наиболее точного слова или словосочетания из числ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образцовых текстов, составление образных выражений по ана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отребление слов в прямом и переносном знач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олицетворениями, сравнениями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482400"/>
                </a:solidFill>
                <a:latin typeface="Times New Roman"/>
              </a:rPr>
              <a:t>Упражнения</a:t>
            </a:r>
            <a:endParaRPr b="0" lang="en-US" sz="8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29264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абота над предложением и текст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ы на простые вопро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жнения по озаглавливанию текста, определение темы тек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ение предложений, объединённых одной темой по сюжетным картинкам, по опорным слов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пословицами и т.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47:16Z</dcterms:created>
  <dc:creator>Кравченко</dc:creator>
  <dc:description/>
  <dc:language>en-US</dc:language>
  <cp:lastModifiedBy>12</cp:lastModifiedBy>
  <dcterms:modified xsi:type="dcterms:W3CDTF">2015-02-28T17:56:15Z</dcterms:modified>
  <cp:revision>4</cp:revision>
  <dc:subject/>
  <dc:title>Развитие письменной речи младших школьников</dc:title>
</cp:coreProperties>
</file>