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6B1-6760-42FA-A16F-F1EA421B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BA9-1104-4C15-9460-7EC59A5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B50-0E22-4391-9939-2BCB9874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439-E45B-439B-B41B-7D6A0584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4174-3DC9-4C68-905D-6376EFDA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18B4-A27A-4522-9AC1-FF6C4EF2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5D4C-8CEC-48EC-964E-C783BE54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2F47-8BFC-46CC-83A8-B4903C0D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C7BE-3EDC-4398-8BC2-ACA0A7CD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CD1F-4510-4D1F-9956-96528CAD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9E02-3E4D-4306-B269-A19AE43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085-5DB0-4525-B815-7019903B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3CD5-436B-42EB-B398-0718FE3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7FC6-B2BC-41EB-A338-BE720866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354-7D1F-44AE-83C7-662AFA27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E07-7868-4E59-874F-01C9124C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853C-B093-46E8-9E7C-095619DB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3C5-55AE-483C-9309-B0A9C8D1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931-6453-4C27-8644-11F99B3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2FE-F532-4654-BB70-69B65790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F15-1D56-4F98-B98E-853972D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B3D-F0C8-455C-BCEA-B6BF657E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DF5-6AA9-491D-AEC6-5B71548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4A0-CBF6-4EE8-B630-444C66C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AD34-B30E-4A70-8036-29B7E988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LA01638A"/>
          <p:cNvPicPr/>
          <p:nvPr/>
        </p:nvPicPr>
        <p:blipFill>
          <a:blip r:embed="rId2"/>
          <a:stretch/>
        </p:blipFill>
        <p:spPr>
          <a:xfrm>
            <a:off x="0" y="4206960"/>
            <a:ext cx="1959120" cy="26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RS"/>
          <p:cNvPicPr/>
          <p:nvPr/>
        </p:nvPicPr>
        <p:blipFill>
          <a:blip r:embed="rId2"/>
          <a:stretch/>
        </p:blipFill>
        <p:spPr>
          <a:xfrm>
            <a:off x="0" y="0"/>
            <a:ext cx="5029200" cy="5211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dventur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76D4-E06C-47F2-AF5F-71B7A8B9916A}" type="slidenum">
              <a:rPr b="0" lang="en-US" sz="1400" spc="-1" strike="noStrike">
                <a:solidFill>
                  <a:srgbClr val="000000"/>
                </a:solidFill>
                <a:latin typeface="Adventur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7;&#1090;&#1072;&#1088;&#1096;&#1080;&#1081;%20&#1087;&#1086;&#1076;&#1088;&#1086;&#1089;&#1090;&#1086;&#1082;,%201&#1095;&#1077;&#1090;&#1074;.,%208&#1082;&#1083;..ppt#12. &#1047;&#1072;&#1085;&#1080;&#1078;&#1077;&#1085;&#1085;&#1072;&#1103; &#1089;&#1072;&#1084;&#1086;&#1086;&#1094;&#1077;&#1085;&#1082;&#1072;" TargetMode="External"/><Relationship Id="rId2" Type="http://schemas.openxmlformats.org/officeDocument/2006/relationships/hyperlink" Target="file:///&#1057;&#1090;&#1072;&#1088;&#1096;&#1080;&#1081;%20&#1087;&#1086;&#1076;&#1088;&#1086;&#1089;&#1090;&#1086;&#1082;,%201&#1095;&#1077;&#1090;&#1074;.,%208&#1082;&#1083;..ppt#18. &#1042;&#1089;&#1087;&#1099;&#1083;&#1100;&#1095;&#1080;&#1074;&#1086;&#1089;&#1090;&#1100;" TargetMode="External"/><Relationship Id="rId3" Type="http://schemas.openxmlformats.org/officeDocument/2006/relationships/hyperlink" Target="file:///&#1057;&#1090;&#1072;&#1088;&#1096;&#1080;&#1081;%20&#1087;&#1086;&#1076;&#1088;&#1086;&#1089;&#1090;&#1086;&#1082;,%201&#1095;&#1077;&#1090;&#1074;.,%208&#1082;&#1083;..ppt#20.  &#1053;&#1077;&#1086;&#1073;&#1097;&#1080;&#1090;&#1077;&#1083;&#1100;&#1085;&#1086;&#1089;&#1090;&#1100;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cc"/>
                </a:solidFill>
                <a:latin typeface="Arial Black"/>
              </a:rPr>
              <a:t>Старший подросток</a:t>
            </a:r>
            <a:br>
              <a:rPr sz="6600"/>
            </a:br>
            <a:br>
              <a:rPr sz="4000"/>
            </a:br>
            <a:r>
              <a:rPr b="0" i="1" lang="ru-RU" sz="3600" spc="-1" strike="noStrike">
                <a:solidFill>
                  <a:srgbClr val="3333cc"/>
                </a:solidFill>
                <a:latin typeface="Arial Black"/>
              </a:rPr>
              <a:t>Путь к успеху!</a:t>
            </a:r>
            <a:br>
              <a:rPr sz="8800"/>
            </a:br>
            <a:br>
              <a:rPr sz="8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0" y="6664320"/>
            <a:ext cx="4114800" cy="152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000" spc="-1" strike="noStrike">
              <a:solidFill>
                <a:srgbClr val="3333cc"/>
              </a:solidFill>
              <a:latin typeface="Adventur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Проблемы подрост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125360"/>
            <a:ext cx="77724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чиной неудач могут бы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холодные отношения с семь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иводят к возникновению чувства незащищенности и одиноче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плохое материальное полож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могут привести к фрустрации, отчаянию, совершению преступлени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употребление алкоголя и наркотиков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порядочные половые связи (приводят к зависимости, сексуальной озабоченности, опустошенности, отчаянию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Проблемы подрос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9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Заниженная самооцен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Вспыльчив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Необщительност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формиз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потребление наркотических вещест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Заниженная самооце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88720" y="1413000"/>
            <a:ext cx="70549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это мнение индивидуума о самом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ирование самооценки в юности влияют следующие факто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щущение принадлеж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увство значим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етент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900000" y="1413000"/>
            <a:ext cx="7848720" cy="4319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В чём причин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Arial"/>
              </a:rPr>
              <a:t>1.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Ощущение принадлежност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47640" y="1341000"/>
            <a:ext cx="6910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осознание того, что твое общество кому-то приятно, нужно, что кто-то готов позаботиться о теб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чувство развивается с младенчества и зависит от того, насколько родители любили и заботились о своем ребен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16165d"/>
                </a:solidFill>
                <a:latin typeface="Times New Roman"/>
              </a:rPr>
              <a:t>Чувство значим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7640" y="1267920"/>
            <a:ext cx="71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ознания человеком того, что он представляет собой какую-то ценность в глазах других людей, что его считают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ороши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о значимости крепнет, ког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ружающие высказывают одобрение поступк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азывают моральную и психологическую поддерж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Arial"/>
              </a:rPr>
              <a:t>3. </a:t>
            </a:r>
            <a:r>
              <a:rPr b="1" lang="ru-RU" sz="4400" spc="-1" strike="noStrike">
                <a:solidFill>
                  <a:srgbClr val="16165d"/>
                </a:solidFill>
                <a:latin typeface="Times New Roman"/>
              </a:rPr>
              <a:t>Компетен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92000" y="1125000"/>
            <a:ext cx="70563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ставляет собой уверенность в своих способностях и силах, возможность справиться с возникающими трудностями и задачами, которые ставит жизн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развитие компетентности влияе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спе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7812000" y="566100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7493"/>
                </a:moveTo>
                <a:lnTo>
                  <a:pt x="9850" y="7493"/>
                </a:lnTo>
                <a:lnTo>
                  <a:pt x="9850" y="12828"/>
                </a:lnTo>
                <a:cubicBezTo>
                  <a:pt x="9850" y="13751"/>
                  <a:pt x="10651" y="14482"/>
                  <a:pt x="11687" y="14482"/>
                </a:cubicBezTo>
                <a:lnTo>
                  <a:pt x="13349" y="14482"/>
                </a:lnTo>
                <a:cubicBezTo>
                  <a:pt x="14385" y="14482"/>
                  <a:pt x="15186" y="13751"/>
                  <a:pt x="15186" y="12828"/>
                </a:cubicBezTo>
                <a:lnTo>
                  <a:pt x="15186" y="7493"/>
                </a:lnTo>
                <a:lnTo>
                  <a:pt x="13349" y="7493"/>
                </a:lnTo>
                <a:lnTo>
                  <a:pt x="16857" y="3985"/>
                </a:lnTo>
                <a:lnTo>
                  <a:pt x="20530" y="7493"/>
                </a:lnTo>
                <a:lnTo>
                  <a:pt x="18693" y="7493"/>
                </a:lnTo>
                <a:lnTo>
                  <a:pt x="18693" y="12828"/>
                </a:lnTo>
                <a:cubicBezTo>
                  <a:pt x="18693" y="15596"/>
                  <a:pt x="16117" y="18155"/>
                  <a:pt x="13349" y="18155"/>
                </a:cubicBezTo>
                <a:lnTo>
                  <a:pt x="11687" y="18155"/>
                </a:lnTo>
                <a:cubicBezTo>
                  <a:pt x="8919" y="18155"/>
                  <a:pt x="6343" y="15596"/>
                  <a:pt x="6343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</a:rPr>
              <a:t>Причины низкой самооценки в юношеском возрас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360" y="1628280"/>
            <a:ext cx="698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ренесение любого вида насил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правильные социальные устано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плекс неполноценно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внодушие родителе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</a:rPr>
              <a:t>Последствия низкой самооценк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640" y="1052640"/>
            <a:ext cx="7274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Предвзятое отношение к окружающему мир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мир кажется враждебным, любые неожиданности воспринимаю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угроза личному благополучию и безопасн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е события и ситуации в жизни оцениваются как злой рок, поэтому человек даже не пытается что- либо изменить вокруг или в се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</a:rPr>
              <a:t>2. Неспособность на нормальные отношения с другими людьм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удущ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ет вызвать одиночество, проблемы с супругом, неудачи в любой деятельности, трудность в достижении поставленных ц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Управляющая кнопка: возврат 1"/>
          <p:cNvSpPr/>
          <p:nvPr/>
        </p:nvSpPr>
        <p:spPr>
          <a:xfrm>
            <a:off x="7740720" y="602136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7493"/>
                </a:moveTo>
                <a:lnTo>
                  <a:pt x="12089" y="7493"/>
                </a:lnTo>
                <a:lnTo>
                  <a:pt x="12089" y="12828"/>
                </a:lnTo>
                <a:cubicBezTo>
                  <a:pt x="12089" y="13751"/>
                  <a:pt x="12890" y="14482"/>
                  <a:pt x="13926" y="14482"/>
                </a:cubicBezTo>
                <a:lnTo>
                  <a:pt x="15588" y="14482"/>
                </a:lnTo>
                <a:cubicBezTo>
                  <a:pt x="16624" y="14482"/>
                  <a:pt x="17424" y="13751"/>
                  <a:pt x="17424" y="12828"/>
                </a:cubicBezTo>
                <a:lnTo>
                  <a:pt x="17424" y="7493"/>
                </a:lnTo>
                <a:lnTo>
                  <a:pt x="15588" y="7493"/>
                </a:lnTo>
                <a:lnTo>
                  <a:pt x="19096" y="3985"/>
                </a:lnTo>
                <a:lnTo>
                  <a:pt x="22769" y="7493"/>
                </a:lnTo>
                <a:lnTo>
                  <a:pt x="20932" y="7493"/>
                </a:lnTo>
                <a:lnTo>
                  <a:pt x="20932" y="12828"/>
                </a:lnTo>
                <a:cubicBezTo>
                  <a:pt x="20932" y="15596"/>
                  <a:pt x="18356" y="18155"/>
                  <a:pt x="15588" y="18155"/>
                </a:cubicBezTo>
                <a:lnTo>
                  <a:pt x="13926" y="18155"/>
                </a:lnTo>
                <a:cubicBezTo>
                  <a:pt x="11158" y="18155"/>
                  <a:pt x="8582" y="15596"/>
                  <a:pt x="8582" y="12828"/>
                </a:cubicBez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Вспыльчивос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19280" y="981000"/>
            <a:ext cx="734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 воспринимается обществом скорее как ребенок, а не как взрослы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, что взрослые позволяют старшеклассникам, — это ходить в школу, учиться , читать, играть за компьютером или общаться в Интерне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чувств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справедлив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лает их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рыми на гнев, постоянно готовыми вспыл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Вспыльчивос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8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ще одной причиной повышенной раздражительности старшеклассников являютс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мональные изме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е, несомненно, сказываются на их психическом состоя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9572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Подростковый возрас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период онтогенеза от 10-11 до 14-15 л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92360" y="2133360"/>
            <a:ext cx="3527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оловое созре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«гормональные выброс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ост мышечной  и костной тка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3760" y="2060640"/>
            <a:ext cx="38098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Диспропорции в формировании анатом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бщая диспропорция в физиологии и псих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411280" y="1341360"/>
            <a:ext cx="489744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«трудности рост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5"/>
          <p:cNvSpPr/>
          <p:nvPr/>
        </p:nvSpPr>
        <p:spPr>
          <a:xfrm rot="13441800">
            <a:off x="4284720" y="2204640"/>
            <a:ext cx="1224000" cy="1141560"/>
          </a:xfrm>
          <a:custGeom>
            <a:avLst/>
            <a:gdLst>
              <a:gd name="textAreaLeft" fmla="*/ 174600 w 1224000"/>
              <a:gd name="textAreaRight" fmla="*/ 1049400 w 1224000"/>
              <a:gd name="textAreaTop" fmla="*/ 652320 h 1141560"/>
              <a:gd name="textAreaBottom" fmla="*/ 978480 h 11415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Необщитель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050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а проблема связана с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чуждение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общество друзей отталкивает подростка, он стремитс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единить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Именно таким образом, старшеклассник справляется с возникшим чувством неполноц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хое отношение сверстников может заставить подростка чувствовать себя неудачни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избегает общения, чтобы оно его вновь не ранил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186760" y="6181560"/>
            <a:ext cx="9572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Конформиз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319280" y="184464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х оказаться не таким «как все» у них очень велик, поскольку в этом возрасте очень сильно влияние компа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стки чувствуют себя очень неуютно вне групп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2078640" y="98100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емление быть «как все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SAM_0056"/>
          <p:cNvPicPr/>
          <p:nvPr/>
        </p:nvPicPr>
        <p:blipFill>
          <a:blip r:embed="rId1"/>
          <a:stretch/>
        </p:blipFill>
        <p:spPr>
          <a:xfrm>
            <a:off x="-1440" y="1628640"/>
            <a:ext cx="4319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Конформиз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836280"/>
            <a:ext cx="82072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асность конформизма для подростков заключается в том, чт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н заставляет их делать то, чего они не хотя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о, что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ни прекрасно знают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является неправильным, незаконным, вред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979640" y="35002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стоять давлению общества очень нелегко, тем более подростк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этого надо быть уверенным в себе. Кроме того, потребуется муж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854840" y="5805360"/>
            <a:ext cx="9572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Times New Roman"/>
              </a:rPr>
              <a:t>Употребление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907560"/>
            <a:ext cx="82789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ая причина 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нформиз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ни делают это за компанию со своими сверстниками, друзь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826920" y="2421000"/>
            <a:ext cx="76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боится, что другие будут смеяться над ним, презирать, считать неопытным и т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1636560" y="3730680"/>
            <a:ext cx="725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ому они готовы на все рад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воего эмоционального спокойств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1908000" y="4791240"/>
            <a:ext cx="70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учить подростков противостоять плохому влиянию друз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отать негативное отношение к наркотик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сутствие </a:t>
            </a:r>
            <a:br>
              <a:rPr sz="4000"/>
            </a:br>
            <a:r>
              <a:rPr b="1" lang="ru-RU" sz="4000" spc="-1" strike="noStrike" u="sng">
                <a:solidFill>
                  <a:srgbClr val="003399"/>
                </a:solidFill>
                <a:uFillTx/>
                <a:latin typeface="Times New Roman"/>
              </a:rPr>
              <a:t>позитивного опыта в обще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6360" y="1980720"/>
            <a:ext cx="6765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ЗАДАП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азвитие ответствен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за действия и посту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азвитие осознан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4211640" y="1125360"/>
            <a:ext cx="485640" cy="790920"/>
          </a:xfrm>
          <a:prstGeom prst="downArrow">
            <a:avLst>
              <a:gd name="adj1" fmla="val 50000"/>
              <a:gd name="adj2" fmla="val 407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79640" y="2637000"/>
            <a:ext cx="5256360" cy="2087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ДРОСТКУ необход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ЗРОСЛЫ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чтобы науч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ЫТЬ ВЗРОСЛЫМ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6877080" y="5157720"/>
            <a:ext cx="358920" cy="1417680"/>
          </a:xfrm>
          <a:custGeom>
            <a:avLst/>
            <a:gdLst>
              <a:gd name="textAreaLeft" fmla="*/ 0 w 358920"/>
              <a:gd name="textAreaRight" fmla="*/ 129600 w 358920"/>
              <a:gd name="textAreaTop" fmla="*/ 36720 h 1417680"/>
              <a:gd name="textAreaBottom" fmla="*/ 1380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7380360" y="5157720"/>
            <a:ext cx="1562040" cy="13464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емье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одителям для успешного воспитания ребенка-подростка необходимо быт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8560" y="1980720"/>
            <a:ext cx="78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ДЕКВАТ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меть видеть и понимать индивидуальность своего ребенка, замечать происходящие в его душевном мире изменен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ИБКИ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пособными к изменению воздействий на ребенка по ходу его взрослен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ГНОСТИЧ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пособными  предвосхищать, прогнозировать появление новых психических и личностных качеств ребен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НИМ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692280"/>
            <a:ext cx="8062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ПОНИМАНИЕ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крытых мотивов тех или иных поступков, которые отражаются и на дисциплине, и на успевае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люч 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АМОУВАЖЕНИЮ подрос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284720" y="2637000"/>
            <a:ext cx="628560" cy="649080"/>
          </a:xfrm>
          <a:prstGeom prst="downArrow">
            <a:avLst>
              <a:gd name="adj1" fmla="val 50000"/>
              <a:gd name="adj2" fmla="val 258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пособы повышения самооценки подрост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19280" y="1341360"/>
            <a:ext cx="75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щ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вал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дростка за любые достижения и успех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и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бенка – «ты можешь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черкив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оин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го внешност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черкивать е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ите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ерты характе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у в успе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давайте задания и поручения, с которыми ребенок может справится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иров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достигнутых в прошлом успеха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87280" y="260280"/>
            <a:ext cx="795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руч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ложные и ответственные дел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вер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г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анавливать контак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фере общен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гать подрост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глядеть современ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покупать по мере возможностей модную одежду и молодежные атрибуты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емейном круг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значить круг пра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обязанностей каждого члена семь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 нарушение правил придумывают сами подрост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яснить, что ошибки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альное яв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меч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и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бенк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692360" y="1773360"/>
            <a:ext cx="6840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!!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озраст 13-15 лет – </a:t>
            </a:r>
            <a:br>
              <a:rPr sz="4000"/>
            </a:br>
            <a:r>
              <a:rPr b="1" i="1" lang="ru-RU" sz="4800" spc="-1" strike="noStrike">
                <a:solidFill>
                  <a:srgbClr val="003399"/>
                </a:solidFill>
                <a:latin typeface="Times New Roman"/>
              </a:rPr>
              <a:t>старшие подрост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5545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Менее раздражительные, чем младш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46560" y="1916280"/>
            <a:ext cx="309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о более независимые от взросл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Значительно усиливается интерес к противоположному по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SAM_0063"/>
          <p:cNvPicPr/>
          <p:nvPr/>
        </p:nvPicPr>
        <p:blipFill>
          <a:blip r:embed="rId1"/>
          <a:stretch/>
        </p:blipFill>
        <p:spPr>
          <a:xfrm>
            <a:off x="0" y="2476440"/>
            <a:ext cx="6012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классного руководите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-а кл. МБОУ Еткульская СОШ села Еткуль Челябинск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латиной Е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8320" y="-3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тарший подростковый возра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Младший подростковый возра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124000" y="1628640"/>
            <a:ext cx="486000" cy="935280"/>
          </a:xfrm>
          <a:prstGeom prst="downArrow">
            <a:avLst>
              <a:gd name="adj1" fmla="val 50000"/>
              <a:gd name="adj2" fmla="val 481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179280" y="2565360"/>
            <a:ext cx="4248360" cy="16574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ОБ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связанное  с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овед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и уч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6804000" y="1628640"/>
            <a:ext cx="485640" cy="831960"/>
          </a:xfrm>
          <a:prstGeom prst="downArrow">
            <a:avLst>
              <a:gd name="adj1" fmla="val 50000"/>
              <a:gd name="adj2" fmla="val 42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5292720" y="2492280"/>
            <a:ext cx="3600360" cy="2232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вокруг вопро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ичност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индивидуа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464328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8000"/>
                </a:solidFill>
                <a:uFillTx/>
                <a:latin typeface="Times New Roman"/>
              </a:rPr>
              <a:t>МЕРИЛО УСПЕХ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836640"/>
            <a:ext cx="77709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нешность подрос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Желание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е быть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отвергнут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3" descr="SAM_0050"/>
          <p:cNvPicPr/>
          <p:nvPr/>
        </p:nvPicPr>
        <p:blipFill>
          <a:blip r:embed="rId1"/>
          <a:stretch/>
        </p:blipFill>
        <p:spPr>
          <a:xfrm>
            <a:off x="1547640" y="2057400"/>
            <a:ext cx="6553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Times New Roman"/>
              </a:rPr>
              <a:t>Ведущая дея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36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195280" y="2420640"/>
            <a:ext cx="694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азвитие «Я»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азвитие потреб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«в чувстве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значительности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т.е не просто желание быть в среде сверстников, 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имат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определенную позицию в социу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140360" y="765000"/>
            <a:ext cx="485640" cy="792360"/>
          </a:xfrm>
          <a:prstGeom prst="downArrow">
            <a:avLst>
              <a:gd name="adj1" fmla="val 50000"/>
              <a:gd name="adj2" fmla="val 407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6"/>
          <p:cNvSpPr/>
          <p:nvPr/>
        </p:nvSpPr>
        <p:spPr>
          <a:xfrm rot="17278200">
            <a:off x="7083360" y="1281240"/>
            <a:ext cx="1224000" cy="13669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1547640" y="1557360"/>
            <a:ext cx="59040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БЩЕНИЕ со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ерстни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лох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признак того, ч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ность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«принятии и уважении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«самовыражен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УДОВЛЕТВОР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4956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лаба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спева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лабая школьная мотив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словле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УМЕНИ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Делать выбор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Брать на себя ответственность за 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050920" y="476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732720" y="119700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9"/>
          <p:cNvSpPr/>
          <p:nvPr/>
        </p:nvSpPr>
        <p:spPr>
          <a:xfrm rot="5400000">
            <a:off x="6651360" y="2789280"/>
            <a:ext cx="647640" cy="485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7724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оценке старших подрост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зко снижа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Уровень понимания со стороны родителе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Легкость общ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обственная откровенность с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2484360" y="549360"/>
            <a:ext cx="4248360" cy="180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реб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бщении 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27600" y="697320"/>
            <a:ext cx="5103720" cy="1430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ЩЕ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 сверстник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лабевают </a:t>
            </a:r>
            <a:br>
              <a:rPr sz="4000"/>
            </a:br>
            <a:r>
              <a:rPr b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эмоциональные связи с родителя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агодаря котор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32000" y="2060640"/>
            <a:ext cx="7812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лены семьи ощущают себя единой общность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уют теплоту и поддержку друг д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Нарушение этих связ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ГАТИВНО ВЛИЯ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 форм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ЛИЧНОСТИ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1979640" y="4076640"/>
            <a:ext cx="597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6265080" y="1375560"/>
            <a:ext cx="649440" cy="866880"/>
          </a:xfrm>
          <a:custGeom>
            <a:avLst/>
            <a:gdLst>
              <a:gd name="textAreaLeft" fmla="*/ 373680 w 649440"/>
              <a:gd name="textAreaRight" fmla="*/ 548280 w 64944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788000" y="443700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6:14:49Z</dcterms:created>
  <dc:creator>Зайцев Сергей Александрович</dc:creator>
  <dc:description/>
  <dc:language>en-US</dc:language>
  <cp:lastModifiedBy>Елена Заплатина</cp:lastModifiedBy>
  <dcterms:modified xsi:type="dcterms:W3CDTF">2015-02-28T12:34:22Z</dcterms:modified>
  <cp:revision>50</cp:revision>
  <dc:subject/>
  <dc:title>Слайд 1</dc:title>
</cp:coreProperties>
</file>