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2.png" ContentType="image/png"/>
  <Override PartName="/ppt/media/image7.jpeg" ContentType="image/jpe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345B-2264-4A96-9D8D-E27E04E1CD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105B-2F22-497B-A2E6-8103C0F483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26BD-FCCF-4F39-9634-BACE6C531A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C0BC-0797-42F1-9752-6373F1712C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B84C-09A7-4527-9759-AACAE69876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842F-0144-4B84-B78F-0CC86879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7C8-F9D5-426B-9AFA-4C9DC40B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3EA-F124-40BF-8D76-83185D95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BEC-87C8-4398-8C05-DC0B7C94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55E-42D4-4489-AFEF-3CBBC5A5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D25F-850D-4E61-AD1B-54573293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E94-1006-4B56-8A94-C861E1C5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4280-9744-4B88-8971-2CED6B9A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187-0A6B-44A9-8F5F-5E1CE5AA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0F8-8D30-4275-93A5-D4CF42AC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9716-CF2F-4300-9751-739B801E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EA6-DA8F-42ED-94EE-6D506D6F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8678-CA59-4241-890B-604CC2FF39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42920"/>
            <a:ext cx="7772400" cy="25574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Arial"/>
              </a:rPr>
              <a:t>Информационные технологии:</a:t>
            </a:r>
            <a:br>
              <a:rPr sz="5400"/>
            </a:br>
            <a:r>
              <a:rPr b="0" lang="ru-RU" sz="5400" spc="-1" strike="noStrike">
                <a:solidFill>
                  <a:srgbClr val="000066"/>
                </a:solidFill>
                <a:latin typeface="Arial"/>
              </a:rPr>
              <a:t>в школе и дом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6280" y="3878280"/>
            <a:ext cx="7651440" cy="990720"/>
          </a:xfrm>
          <a:prstGeom prst="rect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обеспечить правильное использование компьютера учащими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746280" y="1089000"/>
            <a:ext cx="7651440" cy="24750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6"/>
          <p:cNvGraphicFramePr/>
          <p:nvPr/>
        </p:nvGraphicFramePr>
        <p:xfrm>
          <a:off x="162000" y="1403280"/>
          <a:ext cx="8775720" cy="50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403280"/>
                    <a:ext cx="877572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5" descr="http://www.edukids.ru/i/logo/dnevnik.JPG"/>
          <p:cNvPicPr/>
          <p:nvPr/>
        </p:nvPicPr>
        <p:blipFill>
          <a:blip r:embed="rId3"/>
          <a:stretch/>
        </p:blipFill>
        <p:spPr>
          <a:xfrm>
            <a:off x="7172280" y="142920"/>
            <a:ext cx="1855800" cy="14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82" descr="http://static.dnevnik.ru/images/dnevnik100.ru-RU.gif"/>
          <p:cNvPicPr/>
          <p:nvPr/>
        </p:nvPicPr>
        <p:blipFill>
          <a:blip r:embed=""/>
          <a:stretch/>
        </p:blipFill>
        <p:spPr>
          <a:xfrm>
            <a:off x="6686640" y="142920"/>
            <a:ext cx="2303280" cy="108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Object 492"/>
          <p:cNvGraphicFramePr/>
          <p:nvPr/>
        </p:nvGraphicFramePr>
        <p:xfrm>
          <a:off x="115920" y="1395360"/>
          <a:ext cx="8937720" cy="536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Object 49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1395360"/>
                    <a:ext cx="8937720" cy="53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4"/>
          <p:cNvGraphicFramePr/>
          <p:nvPr/>
        </p:nvGraphicFramePr>
        <p:xfrm>
          <a:off x="128520" y="1763640"/>
          <a:ext cx="885348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763640"/>
                    <a:ext cx="885348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Picture 5" descr="http://www.edukids.ru/i/logo/dnevnik.JPG"/>
          <p:cNvPicPr/>
          <p:nvPr/>
        </p:nvPicPr>
        <p:blipFill>
          <a:blip r:embed="rId3"/>
          <a:stretch/>
        </p:blipFill>
        <p:spPr>
          <a:xfrm>
            <a:off x="6940440" y="98280"/>
            <a:ext cx="2132280" cy="1665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6"/>
          <p:cNvGraphicFramePr/>
          <p:nvPr/>
        </p:nvGraphicFramePr>
        <p:xfrm>
          <a:off x="162000" y="1224000"/>
          <a:ext cx="8775720" cy="547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224000"/>
                    <a:ext cx="877572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Picture 5" descr="http://www.edukids.ru/i/logo/dnevnik.JPG"/>
          <p:cNvPicPr/>
          <p:nvPr/>
        </p:nvPicPr>
        <p:blipFill>
          <a:blip r:embed="rId3"/>
          <a:stretch/>
        </p:blipFill>
        <p:spPr>
          <a:xfrm>
            <a:off x="7172280" y="142920"/>
            <a:ext cx="1855800" cy="14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Organization Chart 20"/>
          <p:cNvGrpSpPr/>
          <p:nvPr/>
        </p:nvGrpSpPr>
        <p:grpSpPr>
          <a:xfrm>
            <a:off x="115920" y="368280"/>
            <a:ext cx="8956080" cy="4919760"/>
            <a:chOff x="115920" y="368280"/>
            <a:chExt cx="8956080" cy="4919760"/>
          </a:xfrm>
        </p:grpSpPr>
        <p:cxnSp>
          <p:nvCxnSpPr>
            <p:cNvPr id="98" name="_s6148"/>
            <p:cNvCxnSpPr>
              <a:stCxn id="99" idx="0"/>
              <a:endCxn id="100" idx="3"/>
            </p:cNvCxnSpPr>
            <p:nvPr/>
          </p:nvCxnSpPr>
          <p:spPr>
            <a:xfrm flipV="1" rot="16200000">
              <a:off x="5843520" y="1085400"/>
              <a:ext cx="984240" cy="3484080"/>
            </a:xfrm>
            <a:prstGeom prst="bentConnector3">
              <a:avLst>
                <a:gd name="adj1" fmla="val 1269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" name="_s6149"/>
            <p:cNvCxnSpPr>
              <a:stCxn id="102" idx="0"/>
              <a:endCxn id="100" idx="2"/>
            </p:cNvCxnSpPr>
            <p:nvPr/>
          </p:nvCxnSpPr>
          <p:spPr>
            <a:xfrm flipV="1" rot="16200000">
              <a:off x="4682160" y="2246760"/>
              <a:ext cx="984240" cy="1161720"/>
            </a:xfrm>
            <a:prstGeom prst="bentConnector3">
              <a:avLst>
                <a:gd name="adj1" fmla="val 1269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" name="_s6150"/>
            <p:cNvCxnSpPr>
              <a:stCxn id="104" idx="0"/>
              <a:endCxn id="100" idx="1"/>
            </p:cNvCxnSpPr>
            <p:nvPr/>
          </p:nvCxnSpPr>
          <p:spPr>
            <a:xfrm flipH="1" flipV="1" rot="5400000">
              <a:off x="3521160" y="2247120"/>
              <a:ext cx="984240" cy="1161360"/>
            </a:xfrm>
            <a:prstGeom prst="bentConnector3">
              <a:avLst>
                <a:gd name="adj1" fmla="val 1269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" name="_s6151"/>
            <p:cNvCxnSpPr>
              <a:stCxn id="106" idx="0"/>
              <a:endCxn id="100" idx="0"/>
            </p:cNvCxnSpPr>
            <p:nvPr/>
          </p:nvCxnSpPr>
          <p:spPr>
            <a:xfrm flipH="1" flipV="1" rot="5400000">
              <a:off x="2361240" y="1087200"/>
              <a:ext cx="984240" cy="3481200"/>
            </a:xfrm>
            <a:prstGeom prst="bentConnector3">
              <a:avLst>
                <a:gd name="adj1" fmla="val 1269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" name="_s6152"/>
            <p:cNvSpPr/>
            <p:nvPr/>
          </p:nvSpPr>
          <p:spPr>
            <a:xfrm>
              <a:off x="3598560" y="368280"/>
              <a:ext cx="1990080" cy="196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6153"/>
            <p:cNvSpPr/>
            <p:nvPr/>
          </p:nvSpPr>
          <p:spPr>
            <a:xfrm>
              <a:off x="115920" y="3320280"/>
              <a:ext cx="1990080" cy="196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Расписание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уроко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6154"/>
            <p:cNvSpPr/>
            <p:nvPr/>
          </p:nvSpPr>
          <p:spPr>
            <a:xfrm>
              <a:off x="2437920" y="3320280"/>
              <a:ext cx="1990080" cy="196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Сведения об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оценках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посещаемост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6155"/>
            <p:cNvSpPr/>
            <p:nvPr/>
          </p:nvSpPr>
          <p:spPr>
            <a:xfrm>
              <a:off x="4759920" y="3320280"/>
              <a:ext cx="1990080" cy="196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Домашние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зада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6156"/>
            <p:cNvSpPr/>
            <p:nvPr/>
          </p:nvSpPr>
          <p:spPr>
            <a:xfrm>
              <a:off x="7081920" y="3320280"/>
              <a:ext cx="1990080" cy="196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Сообщения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новост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школьной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жизн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15" descr="http://www.edukids.ru/i/logo/dnevnik.JPG"/>
          <p:cNvPicPr/>
          <p:nvPr/>
        </p:nvPicPr>
        <p:blipFill>
          <a:blip r:embed="rId1"/>
          <a:stretch/>
        </p:blipFill>
        <p:spPr>
          <a:xfrm>
            <a:off x="3576600" y="527040"/>
            <a:ext cx="1986120" cy="155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171360" y="1359360"/>
            <a:ext cx="8623440" cy="399348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ортфолио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(в широком смысле этого слов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это способ фиксирования, накопления и оценки индивидуальных достижений школьников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н относится к ряду истинных индивидуализированных оценок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риентирован не только на процесс оценивания, но и самооцени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06280" y="142920"/>
            <a:ext cx="8686800" cy="900000"/>
          </a:xfrm>
          <a:prstGeom prst="rect">
            <a:avLst/>
          </a:prstGeom>
          <a:solidFill>
            <a:srgbClr val="003399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Портфолио уча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http://gousgi.ucoz.ru/risunki/best_uch.jpg"/>
          <p:cNvPicPr/>
          <p:nvPr/>
        </p:nvPicPr>
        <p:blipFill>
          <a:blip r:embed="rId1"/>
          <a:stretch/>
        </p:blipFill>
        <p:spPr>
          <a:xfrm>
            <a:off x="6696000" y="3828960"/>
            <a:ext cx="2448000" cy="2887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06280" y="142920"/>
            <a:ext cx="8686800" cy="900000"/>
          </a:xfrm>
          <a:prstGeom prst="rect">
            <a:avLst/>
          </a:prstGeom>
          <a:solidFill>
            <a:srgbClr val="003399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Структура портфолио уча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222120" y="1266120"/>
            <a:ext cx="8083800" cy="33858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Индивидуальная накопительная рабочая папка включает в себя: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итульный лист (обложку);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 блок «Мой портрет»;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I блок «Портфолио документов»;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I блок «Учебные достижения»;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V блок «Спортивные достижения»;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 блок «Творческие достижения»;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I блок «Общественная жизнь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http://edu.mari.ru/mouo-gornomari/sh10/DocLib/f20090918141730-student.jpg"/>
          <p:cNvPicPr/>
          <p:nvPr/>
        </p:nvPicPr>
        <p:blipFill>
          <a:blip r:embed="rId1"/>
          <a:stretch/>
        </p:blipFill>
        <p:spPr>
          <a:xfrm>
            <a:off x="6153120" y="2940120"/>
            <a:ext cx="2990880" cy="3917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52280" y="139680"/>
            <a:ext cx="8686800" cy="900000"/>
          </a:xfrm>
          <a:prstGeom prst="rect">
            <a:avLst/>
          </a:prstGeom>
          <a:solidFill>
            <a:srgbClr val="003399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блок «Мой портр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222120" y="1273680"/>
            <a:ext cx="8528040" cy="478656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Информация об учащемся включает в себ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личные данные (фамилия, имя, отчество, дата рожд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фотограф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ведения о семь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автобиограф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оя шко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ои учи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характеристики, составленные  классным руководителем, психологом, родител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52280" y="139680"/>
            <a:ext cx="8686800" cy="900000"/>
          </a:xfrm>
          <a:prstGeom prst="rect">
            <a:avLst/>
          </a:prstGeom>
          <a:solidFill>
            <a:srgbClr val="003399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 блок «Портфолио докумен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222120" y="1254240"/>
            <a:ext cx="8572680" cy="94716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еречень представленных в порфолио доку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формляется в виде таблиц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16000" y="2487600"/>
          <a:ext cx="8578800" cy="2408400"/>
        </p:xfrm>
        <a:graphic>
          <a:graphicData uri="http://schemas.openxmlformats.org/drawingml/2006/table">
            <a:tbl>
              <a:tblPr/>
              <a:tblGrid>
                <a:gridCol w="625320"/>
                <a:gridCol w="5094360"/>
                <a:gridCol w="28591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официального докумен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емя и место его пол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52280" y="139680"/>
            <a:ext cx="8686800" cy="900000"/>
          </a:xfrm>
          <a:prstGeom prst="rect">
            <a:avLst/>
          </a:prstGeom>
          <a:solidFill>
            <a:srgbClr val="003399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 блок «Учебные достиж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171360" y="1144800"/>
            <a:ext cx="8750520" cy="563976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полняется сертификатами, грамотами, дипломами, подтверждающими участие в различных конкурсах, олимпиадах по образовательным предме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Участие в школьных и районных предметных олимпиадах может быть подтверждено справкой из образовательного учреждения (в случае отсутствия других документ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 этот блок помещаются материалы (проекты, самостоятельные работы) связанные с образовательным процес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акже следует предоставить сведения о текущей успеваемости (табели, грамоты, похвальные лист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Diagram 11"/>
          <p:cNvGrpSpPr/>
          <p:nvPr/>
        </p:nvGrpSpPr>
        <p:grpSpPr>
          <a:xfrm>
            <a:off x="1304280" y="176760"/>
            <a:ext cx="6539400" cy="6464880"/>
            <a:chOff x="1304280" y="176760"/>
            <a:chExt cx="6539400" cy="6464880"/>
          </a:xfrm>
        </p:grpSpPr>
        <p:sp>
          <p:nvSpPr>
            <p:cNvPr id="52" name="_s1028"/>
            <p:cNvSpPr/>
            <p:nvPr/>
          </p:nvSpPr>
          <p:spPr>
            <a:xfrm flipH="1" flipV="1">
              <a:off x="3266280" y="2487240"/>
              <a:ext cx="656640" cy="525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29"/>
            <p:cNvSpPr/>
            <p:nvPr/>
          </p:nvSpPr>
          <p:spPr>
            <a:xfrm>
              <a:off x="1784880" y="1127520"/>
              <a:ext cx="1667160" cy="1679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ще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соц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ет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0"/>
            <p:cNvSpPr/>
            <p:nvPr/>
          </p:nvSpPr>
          <p:spPr>
            <a:xfrm flipH="1">
              <a:off x="2946600" y="3719880"/>
              <a:ext cx="817200" cy="189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1"/>
            <p:cNvSpPr/>
            <p:nvPr/>
          </p:nvSpPr>
          <p:spPr>
            <a:xfrm>
              <a:off x="1304280" y="3256200"/>
              <a:ext cx="1666440" cy="1679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Электро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нев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2"/>
            <p:cNvSpPr/>
            <p:nvPr/>
          </p:nvSpPr>
          <p:spPr>
            <a:xfrm flipH="1">
              <a:off x="3850920" y="4286520"/>
              <a:ext cx="361440" cy="76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3"/>
            <p:cNvSpPr/>
            <p:nvPr/>
          </p:nvSpPr>
          <p:spPr>
            <a:xfrm>
              <a:off x="2656800" y="4962600"/>
              <a:ext cx="1667160" cy="1679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Электрон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ерс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чебник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4"/>
            <p:cNvSpPr/>
            <p:nvPr/>
          </p:nvSpPr>
          <p:spPr>
            <a:xfrm>
              <a:off x="4933440" y="4286520"/>
              <a:ext cx="363960" cy="758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5"/>
            <p:cNvSpPr/>
            <p:nvPr/>
          </p:nvSpPr>
          <p:spPr>
            <a:xfrm>
              <a:off x="4824360" y="4962600"/>
              <a:ext cx="1667160" cy="1679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учающ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ай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он-лайн тесты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ЭОР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идео-урок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6"/>
            <p:cNvSpPr/>
            <p:nvPr/>
          </p:nvSpPr>
          <p:spPr>
            <a:xfrm>
              <a:off x="5381640" y="3717720"/>
              <a:ext cx="817200" cy="186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7"/>
            <p:cNvSpPr/>
            <p:nvPr/>
          </p:nvSpPr>
          <p:spPr>
            <a:xfrm>
              <a:off x="6177240" y="3256200"/>
              <a:ext cx="1666440" cy="16790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смот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ильм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8"/>
            <p:cNvSpPr/>
            <p:nvPr/>
          </p:nvSpPr>
          <p:spPr>
            <a:xfrm flipV="1">
              <a:off x="5220720" y="2484360"/>
              <a:ext cx="654120" cy="52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9"/>
            <p:cNvSpPr/>
            <p:nvPr/>
          </p:nvSpPr>
          <p:spPr>
            <a:xfrm>
              <a:off x="5694120" y="1125360"/>
              <a:ext cx="1666440" cy="167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оспроиз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де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узы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40"/>
            <p:cNvSpPr/>
            <p:nvPr/>
          </p:nvSpPr>
          <p:spPr>
            <a:xfrm flipV="1">
              <a:off x="4571640" y="1853640"/>
              <a:ext cx="0" cy="842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41"/>
            <p:cNvSpPr/>
            <p:nvPr/>
          </p:nvSpPr>
          <p:spPr>
            <a:xfrm>
              <a:off x="3739320" y="176760"/>
              <a:ext cx="1667160" cy="16790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мпью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р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г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2"/>
            <p:cNvSpPr/>
            <p:nvPr/>
          </p:nvSpPr>
          <p:spPr>
            <a:xfrm>
              <a:off x="3739320" y="2697120"/>
              <a:ext cx="1667160" cy="16790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66"/>
                  </a:solidFill>
                  <a:latin typeface="Arial"/>
                </a:rPr>
                <a:t>Компьютер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66"/>
                  </a:solidFill>
                  <a:latin typeface="Arial"/>
                </a:rPr>
                <a:t>в жизни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66"/>
                  </a:solidFill>
                  <a:latin typeface="Arial"/>
                </a:rPr>
                <a:t>школьник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52280" y="139680"/>
            <a:ext cx="8686800" cy="900000"/>
          </a:xfrm>
          <a:prstGeom prst="rect">
            <a:avLst/>
          </a:prstGeom>
          <a:solidFill>
            <a:srgbClr val="003399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лок «Спортивные достиж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222120" y="1263240"/>
            <a:ext cx="8572680" cy="265356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полняется благодарностями, грамотами, дипломами, подтверждающими участие в спортивных соревнованиях, конкурсах, олимпиад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Информацию о спортивной карьере можно оформить в виде эссе с фотограф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us.123rf.com/400wm/400/400/Mr_Vector/Mr_Vector0906/Mr_Vector090600333/4961651-award-cup-vector.jpg"/>
          <p:cNvPicPr/>
          <p:nvPr/>
        </p:nvPicPr>
        <p:blipFill>
          <a:blip r:embed="rId1"/>
          <a:stretch/>
        </p:blipFill>
        <p:spPr>
          <a:xfrm>
            <a:off x="2927520" y="4011480"/>
            <a:ext cx="2889000" cy="2846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52280" y="139680"/>
            <a:ext cx="8686800" cy="900000"/>
          </a:xfrm>
          <a:prstGeom prst="rect">
            <a:avLst/>
          </a:prstGeom>
          <a:solidFill>
            <a:srgbClr val="003399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лок «Творческие достиж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222120" y="1263240"/>
            <a:ext cx="8572680" cy="265356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полняется сертификатами, грамотами, дипломами, благодарностями, подтверждающими участие в творческих конкур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ледует представить свои работы в виде фотографий с описанием техники исполнения, ФИО руководителя, годом соз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arstyle.org/uploads/posts/2010-01/1262515269_1240751883_paint_vector-3.jpg"/>
          <p:cNvPicPr/>
          <p:nvPr/>
        </p:nvPicPr>
        <p:blipFill>
          <a:blip r:embed="rId1"/>
          <a:srcRect l="0" t="0" r="0" b="16989"/>
          <a:stretch/>
        </p:blipFill>
        <p:spPr>
          <a:xfrm>
            <a:off x="4483080" y="4059360"/>
            <a:ext cx="4051440" cy="279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52280" y="139680"/>
            <a:ext cx="8686800" cy="900000"/>
          </a:xfrm>
          <a:prstGeom prst="rect">
            <a:avLst/>
          </a:prstGeom>
          <a:solidFill>
            <a:srgbClr val="003399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блок «Общественная жизн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222120" y="1256040"/>
            <a:ext cx="8572680" cy="137376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полняется  грамотами, дипломами, благодарностями, подтверждающими участие в общественной жизни класса, школы, района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pixelbrush.ru/uploads/posts/2010-08/1282899687_fun_kids_vector.jpg"/>
          <p:cNvPicPr/>
          <p:nvPr/>
        </p:nvPicPr>
        <p:blipFill>
          <a:blip r:embed="rId1"/>
          <a:stretch/>
        </p:blipFill>
        <p:spPr>
          <a:xfrm>
            <a:off x="1994040" y="2895480"/>
            <a:ext cx="5111640" cy="378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rcRect l="7231" t="2857" r="32601" b="31624"/>
          <a:stretch/>
        </p:blipFill>
        <p:spPr>
          <a:xfrm>
            <a:off x="880920" y="233280"/>
            <a:ext cx="7336080" cy="63914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2"/>
          <p:cNvSpPr/>
          <p:nvPr/>
        </p:nvSpPr>
        <p:spPr>
          <a:xfrm>
            <a:off x="162000" y="3244680"/>
            <a:ext cx="8820000" cy="123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7030a0"/>
                </a:solidFill>
                <a:latin typeface="Arial"/>
              </a:rPr>
              <a:t>http://nsportal.ru/ap/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4920" y="2984400"/>
            <a:ext cx="8686800" cy="900360"/>
          </a:xfrm>
          <a:prstGeom prst="rect">
            <a:avLst/>
          </a:prstGeom>
          <a:solidFill>
            <a:srgbClr val="003399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ационные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836640" y="98280"/>
            <a:ext cx="7651800" cy="586080"/>
          </a:xfrm>
          <a:prstGeom prst="rect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стирование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22360" y="1039320"/>
            <a:ext cx="8191440" cy="3385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cc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66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играешь в компьютерные иг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часто ты играешь в компьютерные иг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омпьютерные игры ты предпочита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находятся компьютерные игры, в котор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игра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ют ли твои родители о том, что ты играе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как часто ты это дела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ют ли у тебя с родителями конфлик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-за компьютерных иг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rcRect l="8096" t="23001" r="73344" b="59002"/>
          <a:stretch/>
        </p:blipFill>
        <p:spPr>
          <a:xfrm>
            <a:off x="162000" y="142920"/>
            <a:ext cx="4724280" cy="286380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7"/>
          <p:cNvGrpSpPr/>
          <p:nvPr/>
        </p:nvGrpSpPr>
        <p:grpSpPr>
          <a:xfrm>
            <a:off x="162000" y="3114720"/>
            <a:ext cx="8730720" cy="3193560"/>
            <a:chOff x="162000" y="3114720"/>
            <a:chExt cx="8730720" cy="3193560"/>
          </a:xfrm>
        </p:grpSpPr>
        <p:pic>
          <p:nvPicPr>
            <p:cNvPr id="71" name="Picture 5" descr=""/>
            <p:cNvPicPr/>
            <p:nvPr/>
          </p:nvPicPr>
          <p:blipFill>
            <a:blip r:embed="rId2"/>
            <a:srcRect l="7531" t="46859" r="51688" b="32448"/>
            <a:stretch/>
          </p:blipFill>
          <p:spPr>
            <a:xfrm>
              <a:off x="162000" y="3114720"/>
              <a:ext cx="8306640" cy="31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6" descr=""/>
            <p:cNvPicPr/>
            <p:nvPr/>
          </p:nvPicPr>
          <p:blipFill>
            <a:blip r:embed="rId3"/>
            <a:srcRect l="81946" t="46859" r="15973" b="32448"/>
            <a:stretch/>
          </p:blipFill>
          <p:spPr>
            <a:xfrm>
              <a:off x="8468640" y="3114720"/>
              <a:ext cx="424080" cy="3193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6"/>
          <p:cNvGrpSpPr/>
          <p:nvPr/>
        </p:nvGrpSpPr>
        <p:grpSpPr>
          <a:xfrm>
            <a:off x="115920" y="728640"/>
            <a:ext cx="8865720" cy="5444640"/>
            <a:chOff x="115920" y="728640"/>
            <a:chExt cx="8865720" cy="5444640"/>
          </a:xfrm>
        </p:grpSpPr>
        <p:pic>
          <p:nvPicPr>
            <p:cNvPr id="74" name="Picture 4" descr=""/>
            <p:cNvPicPr/>
            <p:nvPr/>
          </p:nvPicPr>
          <p:blipFill>
            <a:blip r:embed="rId1"/>
            <a:srcRect l="7817" t="26605" r="41569" b="20301"/>
            <a:stretch/>
          </p:blipFill>
          <p:spPr>
            <a:xfrm>
              <a:off x="115920" y="728640"/>
              <a:ext cx="8442360" cy="54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5" descr=""/>
            <p:cNvPicPr/>
            <p:nvPr/>
          </p:nvPicPr>
          <p:blipFill>
            <a:blip r:embed="rId2"/>
            <a:srcRect l="83474" t="26605" r="13991" b="20301"/>
            <a:stretch/>
          </p:blipFill>
          <p:spPr>
            <a:xfrm>
              <a:off x="8558280" y="728640"/>
              <a:ext cx="423360" cy="5444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7"/>
          <p:cNvGrpSpPr/>
          <p:nvPr/>
        </p:nvGrpSpPr>
        <p:grpSpPr>
          <a:xfrm>
            <a:off x="71280" y="684360"/>
            <a:ext cx="9028440" cy="5398920"/>
            <a:chOff x="71280" y="684360"/>
            <a:chExt cx="9028440" cy="5398920"/>
          </a:xfrm>
        </p:grpSpPr>
        <p:pic>
          <p:nvPicPr>
            <p:cNvPr id="77" name="Picture 4" descr=""/>
            <p:cNvPicPr/>
            <p:nvPr/>
          </p:nvPicPr>
          <p:blipFill>
            <a:blip r:embed="rId1"/>
            <a:srcRect l="84594" t="19397" r="13433" b="27955"/>
            <a:stretch/>
          </p:blipFill>
          <p:spPr>
            <a:xfrm>
              <a:off x="8775720" y="684360"/>
              <a:ext cx="324000" cy="539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5" descr=""/>
            <p:cNvPicPr/>
            <p:nvPr/>
          </p:nvPicPr>
          <p:blipFill>
            <a:blip r:embed="rId2"/>
            <a:srcRect l="8096" t="19397" r="38741" b="27955"/>
            <a:stretch/>
          </p:blipFill>
          <p:spPr>
            <a:xfrm>
              <a:off x="71280" y="684360"/>
              <a:ext cx="8704440" cy="5398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1280" y="142920"/>
            <a:ext cx="8229600" cy="768240"/>
          </a:xfrm>
          <a:prstGeom prst="rect">
            <a:avLst/>
          </a:prstGeom>
          <a:solidFill>
            <a:srgbClr val="000080">
              <a:alpha val="7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Положительный эффект компьютерных иг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2000" y="1088640"/>
            <a:ext cx="8686800" cy="55897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В разумных пределах времени игры дают возможность активной эмоциональной разряд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Компьютерные игры используются как средство помощи людям с нарушениями навыков письменной речи, в связи с трудностями обучения, нарушениями пространственного различения, для компенсации речевых нарушений, улучшения координации движений, диагностики дисфункций памяти, пространственных способ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Если человек предпочитает агрессивные игры, это значит, что он стремится преодолеть страх перед каким-то явлением или человеком. Это предположение отражает аналогичную связь с обычными играми, в которых человек может бить, рв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Также компьютерные игры способствуют развитию творческого мышления, овладению новыми знаниями, логическими операциями, дают представление о способах манипулирования с предметами и симво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142920"/>
            <a:ext cx="8686800" cy="900000"/>
          </a:xfrm>
          <a:prstGeom prst="rect">
            <a:avLst/>
          </a:prstGeom>
          <a:solidFill>
            <a:srgbClr val="003399">
              <a:alpha val="7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Негативные последствия компьютерных иг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7000" y="1224000"/>
            <a:ext cx="8550000" cy="488952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Личностные изменения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приобретение психологических трудностей: в общении, во взаимопонимании и др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замкнутость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малая приспособленность к жизни в реальном ми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проблемы в учебе, рабо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проблемы со здоровьем: могут возникнуть приступы, индуцированные графикой, частотой мелькания изображения; проблемы с осанкой: мышечное напряжение и деформация позвоночника; спазмы мускулатуры лица, головные боли, получившие название «синдром видеоигровой эпилепсии», в связи со световым мельканием на компьютерном дисплее, что навязывает свой ритм коре головного моз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522360" y="189000"/>
            <a:ext cx="8229600" cy="728640"/>
          </a:xfrm>
          <a:prstGeom prst="rect">
            <a:avLst/>
          </a:prstGeom>
          <a:solidFill>
            <a:srgbClr val="003399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Решение ес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41280" y="1133640"/>
            <a:ext cx="8424720" cy="546408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Компьютерные игры полезны до тех пор, пока не мешают вашей жизни…Но если вы чувствуете, что виртуальность поглощает» вас, привносит трудности в реальную жизнь, то поймите, какую игру вы предпочитаете, в чем ее специфика, какую цель вы преследуете играя в 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Человек, живущий в гармонии с собой и окружающими, с наименьшей вероятностью обратится к ролевым компьютерным иг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Существует масса полезных игр. Играйте в игры с пользой для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Общение с родственниками, друзьями, увлечение спортом, активная деятельность, самореализация и саморазвитие затмевают увлеченность компьютерными 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Знайте, что человеку, которому интересен реальный мир, не потребуется обращаться к виртуальном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9:43:54Z</dcterms:created>
  <dc:creator>Admin</dc:creator>
  <dc:description/>
  <dc:language>en-US</dc:language>
  <cp:lastModifiedBy>SCHOOL15</cp:lastModifiedBy>
  <dcterms:modified xsi:type="dcterms:W3CDTF">2015-02-28T07:48:34Z</dcterms:modified>
  <cp:revision>12</cp:revision>
  <dc:subject/>
  <dc:title>Инфо</dc:title>
</cp:coreProperties>
</file>