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9E08-CEE2-4356-B5AA-A4DAA4BF1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45A-0498-4E46-81F3-11CB0D80F3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0B3-338D-46F5-882E-2A4575EE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5E8-07AA-449E-AD47-69669693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35A-299B-4AD5-A4DF-6BD5F01D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6F8-8EE0-41AA-9B1D-6DE56752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14FF-B44B-4418-82F4-711CCC58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E548-FB3A-4990-9D06-515E4BA3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77B4-4894-4D20-B2BF-D6983487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CD6-D72D-4794-B5C8-508B0FC4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440B-5D1A-4E86-8C3D-4C435970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FEB8-1035-4F3E-9712-7E4E4DB4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7EF7-14A1-482A-B806-59D8D6B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8D5-BBF1-4CCC-B507-DB0F9BE7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657E-B770-491F-A088-A6517A0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E603-01ED-4CEE-8044-DED0CEC8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1840-6969-42DB-BF4B-374E9487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1161-E278-49D7-8404-8404D43F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91D0-0B57-45DE-83D9-C4FB6C7E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F2C4-938D-47BA-AA6D-EC8587BB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C848-BC94-4ED8-9E74-AE9B3017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9151-C8C0-4712-9727-11E95E2A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D7FD-B523-4EDB-BF8E-8BC56D6A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8FD0-BBAA-4CF8-BB2E-3A777BF7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EE4-B8B9-40E0-B80A-FD5016F2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C68D-B8E8-4228-9A74-721EC37A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15FD-993F-41BA-98FC-5E088E89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046D-0DB9-47AB-8847-8678DE2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C6F2-8460-4D10-BBAD-F0D1D2F7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EA37-3D0C-4431-9634-4C692445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AB39-DA40-4A53-96C0-D2476945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A9B7-1D30-4514-B712-4E4EDC3E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04829-2660-4957-9188-D41BF1D3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DED4-D5B2-43D3-B767-0E67611C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9F925-306C-4E08-A1FC-D55B01F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D14-A4E1-49C7-A61F-05A419B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DABEC-A981-4773-8F4F-0B703E03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60A8-A6FD-48E6-9922-C6B246EA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A6AD1-CEF9-4329-B3A5-FE1477C1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D257-346F-4E2F-8512-B3800433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E91A-25EF-46A0-A273-87513D9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343F-AE61-4B65-A5E4-5015ADD0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F242-A705-4E9A-908A-88889CFB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8827-3178-45AE-B58E-58E86308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2B73-A168-4604-AF7A-A71B7704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2F5-1728-49B4-AB5A-80F0ABCB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997-3F7D-4F4D-9AAC-904A210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0BC-EBEF-4A78-988A-55B5A65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010-C88E-4201-9F9D-48B6BEA3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820-C26D-4D44-966A-6FCB47E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C561-2935-4EB7-B7CB-022F43801A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76BD-0A62-4026-974C-4B3AB7D545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FBA5-F04D-4B86-8722-34EFA8CE7E2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D52-235A-49DC-ACAF-65F8F89E5EA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584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5867280" y="5877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Володина Ю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46040" y="1628640"/>
            <a:ext cx="79423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гол между высотами параллелограмма, проведёнными из вершины острого угла, равен 120 градусов. Найти острый угол параллелограм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0"/>
          <p:cNvSpPr/>
          <p:nvPr/>
        </p:nvSpPr>
        <p:spPr>
          <a:xfrm>
            <a:off x="1116000" y="3933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0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рона ромба АВ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авна 10см, его диагонали пересекаются в точке О. Угол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D=6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градусов. Найти В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авнобедренной трапеци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CD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меньшее основание ВС=10см, большее основани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=2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м. ВК – высота трапеции. Угол АВК=30 градусов. Найти боковую сторону трапе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971640" y="4581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рона ромба 10см, а его острый угол 60 градусов. Найти меньшую диагональ ромб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авнобедренной трапеци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CD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меньшее основани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10см. ВК – высота трапеции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D=2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м. Найт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0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лько корней может иметь уравнени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x=1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ли один (а не равно 0), или ни одного (а=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авнить 2 числ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116000" y="3357720"/>
            <a:ext cx="648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ое больше второго, так как первое больше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"/>
          <p:cNvPicPr/>
          <p:nvPr/>
        </p:nvPicPr>
        <p:blipFill>
          <a:blip r:embed="rId3"/>
          <a:stretch/>
        </p:blipFill>
        <p:spPr>
          <a:xfrm>
            <a:off x="3924360" y="1725480"/>
            <a:ext cx="241776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равнения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x-6=0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x+a=1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еют общий корень. Найти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= -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ите пример алгебраического выражения с переменной х, которая не имеет смысла при  х=5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1116000" y="3357720"/>
            <a:ext cx="648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4617b"/>
                </a:solidFill>
                <a:uFillTx/>
                <a:latin typeface="Constant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х=5, знаменатель дроби должен обращаться 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уль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каком а, уравнени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имеет корней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= -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137200" y="1700280"/>
            <a:ext cx="26035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835280" y="1052640"/>
          <a:ext cx="7056360" cy="5424480"/>
        </p:xfrm>
        <a:graphic>
          <a:graphicData uri="http://schemas.openxmlformats.org/drawingml/2006/table">
            <a:tbl>
              <a:tblPr/>
              <a:tblGrid>
                <a:gridCol w="1152360"/>
                <a:gridCol w="1200240"/>
                <a:gridCol w="1174680"/>
                <a:gridCol w="1176480"/>
                <a:gridCol w="1176120"/>
                <a:gridCol w="1176480"/>
              </a:tblGrid>
              <a:tr h="87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0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3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4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5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6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7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8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9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0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1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2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3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4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0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5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6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7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8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9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0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3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4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5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24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36" action="ppaction://hlinksldjump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9280" y="1052640"/>
          <a:ext cx="1679760" cy="5400720"/>
        </p:xfrm>
        <a:graphic>
          <a:graphicData uri="http://schemas.openxmlformats.org/drawingml/2006/table">
            <a:tbl>
              <a:tblPr/>
              <a:tblGrid>
                <a:gridCol w="1679760"/>
              </a:tblGrid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еометрия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еометрия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лгебра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лгебра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рифм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шите уравнение: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5/3;  0; 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4367160" y="1773360"/>
            <a:ext cx="3517920" cy="3967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каких а любое число является решением неравенства ах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а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шите неравенство:                        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1116000" y="3357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3"/>
          <a:stretch/>
        </p:blipFill>
        <p:spPr>
          <a:xfrm>
            <a:off x="4708440" y="1725480"/>
            <a:ext cx="1951200" cy="4082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4"/>
          <a:stretch/>
        </p:blipFill>
        <p:spPr>
          <a:xfrm>
            <a:off x="2556000" y="3403440"/>
            <a:ext cx="7207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каких х                        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х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0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3"/>
          <a:stretch/>
        </p:blipFill>
        <p:spPr>
          <a:xfrm>
            <a:off x="3492360" y="1484280"/>
            <a:ext cx="1366920" cy="808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из неравенств                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меют одинаковые множества решени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042920" y="41497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вое и последнее. (х – любое чис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1221120" cy="4064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3"/>
          <p:cNvSpPr/>
          <p:nvPr/>
        </p:nvSpPr>
        <p:spPr>
          <a:xfrm>
            <a:off x="4481640" y="-130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4"/>
          <a:stretch/>
        </p:blipFill>
        <p:spPr>
          <a:xfrm>
            <a:off x="4643280" y="2014560"/>
            <a:ext cx="916200" cy="4064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5"/>
          <a:stretch/>
        </p:blipFill>
        <p:spPr>
          <a:xfrm>
            <a:off x="4643280" y="2446200"/>
            <a:ext cx="1138320" cy="4064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их границах заключено значение выражения            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3"/>
          <a:stretch/>
        </p:blipFill>
        <p:spPr>
          <a:xfrm>
            <a:off x="1116000" y="1628640"/>
            <a:ext cx="1133640" cy="5050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4"/>
          <a:stretch/>
        </p:blipFill>
        <p:spPr>
          <a:xfrm>
            <a:off x="4711680" y="2178000"/>
            <a:ext cx="939960" cy="4590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5"/>
          <a:stretch/>
        </p:blipFill>
        <p:spPr>
          <a:xfrm>
            <a:off x="2195640" y="3429000"/>
            <a:ext cx="108108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гебра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каких а множество решений системы 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содержит ровно 3 целых числа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 :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944640" cy="7192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4"/>
          <a:stretch/>
        </p:blipFill>
        <p:spPr>
          <a:xfrm>
            <a:off x="2346480" y="3429000"/>
            <a:ext cx="1361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ифме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жет ли сумма чисел а 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быть меньше их же разнос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7"/>
          <p:cNvSpPr/>
          <p:nvPr/>
        </p:nvSpPr>
        <p:spPr>
          <a:xfrm>
            <a:off x="1116000" y="3357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, если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&lt;0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ифме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жет ли чётное число быть просты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: это число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ифме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больше: сумма всех цифр или их произведение?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1116000" y="3357720"/>
            <a:ext cx="648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ше сумма, так как произведение равно 0 (один из множителей - это цифра 0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ин из смежных углов в два раза больше другого. Найти угл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0 и 120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ифме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исло а=128; Сумма чисел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елится на 4. Каким должно быть число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но должно делиться на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ифме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жет ли сумма квадратов двух чисел быть меньше суммы этих чисе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6875640" y="5877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1116000" y="3357720"/>
            <a:ext cx="648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, если эти числа по модулю меньше еди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ифме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шадь и овца съедают запас сена за 8 дней. Лошадь в одиночку съедает его за 12 дней. За сколько дней съест запас сена одна овц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Стрелка влево 3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6875640" y="5877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"/>
          <p:cNvSpPr/>
          <p:nvPr/>
        </p:nvSpPr>
        <p:spPr>
          <a:xfrm>
            <a:off x="1116000" y="3860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 24 дня.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ог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лько тракторов можно собрать, если имеется 102 маленьких колеса, 114 больших и 132 рул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875640" y="5877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и од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ог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тот день в классе было 24 человека. Когда ученики писали контрольную работу, то они по мере завершения клали тетради в стопку одна на другую. Петя сдал тетрадь пятым по счёту. Каким по счёту его тетрадь проверят, если считать, что учитель проверяет тетрадь сверху стопки и строго по порядк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6875640" y="5877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900000" y="5805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тину тетрадь проверят 19-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ог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мы смотрим на цифру «2», а говорим «десять»?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6875640" y="5877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1116000" y="3357720"/>
            <a:ext cx="648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гда смотрим на часы, которые показывают десять минут в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ог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лько раз из чертовой дюжины можно вычесть число тр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6875640" y="5877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1116000" y="3357720"/>
            <a:ext cx="6480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чертовой дюжины число три удается вычесть лишь один раз, первый, так как любое следующее вычитание будет производиться из меньшего числ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ог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этой решетке так уберите 6 спичек, не перекладывая остальных, чтобы осталось всего 3 квадра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"/>
          <p:cNvSpPr/>
          <p:nvPr/>
        </p:nvSpPr>
        <p:spPr>
          <a:xfrm>
            <a:off x="6875640" y="5877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900000" y="4724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" descr="C:\Users\NaSti\Desktop\answer_match_04_2.jpg"/>
          <p:cNvPicPr/>
          <p:nvPr/>
        </p:nvPicPr>
        <p:blipFill>
          <a:blip r:embed="rId1"/>
          <a:stretch/>
        </p:blipFill>
        <p:spPr>
          <a:xfrm>
            <a:off x="2124000" y="4005360"/>
            <a:ext cx="2448000" cy="252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NaSti\Desktop\answer_match_04_1.jpg"/>
          <p:cNvPicPr/>
          <p:nvPr/>
        </p:nvPicPr>
        <p:blipFill>
          <a:blip r:embed="rId2"/>
          <a:stretch/>
        </p:blipFill>
        <p:spPr>
          <a:xfrm>
            <a:off x="5435640" y="2781360"/>
            <a:ext cx="17287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ог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яц и черепаха стартовали из одной точки в одном направлении (скорость зайца больше). Когда черепаха доползла до пункта А, заяц был сзади неё. Как такое могло произой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5"/>
          <p:cNvSpPr/>
          <p:nvPr/>
        </p:nvSpPr>
        <p:spPr>
          <a:xfrm>
            <a:off x="6875640" y="5877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6"/>
          <p:cNvSpPr/>
          <p:nvPr/>
        </p:nvSpPr>
        <p:spPr>
          <a:xfrm>
            <a:off x="1116000" y="4365720"/>
            <a:ext cx="648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движении по кругу. Черепаха была на первом круге, а заяц уже на в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а угла, образованные при пересечении двух прямых, относятся как 2:7. Найти все угл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я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0, 40, 140, 140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5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треугольниках АВС и МЕК стороны АВ и ВС равны соответственно сторонам МЕ и ЕК. Равна ли сторона АС стороне М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116000" y="3357720"/>
            <a:ext cx="648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т, так как не указано, что треугольники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чка С лежит между точкам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точка В лежит между точками С и А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C=CB; DB=8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CA=1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ти А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гут ли быть параллельными прямые АВ и АС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116000" y="33577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т, так как у них есть одна общая точка -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роны одного треугольника 30см, 40см, 0.5 м. Стороны другого треугольника 3дм, 5дм, 400мм. Равны ли эти треугольник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116000" y="33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, по трём стор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ометрия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мма углов правильного многоугольника равна 720 градусов. Один из его углов равен 120 градусов. Найдите количество сторон этого многоугольн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Стрелка влево 4"/>
          <p:cNvSpPr/>
          <p:nvPr/>
        </p:nvSpPr>
        <p:spPr>
          <a:xfrm>
            <a:off x="6516720" y="5805360"/>
            <a:ext cx="1871640" cy="5763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>
            <a:hlinkClick r:id="rId1" action="ppaction://hlinksldjump"/>
          </p:cNvPr>
          <p:cNvSpPr/>
          <p:nvPr/>
        </p:nvSpPr>
        <p:spPr>
          <a:xfrm>
            <a:off x="6875640" y="5877000"/>
            <a:ext cx="194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116000" y="3933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вет</a:t>
            </a: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7:55:07Z</dcterms:created>
  <dc:creator>NaSti</dc:creator>
  <dc:description/>
  <dc:language>en-US</dc:language>
  <cp:lastModifiedBy>Nasti</cp:lastModifiedBy>
  <dcterms:modified xsi:type="dcterms:W3CDTF">2015-02-28T12:09:32Z</dcterms:modified>
  <cp:revision>28</cp:revision>
  <dc:subject/>
  <dc:title>Самый умный</dc:title>
</cp:coreProperties>
</file>