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0B2-9EE0-452A-BDA5-A6D83604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4FE-F228-4EBF-9883-437FEDE4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01E-041F-4932-B3A0-AE778FF6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699-34E9-4425-AA91-2E763E29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B52-537D-414D-A4F9-6907814D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01C-189C-4A2B-A999-6C0C8A3E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7EF-C889-4F91-8B41-37A1499D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195-8B1C-4452-9F98-DC75F82D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936-7885-46B0-B044-D9615F35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234-FA17-4468-8E25-7B173003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294-42B5-4A34-A636-C460F2A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9D4-0D24-4D8C-A2A2-3320166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E114-66D7-4325-BCF8-DC0D851BE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остная мышечная двигательная систем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1125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порно - двига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835280" y="692280"/>
          <a:ext cx="2592360" cy="62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92280"/>
                    <a:ext cx="2592360" cy="62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 txBox="1"/>
          <p:nvPr/>
        </p:nvSpPr>
        <p:spPr>
          <a:xfrm>
            <a:off x="324000" y="-9360"/>
            <a:ext cx="8208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ерхняя конечность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8520" y="11970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юч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8160" y="1844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720" y="27082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ечев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7080" y="393372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октев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360" y="472428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учев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800" y="53006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сти запяс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5805360"/>
            <a:ext cx="21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сти пяс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9600" y="623736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ланги па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1125360"/>
            <a:ext cx="144360" cy="115128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5"/>
                </a:lnTo>
                <a:cubicBezTo>
                  <a:pt x="10800" y="9915"/>
                  <a:pt x="16200" y="10815"/>
                  <a:pt x="21600" y="10815"/>
                </a:cubicBezTo>
                <a:cubicBezTo>
                  <a:pt x="16200" y="10815"/>
                  <a:pt x="10800" y="11715"/>
                  <a:pt x="10800" y="1261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2360" y="1341360"/>
            <a:ext cx="166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яс верх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708360" y="1197000"/>
          <a:ext cx="115272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197000"/>
                    <a:ext cx="1152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 txBox="1"/>
          <p:nvPr/>
        </p:nvSpPr>
        <p:spPr>
          <a:xfrm>
            <a:off x="1219320" y="762120"/>
            <a:ext cx="70102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359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жняя коне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141300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зовые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9640" y="256536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дрен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5440" y="393372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ая берцо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440" y="4221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лая берцо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9440" y="48690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плю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1080" y="530064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ю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566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аланги па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50880" y="54450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яточ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13000"/>
            <a:ext cx="2879640" cy="431640"/>
          </a:xfrm>
          <a:custGeom>
            <a:avLst/>
            <a:gdLst/>
            <a:ahLst/>
            <a:rect l="l" t="t" r="r" b="b"/>
            <a:pathLst>
              <a:path w="1814" h="272">
                <a:moveTo>
                  <a:pt x="0" y="272"/>
                </a:moveTo>
                <a:lnTo>
                  <a:pt x="1360" y="272"/>
                </a:lnTo>
                <a:lnTo>
                  <a:pt x="1814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2997360"/>
            <a:ext cx="2952720" cy="360360"/>
          </a:xfrm>
          <a:custGeom>
            <a:avLst/>
            <a:gdLst/>
            <a:ahLst/>
            <a:rect l="l" t="t" r="r" b="b"/>
            <a:pathLst>
              <a:path w="1860" h="227">
                <a:moveTo>
                  <a:pt x="0" y="0"/>
                </a:moveTo>
                <a:lnTo>
                  <a:pt x="1406" y="0"/>
                </a:lnTo>
                <a:lnTo>
                  <a:pt x="1860" y="227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4365720"/>
            <a:ext cx="3889440" cy="358560"/>
          </a:xfrm>
          <a:custGeom>
            <a:avLst/>
            <a:gdLst/>
            <a:ahLst/>
            <a:rect l="l" t="t" r="r" b="b"/>
            <a:pathLst>
              <a:path w="2450" h="226">
                <a:moveTo>
                  <a:pt x="2450" y="0"/>
                </a:moveTo>
                <a:lnTo>
                  <a:pt x="363" y="0"/>
                </a:ln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653000"/>
            <a:ext cx="3600360" cy="360360"/>
          </a:xfrm>
          <a:custGeom>
            <a:avLst/>
            <a:gdLst/>
            <a:ahLst/>
            <a:rect l="l" t="t" r="r" b="b"/>
            <a:pathLst>
              <a:path w="2268" h="227">
                <a:moveTo>
                  <a:pt x="0" y="0"/>
                </a:moveTo>
                <a:lnTo>
                  <a:pt x="1860" y="0"/>
                </a:lnTo>
                <a:lnTo>
                  <a:pt x="2268" y="227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5300640"/>
            <a:ext cx="2232360" cy="649440"/>
          </a:xfrm>
          <a:custGeom>
            <a:avLst/>
            <a:gdLst/>
            <a:ahLst/>
            <a:rect l="l" t="t" r="r" b="b"/>
            <a:pathLst>
              <a:path w="1406" h="409">
                <a:moveTo>
                  <a:pt x="0" y="0"/>
                </a:moveTo>
                <a:lnTo>
                  <a:pt x="1088" y="0"/>
                </a:lnTo>
                <a:lnTo>
                  <a:pt x="1406" y="40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5734080"/>
            <a:ext cx="1800360" cy="358920"/>
          </a:xfrm>
          <a:custGeom>
            <a:avLst/>
            <a:gdLst/>
            <a:ahLst/>
            <a:rect l="l" t="t" r="r" b="b"/>
            <a:pathLst>
              <a:path w="1088" h="226">
                <a:moveTo>
                  <a:pt x="0" y="0"/>
                </a:moveTo>
                <a:lnTo>
                  <a:pt x="726" y="0"/>
                </a:lnTo>
                <a:lnTo>
                  <a:pt x="1088" y="22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6093000"/>
            <a:ext cx="2808360" cy="144360"/>
          </a:xfrm>
          <a:custGeom>
            <a:avLst/>
            <a:gdLst/>
            <a:ahLst/>
            <a:rect l="l" t="t" r="r" b="b"/>
            <a:pathLst>
              <a:path w="1769" h="91">
                <a:moveTo>
                  <a:pt x="0" y="0"/>
                </a:moveTo>
                <a:lnTo>
                  <a:pt x="1497" y="0"/>
                </a:lnTo>
                <a:lnTo>
                  <a:pt x="1769" y="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5877000"/>
            <a:ext cx="2665440" cy="144360"/>
          </a:xfrm>
          <a:custGeom>
            <a:avLst/>
            <a:gdLst/>
            <a:ahLst/>
            <a:rect l="l" t="t" r="r" b="b"/>
            <a:pathLst>
              <a:path w="1679" h="91">
                <a:moveTo>
                  <a:pt x="1679" y="0"/>
                </a:moveTo>
                <a:lnTo>
                  <a:pt x="318" y="0"/>
                </a:lnTo>
                <a:lnTo>
                  <a:pt x="0" y="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447920" y="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воноч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116000"/>
            <a:ext cx="9144000" cy="5742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90720" y="129528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040" y="251460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53341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7360" y="6019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4-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позво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строение шейных позвонков"/>
          <p:cNvPicPr/>
          <p:nvPr/>
        </p:nvPicPr>
        <p:blipFill>
          <a:blip r:embed="rId2"/>
          <a:stretch/>
        </p:blipFill>
        <p:spPr>
          <a:xfrm>
            <a:off x="0" y="147312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позво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Грудной и поясничный позвонки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единение позво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вонки соединены между собой посредством хрящей, суставов и связок. Позвоночник способен сгибаться и разгибаться, наклоняться в сторону и скручиваться. Наиболее подвижны поясничный и шейный отделы позвоно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Соединение позвонков"/>
          <p:cNvPicPr/>
          <p:nvPr/>
        </p:nvPicPr>
        <p:blipFill>
          <a:blip r:embed="rId2"/>
          <a:stretch/>
        </p:blipFill>
        <p:spPr>
          <a:xfrm>
            <a:off x="324000" y="1413000"/>
            <a:ext cx="4724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строение грудной клетки"/>
          <p:cNvPicPr/>
          <p:nvPr/>
        </p:nvPicPr>
        <p:blipFill>
          <a:blip r:embed="rId2"/>
          <a:stretch/>
        </p:blipFill>
        <p:spPr>
          <a:xfrm>
            <a:off x="0" y="0"/>
            <a:ext cx="7128000" cy="5560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5057640"/>
            <a:ext cx="770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е ребро лежит почти горизонтально. Передние концы семи пар ребер своими хрящами соединяются с грудиной. Остальные пять пар ребер не соединяются с грудиной, а восьмая, девятая и десятая пара причленяются каждая к хрящу вышележащего ребра; одиннадцатая и двенадцатая пары ребер передними концами заканчиваются свободно в мышцах. В грудной клетке располагаются сердце, легкие, трахея, пищевод, крупные сосуды и нер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д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дина - плоская кость, в которой выделяют три части: верхнюю - рукоятку, среднюю - тело и нижнюю - мечевидный отро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строение грудины"/>
          <p:cNvPicPr/>
          <p:nvPr/>
        </p:nvPicPr>
        <p:blipFill>
          <a:blip r:embed="rId2"/>
          <a:stretch/>
        </p:blipFill>
        <p:spPr>
          <a:xfrm>
            <a:off x="0" y="1413000"/>
            <a:ext cx="4022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яс верхних конеч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46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елет верхних конечностей состоит из плечевого пояса и скелета свободных верхних конечностей. Плечевой пояс состоит из пары ключиц и лопаток. Верхняя конечность (руки) слагается из плечевой кости, костей предплечья и костей кисти (кости запястья, пястья и фаланги пальцев). Ключица имеет изогнутую V-образную форму. Лопатка - треугольной формы. Суставная впадина лопатки служит для соединения с плечевой костью. Ключица соединяется с грудиной и лопаткой, может двигаться вверх и вниз, вперед и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строение скелета лопатки"/>
          <p:cNvPicPr/>
          <p:nvPr/>
        </p:nvPicPr>
        <p:blipFill>
          <a:blip r:embed="rId2"/>
          <a:stretch/>
        </p:blipFill>
        <p:spPr>
          <a:xfrm>
            <a:off x="4749840" y="1052640"/>
            <a:ext cx="439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172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зовый пояс, или таз, состоит из прочно соединенных трех костей: крестца, двух массивных тазовых костей (подвздошной и седалищной), между которыми располагается третья - лонная, срастающихся вместе после 16 лет. Лонные кости соединяются между собой при помощи хряща, внутри которого находится щелевидная полость (соединение называется полусуставом). В состав таза входит и копчиковая кость. Различают большой и малый таз. Большой таз образован крыльями подвздошных костей, а малый - лонными, седалищными костями, крестцом и копчиком. В малом тазу имеются верхнее (вход) отверстие, полость и нижнее отверстие, или вы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строение скелета таза"/>
          <p:cNvPicPr/>
          <p:nvPr/>
        </p:nvPicPr>
        <p:blipFill>
          <a:blip r:embed="rId2"/>
          <a:stretch/>
        </p:blipFill>
        <p:spPr>
          <a:xfrm>
            <a:off x="755640" y="2421000"/>
            <a:ext cx="7632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елет – целостная система, состоящая из костей, хрящей, связок, которые объединяют его в одно целое; кости могут быть соединены подвижно с помощью суставов, что позволяет позвоночным животным и человеку совершать различные движения. В отличие от наружного скелета внутренний скелет растет вместе с т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114640" y="0"/>
          <a:ext cx="37623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3762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028000" y="6237360"/>
            <a:ext cx="1116000" cy="620640"/>
          </a:xfrm>
          <a:prstGeom prst="leftArrow">
            <a:avLst>
              <a:gd name="adj1" fmla="val 50000"/>
              <a:gd name="adj2" fmla="val 449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786040" y="0"/>
          <a:ext cx="23814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6040" y="0"/>
                    <a:ext cx="2381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8028000" y="6237360"/>
            <a:ext cx="1116000" cy="620640"/>
          </a:xfrm>
          <a:prstGeom prst="leftArrow">
            <a:avLst>
              <a:gd name="adj1" fmla="val 50000"/>
              <a:gd name="adj2" fmla="val 449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708000" y="0"/>
            <a:ext cx="543564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клеточное вещество на 67% состоит из неорганических веществ, в основном из соединений кальция и фосфора. Различаю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пактное (плотное) и губчатое веществ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пактное вещест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бразовано плотно прилегающими костными пластинками, формирующими сложно организованные цилиндрические структуры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оит из перекладин (балок), образованных межклеточным веществом и расположенных дугообразно, соответственно направлениям, по которым кость испытывает давление силы тяжести и растяжение прикрепляющимися к ней мышцами. Цилиндрическое строение плотного вещества и делают ее прочной и упругой. В трубчатых костях повышению их прочности служат и различия в структуре по направлению от центра к концам. Трубчатая кость в центре отличается большей твердостью и меньшей эластичностью, чем на концах. По направлению к суставной поверхности структура трубчатой кости меняется от компактной к плотной. Такое изменение строения обеспечивает главную передачу напряжения от кости через хрящ на поверхность суста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аружи кость одета надкостницей, которую пронизывают кровеносные сосуды, питающие кость. В надкостнице имеется много чувствительных нервных окончаний, сама же кость нечувствите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сть трубчатых костей заполнена красным костным мозгом, который в течение жизни заменяется желтым (жировой тканью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костная ткань"/>
          <p:cNvPicPr/>
          <p:nvPr/>
        </p:nvPicPr>
        <p:blipFill>
          <a:blip r:embed="rId2"/>
          <a:stretch/>
        </p:blipFill>
        <p:spPr>
          <a:xfrm>
            <a:off x="0" y="0"/>
            <a:ext cx="415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95640" y="1600200"/>
            <a:ext cx="48974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й состав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213000"/>
            <a:ext cx="2592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чески в-ва (3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ок – коллаген, углеводы, лимонная кислота, фер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3141720"/>
            <a:ext cx="244800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 (1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3213000"/>
            <a:ext cx="287964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органические в-ва (6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050560" y="249228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672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050920" y="1989000"/>
            <a:ext cx="4970520" cy="4000680"/>
            <a:chOff x="2050920" y="1989000"/>
            <a:chExt cx="4970520" cy="4000680"/>
          </a:xfrm>
        </p:grpSpPr>
        <p:grpSp>
          <p:nvGrpSpPr>
            <p:cNvPr id="211" name=""/>
            <p:cNvGrpSpPr/>
            <p:nvPr/>
          </p:nvGrpSpPr>
          <p:grpSpPr>
            <a:xfrm>
              <a:off x="2268360" y="1989000"/>
              <a:ext cx="4753080" cy="4000680"/>
              <a:chOff x="2268360" y="1989000"/>
              <a:chExt cx="4753080" cy="4000680"/>
            </a:xfrm>
          </p:grpSpPr>
          <p:graphicFrame>
            <p:nvGraphicFramePr>
              <p:cNvPr id="212" name=""/>
              <p:cNvGraphicFramePr/>
              <p:nvPr/>
            </p:nvGraphicFramePr>
            <p:xfrm>
              <a:off x="2268360" y="1989000"/>
              <a:ext cx="4753080" cy="4000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1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68360" y="1989000"/>
                        <a:ext cx="4753080" cy="4000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4" name=""/>
              <p:cNvGraphicFramePr/>
              <p:nvPr/>
            </p:nvGraphicFramePr>
            <p:xfrm>
              <a:off x="6516720" y="4724280"/>
              <a:ext cx="247680" cy="2667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15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516720" y="4724280"/>
                        <a:ext cx="24768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6" name=""/>
              <p:cNvSpPr/>
              <p:nvPr/>
            </p:nvSpPr>
            <p:spPr>
              <a:xfrm flipH="1" flipV="1">
                <a:off x="5364000" y="4292280"/>
                <a:ext cx="122400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H="1">
              <a:off x="2340000" y="472428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8" name=""/>
            <p:cNvGraphicFramePr/>
            <p:nvPr/>
          </p:nvGraphicFramePr>
          <p:xfrm>
            <a:off x="2050920" y="4581360"/>
            <a:ext cx="289080" cy="2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0920" y="4581360"/>
                      <a:ext cx="289080" cy="2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"/>
          <p:cNvSpPr/>
          <p:nvPr/>
        </p:nvSpPr>
        <p:spPr>
          <a:xfrm>
            <a:off x="6734880" y="465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1800" y="1916280"/>
            <a:ext cx="28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губчатое веще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22160" y="5373720"/>
            <a:ext cx="19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кост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7440" y="5445000"/>
            <a:ext cx="31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я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компактное веще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90160" y="342900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нер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800" y="3068640"/>
            <a:ext cx="20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647640"/>
            <a:ext cx="8443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3. Органические вещества придают кости-упругость,</a:t>
            </a:r>
            <a:endParaRPr b="0" lang="en-US" sz="2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инеральные-твёрдость</a:t>
            </a:r>
            <a:endParaRPr b="0" lang="en-US" sz="2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" y="42210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Надкост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5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500"/>
                            </p:stCondLst>
                            <p:childTnLst>
                              <p:par>
                                <p:cTn id="8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000"/>
                            </p:stCondLst>
                            <p:childTnLst>
                              <p:par>
                                <p:cTn id="8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500"/>
                            </p:stCondLst>
                            <p:childTnLst>
                              <p:par>
                                <p:cTn id="8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1844640"/>
            <a:ext cx="2519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256536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уб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кости конечно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2565360"/>
            <a:ext cx="2744640" cy="84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о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кости черепа, таз, лопатк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2565360"/>
            <a:ext cx="2678040" cy="91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надколенник, запясть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860640"/>
            <a:ext cx="175248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л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красный костный моз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3860640"/>
            <a:ext cx="20178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желтый костный моз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2000" y="5229000"/>
            <a:ext cx="27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т ко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лину – мета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ирину – надкос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908000" y="2133720"/>
            <a:ext cx="1368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213372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115640" y="350028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68360" y="350028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843440"/>
            <a:ext cx="564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и рельеф костей зависят от характера прикрепления к ним мышц. Если мышца прикрепляется к кости с помощью сухожилия, то в этом месте формируется бугор, отросток или гребень. Если же мышца непосредственно сочетается с надкостницей, то образуется углуб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0" y="0"/>
            <a:ext cx="2560680" cy="121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ипы соединения к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700280"/>
            <a:ext cx="2664000" cy="1536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подвиж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единения ребер, позво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костями – хрящевая прокла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1844640"/>
            <a:ext cx="3095640" cy="15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подвиж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единения костей черепа, позвонки крестца, т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ста срастания - ш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1844640"/>
            <a:ext cx="216036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движ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единение костей конечностей – суст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ость между к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Типы соединений"/>
          <p:cNvPicPr/>
          <p:nvPr/>
        </p:nvPicPr>
        <p:blipFill>
          <a:blip r:embed="rId2"/>
          <a:stretch/>
        </p:blipFill>
        <p:spPr>
          <a:xfrm>
            <a:off x="2340000" y="3403440"/>
            <a:ext cx="4608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ст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ставы - непрерывные соединения костей, включающие следующие элементы: суставные поверхности костей, покрытые хрящом; суставную капсулу, или сумку; суставную полость; полостную жидкость. Сустав обычно укреплен связками. Суставная жидкость продуцируется клетками, выстилающими внутреннюю поверхность суставной сумки. Жидкость облегчает скольжение суставных поверхностей костей и служит питательной средой для суставного хряща. Количество полостной жидкости, заполнящей узкую щель между суставными поверхностями, очень невели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Строение сустава"/>
          <p:cNvPicPr/>
          <p:nvPr/>
        </p:nvPicPr>
        <p:blipFill>
          <a:blip r:embed="rId2"/>
          <a:stretch/>
        </p:blipFill>
        <p:spPr>
          <a:xfrm>
            <a:off x="2268360" y="3067200"/>
            <a:ext cx="45356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ставы различают по числу и форме суставных поверхностей костей и по возможному объему движений, т.е. по числу осей, вокруг которых может совершаться движение. Так, по числу поверхностей суставы подразделяют на простые (две суставные поверхности) и сложные (более двух). По форме - на плоские (межзапястные, запястно-пястные, предплюсно-плюсневые суставы), шаровидные (плечевой, тазобедренный), эллипсовидные (между затылочной костью и первым шейным позвонком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Виды суставов"/>
          <p:cNvPicPr/>
          <p:nvPr/>
        </p:nvPicPr>
        <p:blipFill>
          <a:blip r:embed="rId2"/>
          <a:stretch/>
        </p:blipFill>
        <p:spPr>
          <a:xfrm>
            <a:off x="0" y="2637000"/>
            <a:ext cx="6012000" cy="3774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Коленный сустав"/>
          <p:cNvPicPr/>
          <p:nvPr/>
        </p:nvPicPr>
        <p:blipFill>
          <a:blip r:embed="rId3"/>
          <a:stretch/>
        </p:blipFill>
        <p:spPr>
          <a:xfrm>
            <a:off x="5796000" y="2133720"/>
            <a:ext cx="336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1280" y="2924280"/>
          <a:ext cx="30193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924280"/>
                    <a:ext cx="30193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227640" y="2997360"/>
          <a:ext cx="1447920" cy="361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2997360"/>
                    <a:ext cx="14479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 txBox="1"/>
          <p:nvPr/>
        </p:nvSpPr>
        <p:spPr>
          <a:xfrm>
            <a:off x="3995640" y="1484280"/>
            <a:ext cx="12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 Д 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362320"/>
            <a:ext cx="3228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активная 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7800" y="2362320"/>
            <a:ext cx="35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ассивная 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286000" y="1828800"/>
            <a:ext cx="1565280" cy="1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435640" y="1828800"/>
            <a:ext cx="1498680" cy="1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404640"/>
            <a:ext cx="8064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. Структурно-функциональная сх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е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целостная система, состоящая из костей, хрящей, связок, которые объединяют его в одно целое; кости могут быть соединены подвижно с помощью суставов, что позволяет позвоночным животным и человеку совершать различные движения. В отличие от наружного скелета внутренний скелет растет вместе с т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ышечная сист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овокупность сократительных элементов мышечной ткани, объединенных в мышцы и связанные между собой соединительной тка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 600 скелетных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стная сист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порный остов организма, совокупность всех костей – ске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 220 к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24000" y="1628640"/>
          <a:ext cx="352584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8640"/>
                    <a:ext cx="35258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ункции активной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87640" y="1484280"/>
            <a:ext cx="409716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ормообразу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 форму и размеры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щи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ёт полости тела для защиты внутренни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вига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вает передвижение тела и его частей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Энергет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вращает химическую энергию в механическую и теплов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348000" y="1773360"/>
            <a:ext cx="1511280" cy="151128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48000" y="2636640"/>
            <a:ext cx="1511280" cy="647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284640"/>
            <a:ext cx="1511280" cy="2156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284640"/>
            <a:ext cx="1511280" cy="1368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0000" y="1341360"/>
          <a:ext cx="179064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341360"/>
                    <a:ext cx="1790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пассивной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431316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еспечивает передвижение тела и его частей в пространств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здаёт полости тела защиты внутренних орган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ообразу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пределяет форму и размеры тел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порный остов организм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етв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расный костный мозг – источник клеток кров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сти – источни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F и других минеральных вещест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413000"/>
            <a:ext cx="720720" cy="4608360"/>
          </a:xfrm>
          <a:custGeom>
            <a:avLst/>
            <a:gdLst/>
            <a:ahLst/>
            <a:rect l="l" t="t" r="r" b="b"/>
            <a:pathLst>
              <a:path w="454" h="2903">
                <a:moveTo>
                  <a:pt x="454" y="0"/>
                </a:moveTo>
                <a:lnTo>
                  <a:pt x="0" y="1451"/>
                </a:lnTo>
                <a:lnTo>
                  <a:pt x="318" y="2903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-100800" y="34945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1757160" cy="4362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990720" y="62064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bbe0e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1. скелет человека состоит из тех же отделов, </a:t>
            </a:r>
            <a:endParaRPr b="0" lang="en-US" sz="2400" spc="1" strike="noStrike">
              <a:ln w="9360">
                <a:solidFill>
                  <a:srgbClr val="009999"/>
                </a:solidFill>
                <a:miter/>
              </a:ln>
              <a:solidFill>
                <a:srgbClr val="bbe0e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bbe0e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то и скелет млекопитающих</a:t>
            </a:r>
            <a:endParaRPr b="0" lang="en-US" sz="2400" spc="1" strike="noStrike">
              <a:ln w="9360">
                <a:solidFill>
                  <a:srgbClr val="009999"/>
                </a:solidFill>
                <a:miter/>
              </a:ln>
              <a:solidFill>
                <a:srgbClr val="bbe0e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7880" y="2666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349360"/>
            <a:ext cx="1800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3840" y="38098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хня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е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3645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60160" y="533412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жня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е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5300640"/>
            <a:ext cx="1873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4640" y="350532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улов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195640" y="3357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628640"/>
            <a:ext cx="3816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) отделы тела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133720"/>
            <a:ext cx="287280" cy="503280"/>
          </a:xfrm>
          <a:custGeom>
            <a:avLst/>
            <a:gdLst/>
            <a:ahLst/>
            <a:rect l="l" t="t" r="r" b="b"/>
            <a:pathLst>
              <a:path w="181" h="363">
                <a:moveTo>
                  <a:pt x="0" y="0"/>
                </a:moveTo>
                <a:lnTo>
                  <a:pt x="181" y="0"/>
                </a:lnTo>
                <a:lnTo>
                  <a:pt x="181" y="363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2781360"/>
            <a:ext cx="431640" cy="1727280"/>
          </a:xfrm>
          <a:custGeom>
            <a:avLst/>
            <a:gdLst/>
            <a:ahLst/>
            <a:rect l="l" t="t" r="r" b="b"/>
            <a:pathLst>
              <a:path w="272" h="1088">
                <a:moveTo>
                  <a:pt x="0" y="0"/>
                </a:moveTo>
                <a:lnTo>
                  <a:pt x="272" y="0"/>
                </a:lnTo>
                <a:lnTo>
                  <a:pt x="272" y="1088"/>
                </a:lnTo>
                <a:lnTo>
                  <a:pt x="182" y="108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076640"/>
            <a:ext cx="287280" cy="2305080"/>
          </a:xfrm>
          <a:custGeom>
            <a:avLst/>
            <a:gdLst/>
            <a:ahLst/>
            <a:rect l="l" t="t" r="r" b="b"/>
            <a:pathLst>
              <a:path w="181" h="1452">
                <a:moveTo>
                  <a:pt x="91" y="0"/>
                </a:moveTo>
                <a:lnTo>
                  <a:pt x="181" y="0"/>
                </a:lnTo>
                <a:lnTo>
                  <a:pt x="181" y="1452"/>
                </a:lnTo>
                <a:lnTo>
                  <a:pt x="0" y="145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708280"/>
            <a:ext cx="431640" cy="1152360"/>
          </a:xfrm>
          <a:custGeom>
            <a:avLst/>
            <a:gdLst/>
            <a:ahLst/>
            <a:rect l="l" t="t" r="r" b="b"/>
            <a:pathLst>
              <a:path w="272" h="726">
                <a:moveTo>
                  <a:pt x="181" y="0"/>
                </a:moveTo>
                <a:lnTo>
                  <a:pt x="0" y="0"/>
                </a:lnTo>
                <a:lnTo>
                  <a:pt x="0" y="726"/>
                </a:lnTo>
                <a:lnTo>
                  <a:pt x="272" y="72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0"/>
            <a:ext cx="4464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I. Утвержд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380880"/>
            <a:ext cx="7620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) отделы скеле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rcRect l="34800" t="3875" r="31984" b="4763"/>
          <a:stretch/>
        </p:blipFill>
        <p:spPr>
          <a:xfrm>
            <a:off x="3708360" y="1268280"/>
            <a:ext cx="2303640" cy="475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43600" y="1371600"/>
            <a:ext cx="76320" cy="533520"/>
          </a:xfrm>
          <a:custGeom>
            <a:avLst/>
            <a:gdLst>
              <a:gd name="textAreaLeft" fmla="*/ 0 w 76320"/>
              <a:gd name="textAreaRight" fmla="*/ 2736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9240" y="13446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р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1828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10400" y="1600200"/>
            <a:ext cx="166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яс верх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64520" y="4433760"/>
            <a:ext cx="232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елет своб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жней 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20968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2736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1240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4080" y="2743200"/>
            <a:ext cx="236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елет своб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хней 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3640" y="304812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звон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40384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39625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яс ниж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339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920" y="233856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удная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2096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84360" y="189000"/>
            <a:ext cx="460872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чере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403236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8360" y="1916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ешетчат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276640"/>
            <a:ext cx="3816360" cy="1223640"/>
          </a:xfrm>
          <a:custGeom>
            <a:avLst/>
            <a:gdLst/>
            <a:ahLst/>
            <a:rect l="l" t="t" r="r" b="b"/>
            <a:pathLst>
              <a:path w="2404" h="771">
                <a:moveTo>
                  <a:pt x="0" y="0"/>
                </a:moveTo>
                <a:lnTo>
                  <a:pt x="1179" y="0"/>
                </a:lnTo>
                <a:lnTo>
                  <a:pt x="2404" y="771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1800" y="25653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лезн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924280"/>
            <a:ext cx="3456000" cy="576000"/>
          </a:xfrm>
          <a:custGeom>
            <a:avLst/>
            <a:gdLst/>
            <a:ahLst/>
            <a:rect l="l" t="t" r="r" b="b"/>
            <a:pathLst>
              <a:path w="2177" h="363">
                <a:moveTo>
                  <a:pt x="0" y="0"/>
                </a:moveTo>
                <a:lnTo>
                  <a:pt x="952" y="0"/>
                </a:lnTo>
                <a:lnTo>
                  <a:pt x="2177" y="363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4360" y="1413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осов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773360"/>
            <a:ext cx="2160720" cy="1439640"/>
          </a:xfrm>
          <a:custGeom>
            <a:avLst/>
            <a:gdLst/>
            <a:ahLst/>
            <a:rect l="l" t="t" r="r" b="b"/>
            <a:pathLst>
              <a:path w="1361" h="907">
                <a:moveTo>
                  <a:pt x="0" y="0"/>
                </a:moveTo>
                <a:lnTo>
                  <a:pt x="998" y="0"/>
                </a:lnTo>
                <a:lnTo>
                  <a:pt x="1361" y="907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6160" y="9810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обн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4160" y="16286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менн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1341360"/>
            <a:ext cx="2089080" cy="935280"/>
          </a:xfrm>
          <a:custGeom>
            <a:avLst/>
            <a:gdLst/>
            <a:ahLst/>
            <a:rect l="l" t="t" r="r" b="b"/>
            <a:pathLst>
              <a:path w="1316" h="589">
                <a:moveTo>
                  <a:pt x="1316" y="0"/>
                </a:moveTo>
                <a:lnTo>
                  <a:pt x="318" y="0"/>
                </a:lnTo>
                <a:lnTo>
                  <a:pt x="0" y="589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1989000"/>
            <a:ext cx="2519280" cy="863640"/>
          </a:xfrm>
          <a:custGeom>
            <a:avLst/>
            <a:gdLst/>
            <a:ahLst/>
            <a:rect l="l" t="t" r="r" b="b"/>
            <a:pathLst>
              <a:path w="1587" h="544">
                <a:moveTo>
                  <a:pt x="1587" y="0"/>
                </a:moveTo>
                <a:lnTo>
                  <a:pt x="544" y="0"/>
                </a:lnTo>
                <a:lnTo>
                  <a:pt x="0" y="544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497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тылочн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1800" y="4797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исочн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3933720"/>
            <a:ext cx="2087640" cy="1224000"/>
          </a:xfrm>
          <a:custGeom>
            <a:avLst/>
            <a:gdLst/>
            <a:ahLst/>
            <a:rect l="l" t="t" r="r" b="b"/>
            <a:pathLst>
              <a:path w="1315" h="771">
                <a:moveTo>
                  <a:pt x="1315" y="771"/>
                </a:moveTo>
                <a:lnTo>
                  <a:pt x="226" y="77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437000"/>
            <a:ext cx="2376720" cy="71640"/>
          </a:xfrm>
          <a:custGeom>
            <a:avLst/>
            <a:gdLst/>
            <a:ahLst/>
            <a:rect l="l" t="t" r="r" b="b"/>
            <a:pathLst>
              <a:path w="1497" h="45">
                <a:moveTo>
                  <a:pt x="1497" y="45"/>
                </a:moveTo>
                <a:lnTo>
                  <a:pt x="273" y="45"/>
                </a:lnTo>
                <a:lnTo>
                  <a:pt x="4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360" y="5373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иновидн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3500280"/>
            <a:ext cx="2232000" cy="2233800"/>
          </a:xfrm>
          <a:custGeom>
            <a:avLst/>
            <a:gdLst/>
            <a:ahLst/>
            <a:rect l="l" t="t" r="r" b="b"/>
            <a:pathLst>
              <a:path w="1406" h="1407">
                <a:moveTo>
                  <a:pt x="1406" y="1407"/>
                </a:moveTo>
                <a:lnTo>
                  <a:pt x="91" y="140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8160" y="551664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овая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3933720"/>
            <a:ext cx="1944720" cy="1943280"/>
          </a:xfrm>
          <a:custGeom>
            <a:avLst/>
            <a:gdLst/>
            <a:ahLst/>
            <a:rect l="l" t="t" r="r" b="b"/>
            <a:pathLst>
              <a:path w="1225" h="1224">
                <a:moveTo>
                  <a:pt x="0" y="1224"/>
                </a:moveTo>
                <a:lnTo>
                  <a:pt x="1043" y="1224"/>
                </a:lnTo>
                <a:lnTo>
                  <a:pt x="1225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720" y="486900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жняя челю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229360"/>
            <a:ext cx="3241440" cy="1440"/>
          </a:xfrm>
          <a:custGeom>
            <a:avLst/>
            <a:gdLst/>
            <a:ahLst/>
            <a:rect l="l" t="t" r="r" b="b"/>
            <a:pathLst>
              <a:path w="2042" h="1">
                <a:moveTo>
                  <a:pt x="0" y="0"/>
                </a:moveTo>
                <a:lnTo>
                  <a:pt x="1225" y="0"/>
                </a:lnTo>
                <a:lnTo>
                  <a:pt x="2042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9080" y="342900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рхняя челю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789360"/>
            <a:ext cx="3313080" cy="431640"/>
          </a:xfrm>
          <a:custGeom>
            <a:avLst/>
            <a:gdLst/>
            <a:ahLst/>
            <a:rect l="l" t="t" r="r" b="b"/>
            <a:pathLst>
              <a:path w="2087" h="272">
                <a:moveTo>
                  <a:pt x="0" y="0"/>
                </a:moveTo>
                <a:lnTo>
                  <a:pt x="1225" y="0"/>
                </a:lnTo>
                <a:lnTo>
                  <a:pt x="2087" y="272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34:40Z</dcterms:created>
  <dc:creator>Ирина</dc:creator>
  <dc:description/>
  <dc:language>en-US</dc:language>
  <cp:lastModifiedBy>Ирина</cp:lastModifiedBy>
  <dcterms:modified xsi:type="dcterms:W3CDTF">2010-10-08T17:17:38Z</dcterms:modified>
  <cp:revision>4</cp:revision>
  <dc:subject/>
  <dc:title>Слайд 1</dc:title>
</cp:coreProperties>
</file>