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1753-524B-4D4B-AF04-2435DF2DD7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BAEE-1E76-4926-AAF0-2BD74089C7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E294-805F-4AD8-A080-0A0B6424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6FC9-488A-473C-BC2C-3D905057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8328-8AF2-4BCC-BAD6-E5ACDB71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5160-50AD-464E-A858-60258698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F1E2-C32B-47AA-B658-366C9CAE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32A8-3838-47A0-BAD3-F2436A63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E155-670C-4E12-A1A3-6D745369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6604-18EB-4D6C-A107-C61BA17A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A916-3FEE-448A-844E-DC9F146D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1B5D-1924-4965-BD1F-F9A11C56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AA3C-7DB7-43C5-951A-93886B45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B566-8E89-49B9-9536-D134F59B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9F0B-B597-4260-9980-B5A4A487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0388-F980-465B-8ACB-DB700679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3F27-8989-45CE-A9FB-CC80D9A1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630C-08C9-4751-B5B1-E2920182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A456-6417-43EE-A14C-4133B856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CBCE-DB7B-41AC-B1E2-92A9E707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49AA-B808-4355-B723-7464CFA3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35EC-7FAA-4953-BB51-AA72B1DE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7885-3427-4302-A255-B8F3E470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974C-D861-405F-8142-69C5F7FD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EC69-E0BC-45E3-845A-0B74FFEE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15FA-1215-466C-88A7-F88BC079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3101-592F-47C9-AC89-29DE1DFA1A9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16E7-90A5-4D64-A639-7F5F830A83FD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8675640" cy="19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"Создание ситуаций успеха на уроке и во внеурочное время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57120" y="4571640"/>
            <a:ext cx="842976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971640" y="1714680"/>
            <a:ext cx="7243560" cy="1166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0000cc"/>
                    </a:gs>
                  </a:gsLst>
                  <a:lin ang="5400000"/>
                </a:gradFill>
                <a:latin typeface="Arial"/>
              </a:rPr>
              <a:t>Успех порождает успе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0000c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5" descr="D:\КАРТИНКИ ВСЕ\1 сентября и школа\051109.jpg"/>
          <p:cNvPicPr/>
          <p:nvPr/>
        </p:nvPicPr>
        <p:blipFill>
          <a:blip r:embed="rId1"/>
          <a:stretch/>
        </p:blipFill>
        <p:spPr>
          <a:xfrm>
            <a:off x="7192800" y="3925800"/>
            <a:ext cx="1622520" cy="374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D:\КАРТИНКИ ВСЕ\1 сентября и школа\839688d55411.jpg"/>
          <p:cNvPicPr/>
          <p:nvPr/>
        </p:nvPicPr>
        <p:blipFill>
          <a:blip r:embed="rId2"/>
          <a:stretch/>
        </p:blipFill>
        <p:spPr>
          <a:xfrm>
            <a:off x="549360" y="3852720"/>
            <a:ext cx="1792080" cy="375444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6"/>
          <p:cNvSpPr/>
          <p:nvPr/>
        </p:nvSpPr>
        <p:spPr>
          <a:xfrm>
            <a:off x="2714760" y="5859360"/>
            <a:ext cx="48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ародубцева Е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х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Объект 3" descr=""/>
          <p:cNvPicPr/>
          <p:nvPr/>
        </p:nvPicPr>
        <p:blipFill>
          <a:blip r:embed="rId1"/>
          <a:stretch/>
        </p:blipFill>
        <p:spPr>
          <a:xfrm>
            <a:off x="453960" y="1312920"/>
            <a:ext cx="3627360" cy="24591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3203640" cy="240192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5" descr=""/>
          <p:cNvPicPr/>
          <p:nvPr/>
        </p:nvPicPr>
        <p:blipFill>
          <a:blip r:embed="rId3"/>
          <a:stretch/>
        </p:blipFill>
        <p:spPr>
          <a:xfrm>
            <a:off x="2268360" y="3933720"/>
            <a:ext cx="435456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Объект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841560" cy="28796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"/>
          <p:cNvPicPr/>
          <p:nvPr/>
        </p:nvPicPr>
        <p:blipFill>
          <a:blip r:embed="rId2"/>
          <a:stretch/>
        </p:blipFill>
        <p:spPr>
          <a:xfrm>
            <a:off x="4265640" y="189000"/>
            <a:ext cx="3906720" cy="29304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"/>
          <p:cNvPicPr/>
          <p:nvPr/>
        </p:nvPicPr>
        <p:blipFill>
          <a:blip r:embed="rId3"/>
          <a:stretch/>
        </p:blipFill>
        <p:spPr>
          <a:xfrm>
            <a:off x="1979640" y="3357720"/>
            <a:ext cx="486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езд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Объект 3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3398760" cy="254952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"/>
          <p:cNvPicPr/>
          <p:nvPr/>
        </p:nvPicPr>
        <p:blipFill>
          <a:blip r:embed="rId2"/>
          <a:stretch/>
        </p:blipFill>
        <p:spPr>
          <a:xfrm>
            <a:off x="4772160" y="1557360"/>
            <a:ext cx="3168360" cy="23763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6" descr=""/>
          <p:cNvPicPr/>
          <p:nvPr/>
        </p:nvPicPr>
        <p:blipFill>
          <a:blip r:embed="rId3"/>
          <a:stretch/>
        </p:blipFill>
        <p:spPr>
          <a:xfrm>
            <a:off x="539640" y="4149720"/>
            <a:ext cx="3311640" cy="24829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8" descr=""/>
          <p:cNvPicPr/>
          <p:nvPr/>
        </p:nvPicPr>
        <p:blipFill>
          <a:blip r:embed="rId4"/>
          <a:stretch/>
        </p:blipFill>
        <p:spPr>
          <a:xfrm>
            <a:off x="4635360" y="4135320"/>
            <a:ext cx="332928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24720" cy="14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веты знаменитых людей тем,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то хочет достичь успеха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2139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падная философ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 уверен в своих сил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й сказать себе: «Я должен победить!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жалей себя и много работа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й быть  не таким как все. Ты должен уметь выделиться из толпы и стать лучшим в чем т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й добиваться цели. Не бойся признаться себе  в эгоистичности и расчетливости в достижении своей цели. А когда ты добьешься чего-то, ты сможешь реально помогать друг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й владеть собой. Добивайся того, что наметил. Эмоции и настроение  не должны тебе меш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рати свою мечту в реальность. Умей сконцентрировать свои силы на главн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навливайся на достигнутом!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95280" y="2060640"/>
            <a:ext cx="460836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вой завтрашний успех</a:t>
            </a:r>
            <a:br>
              <a:rPr sz="4800"/>
            </a:br>
            <a:r>
              <a:rPr b="1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чинается сегодня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000320" y="2928600"/>
            <a:ext cx="5143320" cy="20718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851600" cy="1828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85520" y="1500120"/>
            <a:ext cx="7854840" cy="23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Успех в учении – единственный источник внутренних сил, рождающий энергию для преодоления трудностей, желания учиться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. А. Сухомлинский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285840" y="4357800"/>
            <a:ext cx="2376360" cy="1790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5973840" y="3992400"/>
            <a:ext cx="1908000" cy="46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500040" y="642960"/>
            <a:ext cx="82915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итуация успеха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очетание условий, которые обеспечивают успе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спех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езультат подобной ситуации. Успех прежде всего связан с чувствами радости, эмоционального подъема, которые испытывает человек в результате выполненной рабо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итуация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то, что способен организовать учител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начение портфоли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1341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итуации успеха для каждого учени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самооценки и уверенности в собственных    возможностях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тие индивидуальных способнос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его самореализации в различных областя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ознавательных интересов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готовности к самостоятельному познан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ка на творческую деятельно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отивации дальнейшего творческого рост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е навыков саморефлекс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мения анализировать собственные интерес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 проек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Объект 3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822400" cy="21160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"/>
          <p:cNvPicPr/>
          <p:nvPr/>
        </p:nvPicPr>
        <p:blipFill>
          <a:blip r:embed="rId2"/>
          <a:stretch/>
        </p:blipFill>
        <p:spPr>
          <a:xfrm>
            <a:off x="5568840" y="1268280"/>
            <a:ext cx="3275280" cy="2457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" descr=""/>
          <p:cNvPicPr/>
          <p:nvPr/>
        </p:nvPicPr>
        <p:blipFill>
          <a:blip r:embed="rId3"/>
          <a:stretch/>
        </p:blipFill>
        <p:spPr>
          <a:xfrm>
            <a:off x="1287360" y="3357720"/>
            <a:ext cx="421344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щита проек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Объект 3" descr=""/>
          <p:cNvPicPr/>
          <p:nvPr/>
        </p:nvPicPr>
        <p:blipFill>
          <a:blip r:embed="rId1"/>
          <a:stretch/>
        </p:blipFill>
        <p:spPr>
          <a:xfrm>
            <a:off x="790560" y="118584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"/>
          <p:cNvPicPr/>
          <p:nvPr/>
        </p:nvPicPr>
        <p:blipFill>
          <a:blip r:embed="rId2"/>
          <a:stretch/>
        </p:blipFill>
        <p:spPr>
          <a:xfrm>
            <a:off x="4643280" y="1203480"/>
            <a:ext cx="3168720" cy="23749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"/>
          <p:cNvPicPr/>
          <p:nvPr/>
        </p:nvPicPr>
        <p:blipFill>
          <a:blip r:embed="rId3"/>
          <a:stretch/>
        </p:blipFill>
        <p:spPr>
          <a:xfrm>
            <a:off x="611280" y="381492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"/>
          <p:cNvPicPr/>
          <p:nvPr/>
        </p:nvPicPr>
        <p:blipFill>
          <a:blip r:embed="rId4"/>
          <a:stretch/>
        </p:blipFill>
        <p:spPr>
          <a:xfrm>
            <a:off x="4654440" y="378792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частие в олимпиад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Объект 3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3984480" cy="28083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"/>
          <p:cNvPicPr/>
          <p:nvPr/>
        </p:nvPicPr>
        <p:blipFill>
          <a:blip r:embed="rId2"/>
          <a:stretch/>
        </p:blipFill>
        <p:spPr>
          <a:xfrm>
            <a:off x="4643280" y="3063960"/>
            <a:ext cx="43945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Объект 3" descr=""/>
          <p:cNvPicPr/>
          <p:nvPr/>
        </p:nvPicPr>
        <p:blipFill>
          <a:blip r:embed="rId1"/>
          <a:stretch/>
        </p:blipFill>
        <p:spPr>
          <a:xfrm>
            <a:off x="1258920" y="1314360"/>
            <a:ext cx="3073320" cy="23050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"/>
          <p:cNvPicPr/>
          <p:nvPr/>
        </p:nvPicPr>
        <p:blipFill>
          <a:blip r:embed="rId2"/>
          <a:stretch/>
        </p:blipFill>
        <p:spPr>
          <a:xfrm>
            <a:off x="5219640" y="1341360"/>
            <a:ext cx="2952720" cy="22129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"/>
          <p:cNvPicPr/>
          <p:nvPr/>
        </p:nvPicPr>
        <p:blipFill>
          <a:blip r:embed="rId3"/>
          <a:stretch/>
        </p:blipFill>
        <p:spPr>
          <a:xfrm>
            <a:off x="826920" y="3781440"/>
            <a:ext cx="3673800" cy="27543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"/>
          <p:cNvPicPr/>
          <p:nvPr/>
        </p:nvPicPr>
        <p:blipFill>
          <a:blip r:embed="rId4"/>
          <a:stretch/>
        </p:blipFill>
        <p:spPr>
          <a:xfrm>
            <a:off x="4967280" y="3795840"/>
            <a:ext cx="3457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частие в конкурс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Объект 3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3006720" cy="44528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313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03:42:23Z</dcterms:created>
  <dc:creator>Admin</dc:creator>
  <dc:description/>
  <dc:language>en-US</dc:language>
  <cp:lastModifiedBy>Елена</cp:lastModifiedBy>
  <dcterms:modified xsi:type="dcterms:W3CDTF">2015-02-28T12:18:52Z</dcterms:modified>
  <cp:revision>75</cp:revision>
  <dc:subject/>
  <dc:title>Слайд 1</dc:title>
</cp:coreProperties>
</file>