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9AC4-6E20-4320-BE4C-39234974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0CB8-251F-48BF-B660-BC75F36B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A5D4-F1E3-4BFD-A65D-43185609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030F-130D-48FD-9488-54F1A4D4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D389-6EF0-4908-B672-D8E26543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D46C-2EA6-40C6-800B-8987C0BC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4060-51CF-48BC-A57D-99B47756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0E17-D76A-4E89-8D8A-A3E1FF45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9DD9-D4A1-48DF-AA7C-4578808B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FD4E-B03B-40D2-BDDC-488C5456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2687-BF0A-4126-B006-EA7C1473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A837-4579-4298-9976-D6C64120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BEBC-9931-4F11-BDDB-9BB61D7F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A423-888B-4E40-9418-1AD13147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7BBF-C3E9-4B2F-9D00-DDD8273D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F8E7-46D5-499C-8EE8-FDD82A48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C261-5884-4F5F-812F-D2CC0B63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62D79-4ED9-45F6-8F3D-CA4BD3FD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AEBBC-EE5E-4588-92D5-61A4A34D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943E5-E3AF-4814-AA1F-1D1E9846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42561-0481-4C44-A3D3-29AEEE5A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EFA93-A822-4FC5-B4CD-421C7E41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46FF-06D3-4BE9-8653-7DD0B416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F5A2A-BF1E-418A-B440-7A260735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78DE1-3CE3-4350-886F-DE50323B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06762-0324-4B1F-8198-687DA45E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28932-CCF0-4908-93FA-1CF4FA0A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3B14E-E049-4D53-A8F5-61EB495B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4A0C7-A10F-43BD-B804-8AFF29BB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1F63B-D241-433D-8165-16C75ACC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2437A-C2F1-4A89-89C6-47E7F536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B6C13-6B2C-48F9-B1B8-14A0A860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36F75-0B1A-4673-8849-D7F4106F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F9AF-F377-4015-A0FB-E2EC047C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F812A-F23B-4A6E-8DD3-BD3EABDD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1168B-E2E4-4950-B4FE-DF5A0D96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86C00-B7AF-4DFD-A533-C52FDA6C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D5234-4F93-4F15-AFEB-3647C409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8BE1C-F9BF-4384-AA19-EE5166FD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D4C12-CE5A-47B5-A0A8-C62BDC35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9B42A-4696-4CD6-A9E2-17654893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88A65-AB9B-43F8-8132-D402773F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86593-169B-4A95-A925-76196289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A3786-B168-4490-A4E7-DD59953C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0F01-A511-44C6-BFC3-00DB6BFA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511A9-D73C-4B98-9A0D-59EB05DF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395C9-F414-4781-A0FF-02C9D405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A0955-F6F0-4A24-9ACC-E91D4F29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FF7B3-1E1B-4123-AF28-A9D03357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F99C7-0272-4DD8-96BF-A01DA23D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F5388-16D4-4796-9918-5262710B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3A25E-7C6F-40AE-A32F-E4B70381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45099-6F2E-4509-88EA-4E4F2522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41C2C-0E0D-4F0C-9C48-038902AD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374E7-AAD4-402F-B12C-4D36591B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5A8D-D617-4C65-B956-5F316209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33365-A251-4126-B4B5-F320606F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24B05-1202-47FF-B1DD-047655B3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5D862-CE20-4FB4-BC68-303F9009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FED38-A860-4A52-9FBA-7959F69A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2DE8F-310B-4A77-BDB1-EC17A8BA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023D0-7A5A-4E5D-8509-EFA3A3B6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3B784-0FA2-4022-B72A-3C331719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B2E9B-30D1-4F6C-8856-3160633D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CD4BC-9B30-402B-A1CE-5F8DB4DD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A6F48-F960-45A7-A388-9FAD368E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410C-4323-4B9D-967F-15E4351D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04624-480D-40D4-B6D8-2264CB5A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CCB93-CD5A-4D5E-B140-E0FD8129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2B810-DBD3-4366-972B-C9FCA0A1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74961-12C5-4F75-BCE0-97302CF8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044BD-90A2-4A71-A8CF-FE98A6EC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83C6F-924F-497D-8805-7C38F53B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806D8-6E72-4516-A626-E930A09A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A0675-441A-42AB-945E-A84EE0EE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28DED-FAFE-4F7A-9136-10F13CB3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2233A-81A1-424E-930D-A4406283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0AA4-DC05-48E4-BACC-6F1D1ADF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15652-15E6-42FF-B7A7-2EE35489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DAF22-9427-4B75-B963-85174A91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B76B6-74F0-4BF0-ABCE-D4B4E01F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5BC63-0E01-4D3F-A072-95EF2482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EDC47-B612-4513-ADEB-3CA3F9A8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1D283-DB81-4D1E-9E40-7EF072C2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8FC5B-9835-49E4-9AD4-7109A354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F2A00-28F5-431D-AE2D-234629E8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2304C-D10C-4521-8DA6-AB36D505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90641-1029-46FF-BFCB-9D80B0BF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41B7-DE59-4DAF-87DF-1B73FBC7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C12AE-A003-489A-814E-BF8105E4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1C59D-76AF-4FBA-838F-EA96F531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94574-D2A0-40DF-ADF9-53F273FC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DE48B-F454-43E6-8928-F38446E4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B9F5D-1532-460E-A3D2-A5EFBDE6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1A5CE-C2A5-443A-9CA2-B75106F1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2AA84-4537-46C8-967E-C79B1198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500"/>
            </a:gs>
            <a:gs pos="100000">
              <a:srgbClr val="70312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feb80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e0a208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feb80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7d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7dec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7d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C8B4-21CC-42B5-9546-0A01B3377368}" type="slidenum">
              <a:rPr b="0" lang="ru-RU" sz="1400" spc="-1" strike="noStrike">
                <a:solidFill>
                  <a:srgbClr val="e7dec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feb8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feb8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500"/>
            </a:gs>
            <a:gs pos="100000">
              <a:srgbClr val="70312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feb80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e0a208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feb80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7d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7dec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7d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317C-4770-45BC-9791-5A3492BB59AF}" type="slidenum">
              <a:rPr b="0" lang="ru-RU" sz="1400" spc="-1" strike="noStrike">
                <a:solidFill>
                  <a:srgbClr val="e7dec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500"/>
            </a:gs>
            <a:gs pos="100000">
              <a:srgbClr val="70312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feb80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e0a208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feb80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7d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7dec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7d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5A0B-56EC-42A0-AB45-12F41E019F17}" type="slidenum">
              <a:rPr b="0" lang="ru-RU" sz="1400" spc="-1" strike="noStrike">
                <a:solidFill>
                  <a:srgbClr val="e7dec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500"/>
            </a:gs>
            <a:gs pos="100000">
              <a:srgbClr val="70312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feb8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feb8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feb80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e0a208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feb80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7d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7dec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7d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40AD-2A24-497C-B205-70046CA58CD6}" type="slidenum">
              <a:rPr b="0" lang="ru-RU" sz="1400" spc="-1" strike="noStrike">
                <a:solidFill>
                  <a:srgbClr val="e7dec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500"/>
            </a:gs>
            <a:gs pos="100000">
              <a:srgbClr val="70312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feb8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feb80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e0a208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feb80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7d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7dec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7d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F8B4-FD1F-40D5-A44F-9B4A1525EC68}" type="slidenum">
              <a:rPr b="0" lang="ru-RU" sz="1400" spc="-1" strike="noStrike">
                <a:solidFill>
                  <a:srgbClr val="e7dec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500"/>
            </a:gs>
            <a:gs pos="100000">
              <a:srgbClr val="70312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feb8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feb8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feb80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e0a208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feb80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7d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7dec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7d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2E77-80A1-469F-B05F-C7D5EF6FEA05}" type="slidenum">
              <a:rPr b="0" lang="ru-RU" sz="1400" spc="-1" strike="noStrike">
                <a:solidFill>
                  <a:srgbClr val="e7dec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500"/>
            </a:gs>
            <a:gs pos="100000">
              <a:srgbClr val="70312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feb8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feb80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e0a208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feb80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7d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7dec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7d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7AB7-0F67-4C4B-A3CF-0025DB950187}" type="slidenum">
              <a:rPr b="0" lang="ru-RU" sz="1400" spc="-1" strike="noStrike">
                <a:solidFill>
                  <a:srgbClr val="e7dec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500"/>
            </a:gs>
            <a:gs pos="100000">
              <a:srgbClr val="70312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feb8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feb8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e7dec9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feb80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e0a208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feb80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7d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7dec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7d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BB59-7D22-4D28-961A-9032E83004B7}" type="slidenum">
              <a:rPr b="0" lang="ru-RU" sz="1400" spc="-1" strike="noStrike">
                <a:solidFill>
                  <a:srgbClr val="e7dec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1"/>
          <p:cNvSpPr/>
          <p:nvPr/>
        </p:nvSpPr>
        <p:spPr>
          <a:xfrm>
            <a:off x="1526400" y="1214280"/>
            <a:ext cx="662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ndalus"/>
              </a:rPr>
              <a:t>Международные отнош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ndalus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ndalus"/>
              </a:rPr>
              <a:t>в 20-е 30-е го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C:\Users\Фирдаус\Desktop\russia017.jpg"/>
          <p:cNvPicPr/>
          <p:nvPr/>
        </p:nvPicPr>
        <p:blipFill>
          <a:blip r:embed="rId1"/>
          <a:stretch/>
        </p:blipFill>
        <p:spPr>
          <a:xfrm>
            <a:off x="214200" y="0"/>
            <a:ext cx="871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C:\Users\Фирдаус\Desktop\ссср накануне.jpg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Users\Фирдаус\Desktop\рост численности армии.jpg"/>
          <p:cNvPicPr/>
          <p:nvPr/>
        </p:nvPicPr>
        <p:blipFill>
          <a:blip r:embed="rId1"/>
          <a:stretch/>
        </p:blipFill>
        <p:spPr>
          <a:xfrm>
            <a:off x="210960" y="198360"/>
            <a:ext cx="8718840" cy="64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C:\Users\Фирдаус\Desktop\вн. политика германии.jpg"/>
          <p:cNvPicPr/>
          <p:nvPr/>
        </p:nvPicPr>
        <p:blipFill>
          <a:blip r:embed="rId1"/>
          <a:stretch/>
        </p:blipFill>
        <p:spPr>
          <a:xfrm>
            <a:off x="214200" y="142920"/>
            <a:ext cx="871560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C:\Users\Фирдаус\Desktop\вн. политика германии.jpg"/>
          <p:cNvPicPr/>
          <p:nvPr/>
        </p:nvPicPr>
        <p:blipFill>
          <a:blip r:embed="rId1"/>
          <a:stretch/>
        </p:blipFill>
        <p:spPr>
          <a:xfrm>
            <a:off x="285840" y="714240"/>
            <a:ext cx="8632800" cy="3857760"/>
          </a:xfrm>
          <a:prstGeom prst="rect">
            <a:avLst/>
          </a:prstGeom>
          <a:ln w="0">
            <a:noFill/>
          </a:ln>
        </p:spPr>
      </p:pic>
      <p:sp>
        <p:nvSpPr>
          <p:cNvPr id="355" name="TextBox 2"/>
          <p:cNvSpPr/>
          <p:nvPr/>
        </p:nvSpPr>
        <p:spPr>
          <a:xfrm>
            <a:off x="357120" y="4857840"/>
            <a:ext cx="85726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937 г.- Германия и Япония создали Антикомминтернов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к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938 г. – к АП присоединилась Итал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3"/>
          <p:cNvSpPr/>
          <p:nvPr/>
        </p:nvSpPr>
        <p:spPr>
          <a:xfrm>
            <a:off x="1870920" y="142920"/>
            <a:ext cx="5103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кладывание оси Берлин-Токио-Р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Users\Фирдаус\Desktop\вн. политика англии и ф..jpg"/>
          <p:cNvPicPr/>
          <p:nvPr/>
        </p:nvPicPr>
        <p:blipFill>
          <a:blip r:embed="rId1"/>
          <a:stretch/>
        </p:blipFill>
        <p:spPr>
          <a:xfrm>
            <a:off x="214200" y="0"/>
            <a:ext cx="871560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C:\Users\Фирдаус\Desktop\направления внешней политики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C:\Users\Фирдаус\Desktop\в. политика 30-е1.jpg"/>
          <p:cNvPicPr/>
          <p:nvPr/>
        </p:nvPicPr>
        <p:blipFill>
          <a:blip r:embed="rId1"/>
          <a:stretch/>
        </p:blipFill>
        <p:spPr>
          <a:xfrm>
            <a:off x="285840" y="142920"/>
            <a:ext cx="864396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C:\Users\Фирдаус\Desktop\в. политика 30-е2.jpg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C:\Users\Фирдаус\Desktop\внеш. политика 30-е.jpg"/>
          <p:cNvPicPr/>
          <p:nvPr/>
        </p:nvPicPr>
        <p:blipFill>
          <a:blip r:embed="rId1"/>
          <a:stretch/>
        </p:blipFill>
        <p:spPr>
          <a:xfrm>
            <a:off x="357120" y="82440"/>
            <a:ext cx="8501040" cy="669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C:\Users\Фирдаус\Desktop\вп.jpg"/>
          <p:cNvPicPr/>
          <p:nvPr/>
        </p:nvPicPr>
        <p:blipFill>
          <a:blip r:embed="rId1"/>
          <a:stretch/>
        </p:blipFill>
        <p:spPr>
          <a:xfrm>
            <a:off x="285840" y="1571760"/>
            <a:ext cx="8572320" cy="4422600"/>
          </a:xfrm>
          <a:prstGeom prst="rect">
            <a:avLst/>
          </a:prstGeom>
          <a:ln w="0">
            <a:noFill/>
          </a:ln>
        </p:spPr>
      </p:pic>
      <p:sp>
        <p:nvSpPr>
          <p:cNvPr id="363" name="TextBox 2"/>
          <p:cNvSpPr/>
          <p:nvPr/>
        </p:nvSpPr>
        <p:spPr>
          <a:xfrm>
            <a:off x="285840" y="642960"/>
            <a:ext cx="864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 сент.-28 сент. 1939 г.- «Освободительный поход Красной Армии»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последствии присоединение Западной Украины, Западной Белоруссии к ССС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Box 3"/>
          <p:cNvSpPr/>
          <p:nvPr/>
        </p:nvSpPr>
        <p:spPr>
          <a:xfrm>
            <a:off x="668520" y="214200"/>
            <a:ext cx="73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риториальный рост СССР в предвоенные г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оугольник 4"/>
          <p:cNvSpPr/>
          <p:nvPr/>
        </p:nvSpPr>
        <p:spPr>
          <a:xfrm>
            <a:off x="500040" y="607212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40 г.- вошли в состав СССР Литва, Латвия и Эсто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940 г.- От Румынии к СССР отошла Бессараб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7:46:38Z</dcterms:created>
  <dc:creator>Фирдаус</dc:creator>
  <dc:description/>
  <dc:language>en-US</dc:language>
  <cp:lastModifiedBy>Фирдаус</cp:lastModifiedBy>
  <dcterms:modified xsi:type="dcterms:W3CDTF">2010-12-05T15:47:04Z</dcterms:modified>
  <cp:revision>2</cp:revision>
  <dc:subject/>
  <dc:title>Слайд 1</dc:title>
</cp:coreProperties>
</file>