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11.gif" ContentType="image/gif"/>
  <Override PartName="/ppt/media/image20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9.jpeg" ContentType="image/jpeg"/>
  <Override PartName="/ppt/media/image21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B0D-C231-4718-94F9-44DF058A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7C5-9425-46BB-AA72-36793E6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2D8-4CAC-4C70-B039-3A93FF11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A59-0530-42E9-976A-2729B788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B79D-9D81-483A-B780-F63C0362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A1CE-6D6F-48D4-BE0D-66971A4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AFDD-6C2D-49EC-94A8-F401A9E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2546-2C96-4544-87C5-3E199AE6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BDE6-4DB7-43CF-AB6F-C8BCFDF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E93-15EF-461E-A319-CC997ED8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0A0-2ABD-4760-8F11-CB7F1F7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E66-FC4A-45EA-8202-8348E0A8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D3C3-A9A2-4956-8BF5-9C35B34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C5F2-A318-45C4-B158-8316853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2E7B-D6DF-4F4E-8A10-6D6F4332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1EC-CBE7-4149-868D-6B9166A2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E62C-6DA7-4F21-A8E1-1798B75D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50AC-E26B-40C4-836F-888F38CF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ED7F-F961-4062-8209-26445FE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DAD2-148C-4A84-8A8A-EC7F02A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733B-5178-442C-AF90-7D51C74C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B2D4-69EC-4A44-8FAF-2F3A2B9B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607-86BA-4158-AC9C-27A1FCDD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EC2A-9D88-4233-9794-E8553B27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79E8-2619-486B-B6F0-AC89CB5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776C-997F-4CFE-B268-C4F0F5A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5F4A-FF78-4845-8A81-782D2C7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F294-6D75-4805-9653-FAC7DCBB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8147-D464-40EE-80D5-A5EBB1C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4AE0-98A5-41B0-83A1-3B3A9CA6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682-28DB-42B8-AEB3-C6551F03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107-EDBA-424A-AAEB-E1E0FC5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88E-52F3-4358-9E94-82D0C4A7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601-6058-407B-A797-0012636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B35-DCBC-43EB-B7BF-59694A8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542-BA0D-4138-9A3D-16E9BED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2C7-22C1-4EE5-8A3E-86558AFA566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AA52-197D-48B1-944B-F63C4A315F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9E9-C162-4573-9846-0A11182D8E44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89F-5E5A-4AFE-ABD5-C759593BBBB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B77A-66CD-4818-9EE3-B874FA17E4E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a04b1963f8a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ff"/>
                </a:solidFill>
                <a:latin typeface="Calibri"/>
              </a:rPr>
              <a:t>Загадка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27280" y="1483920"/>
            <a:ext cx="431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На снежин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            </a:t>
            </a: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похожи цвет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Как снежин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            </a:t>
            </a: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белы и лег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Как снежин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            </a:t>
            </a: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изящны, прекрасны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Ветерка дуновень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            </a:t>
            </a:r>
            <a:r>
              <a:rPr b="1" lang="ru-RU" sz="2800" spc="-1" strike="noStrike">
                <a:solidFill>
                  <a:srgbClr val="9900cc"/>
                </a:solidFill>
                <a:latin typeface="Constantia"/>
              </a:rPr>
              <a:t>подвласт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58920" y="5734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rcRect l="0" t="0" r="60344" b="10229"/>
          <a:stretch/>
        </p:blipFill>
        <p:spPr>
          <a:xfrm>
            <a:off x="684360" y="1557360"/>
            <a:ext cx="3178080" cy="3941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Назови, из каких первоцветов составлен этот букет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Объект 2" descr=""/>
          <p:cNvPicPr/>
          <p:nvPr/>
        </p:nvPicPr>
        <p:blipFill>
          <a:blip r:embed="rId1"/>
          <a:srcRect l="0" t="0" r="56754" b="8208"/>
          <a:stretch/>
        </p:blipFill>
        <p:spPr>
          <a:xfrm>
            <a:off x="2700360" y="1916280"/>
            <a:ext cx="3373560" cy="4022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butterfly008"/>
          <p:cNvPicPr/>
          <p:nvPr/>
        </p:nvPicPr>
        <p:blipFill>
          <a:blip r:embed="rId2"/>
          <a:stretch/>
        </p:blipFill>
        <p:spPr>
          <a:xfrm>
            <a:off x="468360" y="2205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butterfly013"/>
          <p:cNvPicPr/>
          <p:nvPr/>
        </p:nvPicPr>
        <p:blipFill>
          <a:blip r:embed="rId3"/>
          <a:stretch/>
        </p:blipFill>
        <p:spPr>
          <a:xfrm>
            <a:off x="7682040" y="105408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bouquet13"/>
          <p:cNvPicPr/>
          <p:nvPr/>
        </p:nvPicPr>
        <p:blipFill>
          <a:blip r:embed="rId4"/>
          <a:stretch/>
        </p:blipFill>
        <p:spPr>
          <a:xfrm>
            <a:off x="306360" y="544500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ть-и-мачеха – самая смелая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56360" y="1600200"/>
            <a:ext cx="273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а первая появляется после снега. Ёе весенние жёлтые соцветия на недлинных стебельках. Листья крупные: сверху зелёные, а снизу беловатые. Нижняя поверхность - тёплая, бархатистая - мать; верхняя - холодная, гладкая - мачеха. Мать-и-мачеха прекрасный медоно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10747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8428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Медуница - дарящая мёд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а зацветает через несколько дней после мать-и-мачехи. Цветки некрупные, очень яркие и разноцветные. Её ещё называют цветок-колдунья, так как от весны до осени он четырежды меняет окраску своих лепестков. Взята под охрану, собирать запрещено.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0_462a7_469c3147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6247080" cy="468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1078200" cy="1090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ндыш майский</a:t>
            </a: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ноголетнее растение со шнуровидным, ветвистым, ползучим корневищем. Листьев обычно два, цветок безлистный до 30 см высотой. Соцветие- одностороннее. Цветки поникающие, на длинных изогнутых цветоножках, с сильным приятным запахом. Произрастает в светлых лесах. Ягоды оранжево-красные. Все части растения ЯДОВИТЫ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5" descr="0b348767f6339589ca0766dd14432db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5940360" cy="4464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79280" y="16891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Хохлатка Торопливая</a:t>
            </a:r>
            <a:r>
              <a:rPr b="0" lang="ru-RU" sz="5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40000" y="1657440"/>
            <a:ext cx="303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Она как будто всё время спешит. Зацветает очень рано, едва снег успевает исчезнуть. Маленькое растение с чудесными сиреневыми цветами, собранными в густую кисть. У каждого цветка маленький хохолок. Зацветает лишь на 4-5 год своей жизни. Семена хохлатки разносят муравь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" descr="corydalis_sol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5977080" cy="448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158760" y="170028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н-трава  - навевающая сны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40000" y="1657440"/>
            <a:ext cx="303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пестки фиолетовые. серебристый пушок. Листья рассечены на дольки, как будто прострелены. Поэтому другое название – прострел весенний. Народное название, сон –трава, будто бы навевает сны. Кое-где цветок называют сон-дрёмой, сончиком, бобриком - из-за густых волосков, которые покрывают растение. Благодаря волоскам плодик летает - легко переносится ветром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8" descr="Pulsatilla%20vulgaris%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6048360" cy="453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210960" y="155736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треница  (Анемона)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40000" y="1657440"/>
            <a:ext cx="303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Анемос» означает ветер, потому что его цветок на тонком стебле качается даже от лёгкого ветерка. Цветет обычно ранней весной, когда наступает период тепла и света. Цветы жёлтые. Растение ЯДОВИТОЕ, в корм животным непригодн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62_16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557360"/>
            <a:ext cx="5842080" cy="4392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3"/>
          <a:stretch/>
        </p:blipFill>
        <p:spPr>
          <a:xfrm>
            <a:off x="108000" y="157644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пальница  - цветок тролля.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40000" y="1412640"/>
            <a:ext cx="30337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народному поверью, эти растения были любимыми у сказочных лесных существ- троллей. Купальница растёт на сырых лесах и лесных полянах. Купальница- луговое растение, цветёт на девятом году жизни. Цветы жёлтые и оранжевые. Жёлтый цвет активен. Он вызывает бодрые, радостные чувства. Оранжевый - ощущение тепла, как цвет огня или заходящего солнца. Растения ЯДОВИТЫ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1" descr="Globe-flower-520x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5953320" cy="446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ула</a:t>
            </a:r>
            <a:r>
              <a:rPr b="0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ивые жёлтые цветки собраны в виде поникшего зонтика на конце безлистного стебля, который выходит из прикорневых листьев – морщинистых, яйцевидной формы с волнистыми края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643272d16d59aec00f7ff8eec1be09d6"/>
          <p:cNvPicPr/>
          <p:nvPr/>
        </p:nvPicPr>
        <p:blipFill>
          <a:blip r:embed="rId1"/>
          <a:stretch/>
        </p:blipFill>
        <p:spPr>
          <a:xfrm>
            <a:off x="108000" y="1484280"/>
            <a:ext cx="5914800" cy="4437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108000" y="149220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1798560" y="298440"/>
            <a:ext cx="5645160" cy="196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getImage?photoId=494371795498&amp;photoType=0"/>
          <p:cNvPicPr/>
          <p:nvPr/>
        </p:nvPicPr>
        <p:blipFill>
          <a:blip r:embed="rId2"/>
          <a:stretch/>
        </p:blipFill>
        <p:spPr>
          <a:xfrm>
            <a:off x="324000" y="3645000"/>
            <a:ext cx="4103640" cy="286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ПОДСНЕЖНИКИ ИЗ ТАЛДЫКОРГАНА.jpg"/>
          <p:cNvPicPr/>
          <p:nvPr/>
        </p:nvPicPr>
        <p:blipFill>
          <a:blip r:embed="rId3"/>
          <a:stretch/>
        </p:blipFill>
        <p:spPr>
          <a:xfrm>
            <a:off x="4572000" y="3670200"/>
            <a:ext cx="4203720" cy="28432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324000" y="2011320"/>
            <a:ext cx="85690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ближается  весна, и скоро эти ранние цветы появятся из-под снега. Очень часто их небрежно рвут в большие букеты. В результате равнодушного отношения к природе многие первоцветы исчезают и поэтому занесены в Красную книгу. Если бы эти цветы остались расти в лесу, они дали бы великое множество семян. Тогда и через много лет поляны радовали бы нас своими волшебными кра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леска сибирская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ветет в апреле сразу после таяния снега. Декоративное ранневесеннее растени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Нижний колонтитул 4"/>
          <p:cNvSpPr/>
          <p:nvPr/>
        </p:nvSpPr>
        <p:spPr>
          <a:xfrm>
            <a:off x="108000" y="6356520"/>
            <a:ext cx="88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5c75"/>
                </a:solidFill>
                <a:latin typeface="Times New Roman"/>
                <a:ea typeface="Times New Roman"/>
              </a:rPr>
              <a:t>Не губите первоцветы, весны первые приметы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70532560_15proleskasibirskaja"/>
          <p:cNvPicPr/>
          <p:nvPr/>
        </p:nvPicPr>
        <p:blipFill>
          <a:blip r:embed="rId1"/>
          <a:stretch/>
        </p:blipFill>
        <p:spPr>
          <a:xfrm>
            <a:off x="179280" y="1484280"/>
            <a:ext cx="5724720" cy="4294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15560"/>
            <a:ext cx="8521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цве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только растает снег, на проталинах появляются первые весенние цветы – первоцветы. Это те растения, которые отваживаются пробиваться на первых проталинах. По-другому травянистые раннецветущие растения называют подснежниками,  первые цветы, которые цветут практически сразу после схода снега. Через неделю после появления на свет они уже цветут, а еще через пару недель появляются плоды с семен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Руси считали, что первоцветы вырастают там, где ударит первая молния. В скандинавских преданиях первоцвет – это не что иное, как ключик богини весны Фреи, которым она отпирает двери теплу после долгой зимы. А в середине века их считали ключиками апостола Петра от двери в царство небесное, нечаянно оброненными на землю.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3" descr="butterfly013"/>
          <p:cNvPicPr/>
          <p:nvPr/>
        </p:nvPicPr>
        <p:blipFill>
          <a:blip r:embed="rId1"/>
          <a:stretch/>
        </p:blipFill>
        <p:spPr>
          <a:xfrm>
            <a:off x="7157880" y="524664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ouquet13"/>
          <p:cNvPicPr/>
          <p:nvPr/>
        </p:nvPicPr>
        <p:blipFill>
          <a:blip r:embed="rId2"/>
          <a:stretch/>
        </p:blipFill>
        <p:spPr>
          <a:xfrm>
            <a:off x="3881520" y="5189400"/>
            <a:ext cx="1428840" cy="125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7640640" y="260280"/>
            <a:ext cx="120816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033[1]"/>
          <p:cNvPicPr/>
          <p:nvPr/>
        </p:nvPicPr>
        <p:blipFill>
          <a:blip r:embed="rId4"/>
          <a:stretch/>
        </p:blipFill>
        <p:spPr>
          <a:xfrm>
            <a:off x="324000" y="5189400"/>
            <a:ext cx="2228760" cy="1592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подснежник"/>
          <p:cNvPicPr/>
          <p:nvPr/>
        </p:nvPicPr>
        <p:blipFill>
          <a:blip r:embed="rId1"/>
          <a:stretch/>
        </p:blipFill>
        <p:spPr>
          <a:xfrm>
            <a:off x="120600" y="3860640"/>
            <a:ext cx="3700440" cy="288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ландыш"/>
          <p:cNvPicPr/>
          <p:nvPr/>
        </p:nvPicPr>
        <p:blipFill>
          <a:blip r:embed="rId2"/>
          <a:stretch/>
        </p:blipFill>
        <p:spPr>
          <a:xfrm>
            <a:off x="6004080" y="3832200"/>
            <a:ext cx="2708280" cy="28954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2"/>
          <p:cNvSpPr/>
          <p:nvPr/>
        </p:nvSpPr>
        <p:spPr>
          <a:xfrm>
            <a:off x="109440" y="1859040"/>
            <a:ext cx="856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аточное количество солнечного цвета, т.к. деревья и кустарники ещё не одели ли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аточное количество влаги после схода сне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олом весеннем лесу легко происходит опыление вет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фоне общей весенней серости хорошо видны яркие цветы (голубые, белые, розовые, жёлтые), которые привлекают насеком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325440" y="476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ЧИНЫ РАННЕГО ЦВЕ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ff"/>
                </a:solidFill>
                <a:latin typeface="Calibri"/>
              </a:rPr>
              <a:t>Весенний бук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Вот весенние цве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Или первоцве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Их запомнить      должен 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Как весны примет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Чтобы лучше их запомни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Ты загадки отгада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Ты гот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Не будем медл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3399"/>
                </a:solidFill>
                <a:latin typeface="Constantia"/>
              </a:rPr>
              <a:t>Постарайся, не зевай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Объект 3" descr=""/>
          <p:cNvPicPr/>
          <p:nvPr/>
        </p:nvPicPr>
        <p:blipFill>
          <a:blip r:embed="rId1"/>
          <a:srcRect l="0" t="0" r="56777" b="8372"/>
          <a:stretch/>
        </p:blipFill>
        <p:spPr>
          <a:xfrm>
            <a:off x="826920" y="1700280"/>
            <a:ext cx="3467160" cy="412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butterfly008"/>
          <p:cNvPicPr/>
          <p:nvPr/>
        </p:nvPicPr>
        <p:blipFill>
          <a:blip r:embed="rId2"/>
          <a:stretch/>
        </p:blipFill>
        <p:spPr>
          <a:xfrm>
            <a:off x="108000" y="5634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butterfly013"/>
          <p:cNvPicPr/>
          <p:nvPr/>
        </p:nvPicPr>
        <p:blipFill>
          <a:blip r:embed="rId3"/>
          <a:stretch/>
        </p:blipFill>
        <p:spPr>
          <a:xfrm>
            <a:off x="7956720" y="565776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bouquet13"/>
          <p:cNvPicPr/>
          <p:nvPr/>
        </p:nvPicPr>
        <p:blipFill>
          <a:blip r:embed="rId4"/>
          <a:stretch/>
        </p:blipFill>
        <p:spPr>
          <a:xfrm>
            <a:off x="7613640" y="52560"/>
            <a:ext cx="1428840" cy="125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6600"/>
                </a:solidFill>
                <a:latin typeface="Calibri"/>
              </a:rPr>
              <a:t>Загадка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46240" y="1773000"/>
            <a:ext cx="43974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nstantia"/>
              </a:rPr>
              <a:t>Самый первы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nstantia"/>
              </a:rPr>
              <a:t>Самый тонк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nstantia"/>
              </a:rPr>
              <a:t>Есть цветок с названьем нежны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nstantia"/>
              </a:rPr>
              <a:t>Как привет капели звонко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nstantia"/>
              </a:rPr>
              <a:t>Называется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43120" y="5794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187280" y="57340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ДСНЕ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rcRect l="0" t="0" r="62499" b="9925"/>
          <a:stretch/>
        </p:blipFill>
        <p:spPr>
          <a:xfrm>
            <a:off x="843120" y="1628640"/>
            <a:ext cx="3076560" cy="376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butterfly008"/>
          <p:cNvPicPr/>
          <p:nvPr/>
        </p:nvPicPr>
        <p:blipFill>
          <a:blip r:embed="rId2"/>
          <a:stretch/>
        </p:blipFill>
        <p:spPr>
          <a:xfrm>
            <a:off x="101520" y="56196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butterfly013"/>
          <p:cNvPicPr/>
          <p:nvPr/>
        </p:nvPicPr>
        <p:blipFill>
          <a:blip r:embed="rId3"/>
          <a:stretch/>
        </p:blipFill>
        <p:spPr>
          <a:xfrm>
            <a:off x="7885080" y="76500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bouquet13"/>
          <p:cNvPicPr/>
          <p:nvPr/>
        </p:nvPicPr>
        <p:blipFill>
          <a:blip r:embed="rId4"/>
          <a:stretch/>
        </p:blipFill>
        <p:spPr>
          <a:xfrm>
            <a:off x="7542360" y="5505480"/>
            <a:ext cx="1428480" cy="125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9999"/>
                </a:solidFill>
                <a:latin typeface="Calibri"/>
              </a:rPr>
              <a:t>Загадк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84720" y="177336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Золотые лепестк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Хрупкий стебеле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Распустился у ре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Солнечный цвето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Только тучка набежал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Сжались лепесточ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На зеленых стебельках -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nstantia"/>
              </a:rPr>
              <a:t>Круглые комоч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26920" y="57340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АТЬ - И - МАЧ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Объект 2" descr=""/>
          <p:cNvPicPr/>
          <p:nvPr/>
        </p:nvPicPr>
        <p:blipFill>
          <a:blip r:embed="rId1"/>
          <a:srcRect l="0" t="0" r="59523" b="9983"/>
          <a:stretch/>
        </p:blipFill>
        <p:spPr>
          <a:xfrm>
            <a:off x="609480" y="1557360"/>
            <a:ext cx="3384720" cy="3956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butterfly008"/>
          <p:cNvPicPr/>
          <p:nvPr/>
        </p:nvPicPr>
        <p:blipFill>
          <a:blip r:embed="rId2"/>
          <a:stretch/>
        </p:blipFill>
        <p:spPr>
          <a:xfrm>
            <a:off x="3994200" y="69228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butterfly013"/>
          <p:cNvPicPr/>
          <p:nvPr/>
        </p:nvPicPr>
        <p:blipFill>
          <a:blip r:embed="rId3"/>
          <a:stretch/>
        </p:blipFill>
        <p:spPr>
          <a:xfrm>
            <a:off x="7872480" y="560556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bouquet13"/>
          <p:cNvPicPr/>
          <p:nvPr/>
        </p:nvPicPr>
        <p:blipFill>
          <a:blip r:embed="rId4"/>
          <a:stretch/>
        </p:blipFill>
        <p:spPr>
          <a:xfrm>
            <a:off x="7701120" y="6480"/>
            <a:ext cx="1428480" cy="125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75760" cy="2024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41767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 многолетних трав семейства спаржевых. 1 вид — ландыш майский с несколькими подвидами, встречается в нашем городе довольно часто, в основном как декоративное растение. Его можно увидеть на цветущих полянах  Филёвского пар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Picture 4" descr="ландыш"/>
          <p:cNvPicPr/>
          <p:nvPr/>
        </p:nvPicPr>
        <p:blipFill>
          <a:blip r:embed="rId2"/>
          <a:stretch/>
        </p:blipFill>
        <p:spPr>
          <a:xfrm>
            <a:off x="4633920" y="1125360"/>
            <a:ext cx="4309920" cy="4607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butterfly008"/>
          <p:cNvPicPr/>
          <p:nvPr/>
        </p:nvPicPr>
        <p:blipFill>
          <a:blip r:embed="rId3"/>
          <a:stretch/>
        </p:blipFill>
        <p:spPr>
          <a:xfrm>
            <a:off x="179280" y="558972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butterfly013"/>
          <p:cNvPicPr/>
          <p:nvPr/>
        </p:nvPicPr>
        <p:blipFill>
          <a:blip r:embed="rId4"/>
          <a:stretch/>
        </p:blipFill>
        <p:spPr>
          <a:xfrm>
            <a:off x="7596360" y="571500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bouquet13"/>
          <p:cNvPicPr/>
          <p:nvPr/>
        </p:nvPicPr>
        <p:blipFill>
          <a:blip r:embed="rId5"/>
          <a:stretch/>
        </p:blipFill>
        <p:spPr>
          <a:xfrm>
            <a:off x="2987640" y="547524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66"/>
                </a:solidFill>
                <a:latin typeface="Calibri"/>
              </a:rPr>
              <a:t>Загадка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32000" y="2276640"/>
            <a:ext cx="352908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nstantia"/>
              </a:rPr>
              <a:t>Прячет цвето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nstantia"/>
              </a:rPr>
              <a:t>Сладкий медо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nstantia"/>
              </a:rPr>
              <a:t>И в назва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nstantia"/>
              </a:rPr>
              <a:t>Мед та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onstantia"/>
              </a:rPr>
              <a:t>Узнаете?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547640" y="5734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МЕДУ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Объект 2" descr=""/>
          <p:cNvPicPr/>
          <p:nvPr/>
        </p:nvPicPr>
        <p:blipFill>
          <a:blip r:embed="rId1"/>
          <a:srcRect l="0" t="0" r="58655" b="10139"/>
          <a:stretch/>
        </p:blipFill>
        <p:spPr>
          <a:xfrm>
            <a:off x="900000" y="1628640"/>
            <a:ext cx="3114720" cy="3802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butterfly008"/>
          <p:cNvPicPr/>
          <p:nvPr/>
        </p:nvPicPr>
        <p:blipFill>
          <a:blip r:embed="rId2"/>
          <a:stretch/>
        </p:blipFill>
        <p:spPr>
          <a:xfrm>
            <a:off x="3881520" y="69228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butterfly013"/>
          <p:cNvPicPr/>
          <p:nvPr/>
        </p:nvPicPr>
        <p:blipFill>
          <a:blip r:embed="rId3"/>
          <a:stretch/>
        </p:blipFill>
        <p:spPr>
          <a:xfrm>
            <a:off x="7885080" y="162864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bouquet13"/>
          <p:cNvPicPr/>
          <p:nvPr/>
        </p:nvPicPr>
        <p:blipFill>
          <a:blip r:embed="rId4"/>
          <a:stretch/>
        </p:blipFill>
        <p:spPr>
          <a:xfrm>
            <a:off x="4272120" y="5335560"/>
            <a:ext cx="1428480" cy="1257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21Z</dcterms:created>
  <dc:creator>Мудрая Лора</dc:creator>
  <dc:description/>
  <cp:keywords>Средняя группа</cp:keywords>
  <dc:language>en-US</dc:language>
  <cp:lastModifiedBy>1</cp:lastModifiedBy>
  <dcterms:modified xsi:type="dcterms:W3CDTF">2015-03-01T08:23:48Z</dcterms:modified>
  <cp:revision>105</cp:revision>
  <dc:subject/>
  <dc:title>Kkkkkkkkkббьтттkkkkkkkkkkkkk</dc:title>
</cp:coreProperties>
</file>