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79A-28B4-4746-A88E-5B10A608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CFD-1FFF-4D80-982C-438699E9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975-CB16-48EA-8C20-3D457C0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A82-96E9-48F1-964C-40E9153B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5463-A7BC-4D48-958C-5ED1C6F8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C738-67F7-4996-825E-0B3B627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DDF-E893-4A96-9914-28EF532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3080-38F8-43C1-8C5C-2439192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52FC-7E87-49DC-9151-E33016EC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5EDF-53F3-4668-B6BE-C54C55E0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F95-B894-42BA-A814-FEF8293F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430-2457-452B-9955-0B4B869B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87CD-4788-4077-8152-CCF9CF6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C2D-9BB9-4F84-B1AB-DD12A39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7F5E-1754-4A43-B1AA-3EEFF1A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5E8-53C1-4263-8C8F-DD257A1C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CE1D-F99B-4B91-90AA-787CB44A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521-5986-42D0-878F-36E6286F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EC4-C492-49DC-B2E7-5D88889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C8-9F7E-4D65-B182-6EE6AC74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604-A519-4996-B3E3-DA283D74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451-C6D7-424C-9B4E-20F832A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400-3A4E-40FB-A952-ADC1CDF4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C60-59AB-485C-97FD-02862031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65E-D910-4E1F-8662-E9AD3FABF38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CA19-E2FB-4BBB-819B-896DBB8529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71A-06B2-485A-B4DD-92447EE067D9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C95-6B5E-4AA4-BB2E-13BB82ED7C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969840" y="-42840"/>
            <a:ext cx="7850160" cy="28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адонис"/>
          <p:cNvPicPr/>
          <p:nvPr/>
        </p:nvPicPr>
        <p:blipFill>
          <a:blip r:embed="rId2"/>
          <a:stretch/>
        </p:blipFill>
        <p:spPr>
          <a:xfrm>
            <a:off x="3132000" y="4005360"/>
            <a:ext cx="415296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медуница_2"/>
          <p:cNvPicPr/>
          <p:nvPr/>
        </p:nvPicPr>
        <p:blipFill>
          <a:blip r:embed="rId3"/>
          <a:stretch/>
        </p:blipFill>
        <p:spPr>
          <a:xfrm>
            <a:off x="6684840" y="1220760"/>
            <a:ext cx="2494080" cy="266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ветреница дубравная"/>
          <p:cNvPicPr/>
          <p:nvPr/>
        </p:nvPicPr>
        <p:blipFill>
          <a:blip r:embed="rId4"/>
          <a:stretch/>
        </p:blipFill>
        <p:spPr>
          <a:xfrm>
            <a:off x="395280" y="3500280"/>
            <a:ext cx="2633760" cy="302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сон_трава"/>
          <p:cNvPicPr/>
          <p:nvPr/>
        </p:nvPicPr>
        <p:blipFill>
          <a:blip r:embed="rId5"/>
          <a:stretch/>
        </p:blipFill>
        <p:spPr>
          <a:xfrm>
            <a:off x="103320" y="1197000"/>
            <a:ext cx="3028680" cy="1979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Весенние цв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2do2go.ru/uploads/full/db7f5c12442cb15b9d0d6a3b158a8d5f_w960_h2048.jpg"/>
          <p:cNvPicPr/>
          <p:nvPr/>
        </p:nvPicPr>
        <p:blipFill>
          <a:blip r:embed="rId1"/>
          <a:stretch/>
        </p:blipFill>
        <p:spPr>
          <a:xfrm>
            <a:off x="-12600" y="36360"/>
            <a:ext cx="9408960" cy="682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2do2go.ru/uploads/full/d851687ffd6636e3dc5a9cc1d8a2bfa9_w960_h2048.jpg"/>
          <p:cNvPicPr/>
          <p:nvPr/>
        </p:nvPicPr>
        <p:blipFill>
          <a:blip r:embed="rId1"/>
          <a:stretch/>
        </p:blipFill>
        <p:spPr>
          <a:xfrm>
            <a:off x="-174600" y="0"/>
            <a:ext cx="102711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-7920" y="0"/>
            <a:ext cx="9183600" cy="688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0" y="20520"/>
            <a:ext cx="9161640" cy="6837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11160" y="792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-541440" y="0"/>
            <a:ext cx="1039824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21Z</dcterms:created>
  <dc:creator>Мудрая Лора</dc:creator>
  <dc:description/>
  <cp:keywords>Средняя группа</cp:keywords>
  <dc:language>en-US</dc:language>
  <cp:lastModifiedBy>1</cp:lastModifiedBy>
  <dcterms:modified xsi:type="dcterms:W3CDTF">2015-03-01T08:30:08Z</dcterms:modified>
  <cp:revision>107</cp:revision>
  <dc:subject/>
  <dc:title>Kkkkkkkkkббьтттkkkkkkkkkkkkk</dc:title>
</cp:coreProperties>
</file>