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806-2460-4F7D-88F6-4892D8C3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64D-50C4-42DC-8BEB-BE3B297E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1B4-0C6E-423F-B360-3413875E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364-A432-45C6-9ECA-FE55CDEA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7D8A-6CE6-40DC-BEA9-8DE76217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236C-6351-4ECE-8C8B-0DFCF7E1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F2C6-885D-4660-A6A6-4A2737BB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92C6-9F1C-4239-960F-67596D27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F327-9E52-44D8-8A11-779530D8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F8D2-4592-446E-923A-82BFA079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4E4C-8FCE-4BB2-9AF4-4B864BB7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C76-E5F8-4922-BC56-6DDBF9EE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DF47-A41C-4E2B-8CD6-2534C1D2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DDC2-C8F2-43C5-91DA-AAFAE9AF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E787-FC0A-4730-8F88-0FFF62D3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2066-F3B0-4508-896F-59E8BEFA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CCD6-3B6D-41F0-A136-0BFF6C9F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E9C-9FF1-496F-9A72-78CDF1EA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D51-3D54-43AE-BEB9-684EFFA2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57E-4FFA-48B2-ACE8-53191CDC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76D-E2F5-45FB-8072-BB6B67A9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917-0790-43B3-A8C7-D2A8E57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7BC-BF58-418E-AC71-86CAB966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F51-70F2-4049-A5A7-DB45A6F7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D56D-BBFA-4B56-9F47-E523DB6F0992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9BAB-3447-4259-9748-F248CF44E9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67CC-1E76-4C46-9A77-C3F26DE1853B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E7CB-9028-4C4B-9238-D57E8748CCA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8;&#1074;&#1086;&#1094;&#1074;&#1077;&#1090;&#1099;%20&#1092;&#1086;&#1090;&#1086;&amp;img_url=http%3A%2F%2Fimg1.liveinternet.ru%2Fimages%2Fattach%2Fc%2F0%2F46%2F146%2F46146662_1247162534_24.jpg&amp;pos=12&amp;uinfo=sw-1263-sh-624-fw-1038-fh-448-pd-1&amp;rpt=simage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84212422_3303834_crocus_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Calibri"/>
              </a:rPr>
              <a:t>Используемые материал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nstantia"/>
              </a:rPr>
              <a:t>1)Наглядно-методическое пособие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nstantia"/>
              </a:rPr>
              <a:t>Н. В. Нищева,  «Первые весенние цветы» (художник Н. А. Ващенко), С-Пб «Детство-Пресс», 200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nstantia"/>
              </a:rPr>
              <a:t>2)Проект Фоминых В., Крохина К., Уфаркина К.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nstantia"/>
              </a:rPr>
              <a:t>3)Презентация Нечаевой О.П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nstantia"/>
              </a:rPr>
              <a:t>4)Экологический проект  Поповой Е.П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732720" y="125280"/>
            <a:ext cx="2108160" cy="2136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Весенние цветы"/>
          <p:cNvPicPr/>
          <p:nvPr/>
        </p:nvPicPr>
        <p:blipFill>
          <a:blip r:embed="rId1"/>
          <a:stretch/>
        </p:blipFill>
        <p:spPr>
          <a:xfrm>
            <a:off x="0" y="0"/>
            <a:ext cx="9129600" cy="684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Весенние цветы"/>
          <p:cNvPicPr/>
          <p:nvPr/>
        </p:nvPicPr>
        <p:blipFill>
          <a:blip r:embed="rId1"/>
          <a:stretch/>
        </p:blipFill>
        <p:spPr>
          <a:xfrm>
            <a:off x="0" y="-1994040"/>
            <a:ext cx="9144000" cy="887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802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Весенние цветы"/>
          <p:cNvPicPr/>
          <p:nvPr/>
        </p:nvPicPr>
        <p:blipFill>
          <a:blip r:embed="rId1"/>
          <a:stretch/>
        </p:blipFill>
        <p:spPr>
          <a:xfrm>
            <a:off x="-19080" y="25560"/>
            <a:ext cx="9344160" cy="683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i?id=61062070-1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img_bellaarkadeevna_611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081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1"/>
          <p:cNvSpPr/>
          <p:nvPr/>
        </p:nvSpPr>
        <p:spPr>
          <a:xfrm>
            <a:off x="324000" y="6356520"/>
            <a:ext cx="84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губите первоцветы, весны первые приметы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5" descr="885f8b3b0a8c.png"/>
          <p:cNvPicPr/>
          <p:nvPr/>
        </p:nvPicPr>
        <p:blipFill>
          <a:blip r:embed="rId1"/>
          <a:stretch/>
        </p:blipFill>
        <p:spPr>
          <a:xfrm>
            <a:off x="-108000" y="1197000"/>
            <a:ext cx="9144000" cy="492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1O2[1]"/>
          <p:cNvPicPr/>
          <p:nvPr/>
        </p:nvPicPr>
        <p:blipFill>
          <a:blip r:embed="rId2"/>
          <a:stretch/>
        </p:blipFill>
        <p:spPr>
          <a:xfrm>
            <a:off x="4284720" y="2349360"/>
            <a:ext cx="1154160" cy="1229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1763640" y="549360"/>
            <a:ext cx="64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26:21Z</dcterms:created>
  <dc:creator>Мудрая Лора</dc:creator>
  <dc:description/>
  <cp:keywords>Средняя группа</cp:keywords>
  <dc:language>en-US</dc:language>
  <cp:lastModifiedBy>1</cp:lastModifiedBy>
  <dcterms:modified xsi:type="dcterms:W3CDTF">2015-03-01T08:32:35Z</dcterms:modified>
  <cp:revision>105</cp:revision>
  <dc:subject/>
  <dc:title>Kkkkkkkkkббьтттkkkkkkkkkkkkk</dc:title>
</cp:coreProperties>
</file>