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29D-EA79-4600-9A44-981194D2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93AE-3160-47DE-B2C5-0E623A5A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196-18C5-4135-8514-29723C19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8B1-BD7A-49A7-811F-315EF7EE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6CE5-5B61-4AF4-9DC8-D84FB308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C1D9-8DE0-4813-B905-8D1D621F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2E71-77C5-4C2A-ABF6-9F7042B8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ADC9-D491-4818-AEA8-034CDDEF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B94E-1779-41F7-8819-8A0A4419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3D17-E476-4592-A6F1-71983A07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785A-04B1-4657-BAD2-B739BD0D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9E84-2A85-4B9B-8586-BECA66C2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2F28-4DD2-4D98-AF5E-80EE3575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A050-1A43-41D9-ABC9-35780ACD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6900-087B-47AD-A61E-AC2465B4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EEFA-3E98-4268-A2F4-BFDB0E99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7925-035C-46DB-943D-1C3B2D79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B345C-A4FD-4303-A5D8-C423F0E1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41045-3A83-432B-980D-27AD0895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BB42A-EA75-4F39-A6B1-79D24CDC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59F35-7396-4BE8-823F-C99B75EE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B113B-F7C8-4F26-8A7B-045E49A1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A0B-C1CC-4871-9DF3-CD6860F6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EB228-0C8D-49F5-B855-2B631752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8B360-AC3E-483C-96A8-EE81E818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04CD8-F125-44A0-9369-A8A788CA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EC1C4-64B3-43BB-8984-E7473E88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4AEF-AEA2-4867-9EA7-2542E0F0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36E54-1500-426D-921E-6183C429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3947F-7BF5-4264-BB68-CDF5D62E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16F1B-FDBC-4DAA-9EDD-618C1A68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690A1-E046-400F-B5F9-C84816E1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84D4D-A34F-452C-9004-845A631C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9AE4-8FAE-4883-86B1-8C5E9CD4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6914F-B3A1-4D76-B577-50C28625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FFB97-454D-4695-9332-2851C70D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597D7-FBD2-4FEF-9248-E793ADAE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A717F-F183-475C-BDB6-0CF831D1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3CBC1-B932-4661-AC68-91D52196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D68ED-F6A7-4895-A094-A9DC6281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7EA28-5437-4EF8-9B8F-AD2FEBC2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0155E-F382-4AAD-A943-BEEC4A0C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87CA4-32F9-4EA3-8377-393AC146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814EF-41F1-4D19-A216-2D16C062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8AA-90EE-4990-947D-DC6A9580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29A56-F22D-4C55-96F1-65A21357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E5C29-FA96-4DC7-81EF-706D2934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F24F9-BFA9-418C-903D-14C2DA1E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A7B34-05E7-4078-AD61-EC0FF974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9C25B-2C99-41EC-9322-CC6BB5C3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72DFE-FAF4-4095-9801-B1B34706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6DC43-2A55-4CC3-8CA0-F5480B9A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71E76-757D-4508-A2D4-7454DA7C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2DA19-2019-4272-BA9A-6C976B39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B91F4-243F-4432-AEB1-0FB738F4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E72A-33C8-4B66-9AA0-03A66D27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061EB-1F20-4CB0-AA8B-D8CF22AE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1D2B6-F872-450E-A319-96F7FF98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5A2A5-65E1-40FA-A1B3-096770EC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93D16-5C0A-4DBD-843C-D7103E92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3A640-3082-4994-A95B-1DB6D7F5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F3BED-0430-4060-B032-3D08B88A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604FE-10C6-474F-B912-63EE0364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A73BE-C686-4345-82C9-DAF403DE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F1814-C3B8-433A-8C8A-09109468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F2D47-628B-42F2-BA32-CC0EBDEC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A5F-F098-48AC-8396-7598C29B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08C77-0D1D-4E93-855A-727C55C6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01C4D-0FF4-4EB0-B0AB-369BFF84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99B3A-5959-42F0-AD92-23C74B9B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AA05D-5759-455C-B55C-609F3787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BBAA0-2E01-461A-AB36-E8F8242C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1EEC1-8E70-4215-83E7-B5FEDA75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AB30C-F6C1-405A-B23B-7ACF005E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54967-E3B0-42FF-ACFC-501B11F1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8592C-2F52-4815-8E6E-0555CCFA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7B367-AA32-41D6-B0A8-61AE12E4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517B-FE61-4148-9264-9DF589E9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CEC04-DB1F-41AE-A012-46C153F3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3F2D2-7CFC-4778-8447-DAFF5CD5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1936A-A963-4B58-953A-BBD1B205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7FB64-1F53-4B2D-A999-5D524740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9AC1E-3B28-440C-BE2C-10AE3239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720-06A6-4352-8BBB-731583D0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0084-20E4-4B22-AF79-453872C9704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B919-015D-476C-9D99-AE34B2C9471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5EC5-A76E-4905-ADC1-DA7A870BA96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B5FD-2D30-4957-99B7-CCADAC5C70C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C3D2-B2B8-4B9C-AF0D-22EC8BA3D9D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155B-A4BA-42C5-9A3F-480E752E577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00C5-C43B-47C0-9F28-22724BA02CB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itnes-woman.ru/wp-content/uploads/2010/04/115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itnes-woman.ru/wp-content/uploads/2010/04/1450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tnes-woman.ru/kakie-byvayut-fitnes-programmy/attachment/05565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000080" y="57132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orbel"/>
              </a:rPr>
              <a:t>Презентация по аэробике.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1785960" y="2071800"/>
            <a:ext cx="58118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928800" y="214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Стрип-дэнс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и </a:t>
            </a: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стрип-пластика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: подвиды танцевальной аэробики. Направлены на развитие гибкости и пластики тела, изучение основ стриптиза. При занятиях стрип-пластикой отлично прорабатываются мышцы ног и бедер, в частности, убираются «галифе», благодаря обилию движений с глубокими приседаниями. И, кроме пользы, стрип-дэнс – это просто очень красиво, Ваши достижения в этом виде фитнеса непременно будут высоки!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8" name="Рисунок 3" descr="стрип-дэнс и стрип-пластика"/>
          <p:cNvPicPr/>
          <p:nvPr/>
        </p:nvPicPr>
        <p:blipFill>
          <a:blip r:embed="rId1"/>
          <a:stretch/>
        </p:blipFill>
        <p:spPr>
          <a:xfrm>
            <a:off x="2500200" y="2714760"/>
            <a:ext cx="47865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пасибо за внимание!!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85880" y="1571760"/>
            <a:ext cx="77724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дготовил: Добрынин А. 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2428920" y="2357280"/>
            <a:ext cx="43578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642960" y="0"/>
            <a:ext cx="804384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Аэробика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: этот с детства знакомый и привычный вид физических нагрузок по-прежнему занимает лидирующие позиции по популярности среди людей, следящих за своей фигурой. Аэробика – это ритмичные упражнения, выполняющиеся под музыку и  сочетающие в себе дыхательные упражнения, проработку мышц и развитие пластики. Аэробика призвана насытить ткани и органы кислородом и укрепить сердечно-сосудистую систему. За счет интенсивности нагрузок и обогащения организма кислородом, происходит быстрое сжигание жиров, поэтому аэробика – один из самых эффективных борцов с лишним весом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2428920" y="3071880"/>
            <a:ext cx="458316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Виды аэробики: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85880" y="478620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Классическая (танцевальная) аэробика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основана на танцевальных движениях. Активно укрепляет мышцы, особенно, мышцы нижней части тела, рук и ног, хорошо снижает лишний вес, укрепляет сердце и сосуды, делает тело более пластичным, улучшает осанку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4" name="Рисунок 3" descr="классическая аэроби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14720" y="1143000"/>
            <a:ext cx="5286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928800" y="3643200"/>
            <a:ext cx="7772400" cy="37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Степ-аэробика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проводится с использованием специальной платформы – степа. Данный вид аэробики также призван укрепить сердечно-сосудистую и дыхательную системы, прекрасно подтягивает мышцы ног, бедер и ягодиц, делает рельеф тела более красивым. Применение отягощения (гантелей) и разнообразные виду движений на степе (подъемы и спуски с платформы, прыжки, наклоны туловища и т.д.) дает хорошую нагрузку и мышцам плечевого пояса,  спины. Очень динамичный и увлекательный вид фитнеса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6" name="Рисунок 3" descr="степ-аэроби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00160" y="214200"/>
            <a:ext cx="5143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000080" y="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Силовая аэробика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– это аэробика с использованием различных тренажеров, работающих с разными группами мышц. Отлично подходит тем, кому необходимо подтянуть дряблые мышцы, сделать их рельефными и согнать лишний жир. Обычно вследствие тренировок вес мышц увеличивается, поэтому общий вес тела может и не снизиться, но тело все равно станет стройным, потому что объем мышц растет, а жир сжигается. Не всем этот вид фитнеса подойдет: энергичным и эмоциональным натурам лучше выбрать что-то танцевальное и динамичное, потому что занятия с тренажерами  проводятся в меньшем темпе, во избежание  травм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8" name="Рисунок 3" descr="силовая аэроби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57280" y="3357720"/>
            <a:ext cx="4776840" cy="33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9288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Слайд-аэробика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– это разновидность силовой аэробики, выполняется на гладкой дорожке в специальной обуви – атласных чешках. Скользящие движения занимающихся напоминают движения лыжников или конькобежцев: собственно, слайд и был придуман как способ тренировки конькобежцев в летний период. Слайд-аэробика великолепно подходит для женщин, желающих избавиться от жировых отложений в области бедер, ног и и ягодиц. Хорошо укрепляются суставы ног. Однако данный вид аэробики считается более травматичным, чем, например, степ-аэробика, поэтому новичкам лучше начать занятия с другими фитнес-программами, переходя к слайд-аэробике уже тогда, когда мышцы и суставы уже адаптируются к повышенным нагрузкам. Иначе велика вероятность вывихов и растяжений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Рисунок 3" descr="слайд-аэробика"/>
          <p:cNvPicPr/>
          <p:nvPr/>
        </p:nvPicPr>
        <p:blipFill>
          <a:blip r:embed="rId1"/>
          <a:stretch/>
        </p:blipFill>
        <p:spPr>
          <a:xfrm>
            <a:off x="2857680" y="142920"/>
            <a:ext cx="30715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143000" y="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Аквааэробика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– уникальная фитнес-программа, позволяющая прорабатывать одновременно практически все группы мышц, укреплять суставы и связки. Как понятно из названия, занятия аквааэробикой проводятся в воде, в бассейне. Этот вид фитнеса не имеет противопоказаний ни по весу, ни по росту, ни по половой принадлежности, ни по уровню физической подготовки. Существует и </a:t>
            </a: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аквааэробика для беременных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– прекрасная возможность укрепить мышцы и связки, привести тело в хорошую форму даже будучи в столь деликатном положении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2" name="Рисунок 3" descr="Аквааэробика"/>
          <p:cNvPicPr/>
          <p:nvPr/>
        </p:nvPicPr>
        <p:blipFill>
          <a:blip r:embed="rId1"/>
          <a:stretch/>
        </p:blipFill>
        <p:spPr>
          <a:xfrm>
            <a:off x="2643120" y="3071880"/>
            <a:ext cx="47149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857160" y="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екрет аквааэробики в том, что в воде Вы не чувствуете собственного веса, даже если он весьма велик, поэтому в воде легко заниматься даже очень полным людям, так же разгружаются зажатые группы мышц (например, мышцы спины у беременных женщин), при этом вода обеспечивает дополнительно сопротивление, не давая травмироваться суставам, мышцам и костям. В совокупности все эти факторы обеспечивают великолепный результат, который достигается с огромным удовольствием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643120" y="2857680"/>
            <a:ext cx="414360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928800" y="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Танцевальная аэробика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очень близка к классической аэробике, но здесь уклон делается именно на танцевальные движения под самую разнообразную музыку. Танцевальная аэробика призвана не только укрепить опорно-двигательный аппарат и подтянуть мышцы, большое значение имеет заряд энергии, который Вы получаете во время занятий. Исправляется осанка, улучшается настроение, что, в совокупности с похудением, делает танцевальную аэробику одной из самых приятных и эффективных фитнес-программ. В настоящее время в спортивных клубах предлагаются занятия по стрип-пластике, хип-хоп, танцу живота и восточным танцам, фанк-аэробике, R’n’B и MTV dance и множеству других танцевальных направлений, среди которых каждый может выбрать фитнес-программу на свой вкус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Рисунок 3" descr="танцевальная аэробика"/>
          <p:cNvPicPr/>
          <p:nvPr/>
        </p:nvPicPr>
        <p:blipFill>
          <a:blip r:embed="rId1"/>
          <a:stretch/>
        </p:blipFill>
        <p:spPr>
          <a:xfrm>
            <a:off x="2571840" y="4429080"/>
            <a:ext cx="4000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2:51:04Z</dcterms:created>
  <dc:creator>admin</dc:creator>
  <dc:description/>
  <dc:language>en-US</dc:language>
  <cp:lastModifiedBy>admin</cp:lastModifiedBy>
  <dcterms:modified xsi:type="dcterms:W3CDTF">2011-02-28T13:16:13Z</dcterms:modified>
  <cp:revision>3</cp:revision>
  <dc:subject/>
  <dc:title>Слайд 1</dc:title>
</cp:coreProperties>
</file>