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2F05-0558-459A-AD2A-1CB2E03B5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996A-6CDF-47EF-A3B7-E83B97FA22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E27F-B900-4A1B-8CB5-5B6ED40E1F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9CF-5116-4696-BD40-B1B1A6E9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B89-C1CF-42D1-A94C-1A079B69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69E-8438-4F44-B2C6-29B46658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851-1573-4DEB-80B1-AF1F76CB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AB2FF-9D1D-4398-9D47-50E605AF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50B3C-E5A8-44C5-BA3E-FD3EFF29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01A78-705C-4A1F-8822-F69F259E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E1D0D-AE72-4BDB-B4EB-9BD09579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5DAB4-685F-40AF-9AE4-58C701F5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B7E0C-E215-4B4E-808C-8EB72AAB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B0822-D4A5-441C-9DCB-832D4836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E89-6136-476B-A9D2-78DA6617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61EC2-0037-4CE6-91DD-A6D19E97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46828-BF68-4F18-8457-E4AA86D7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5591A-EBD4-4935-BB92-B01E1831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C5640-8792-4A79-86A6-6A7C4400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9182E-D9E9-472D-BFAE-B89254CF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3029-0548-4FD1-89ED-F4FA30A3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6AB7-D0A2-479C-ABAF-F2177364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BC59-8C86-4D33-B3E4-E0F879D3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EE57-8C6B-47AA-9914-4C0C55B9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93DC0-CC31-4835-A94D-470FA0EE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6FB-3E69-4BB6-B620-3FE59C43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A283-D8F0-49BA-95A5-85CE16E4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1E81-C93C-46FD-A534-70673E33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1E5D-95C9-4691-A653-D07F7FCD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0A301-FE11-4C6A-9188-987518C6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4084-40B9-4642-B79D-5C5A108C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94D2A-BFE9-44A8-AE7A-6F099891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F741-2AD7-4195-9823-374A8A11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C4F663-2293-4617-B276-78D4DA86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57E6BC-C1FF-4788-A984-96B131A5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E546E-ED44-48BC-ABFD-5F6BC81F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986-5868-486F-BBCA-4D8E188E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7D5D1-D279-4686-9330-942CCEE0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AAB883-6965-4467-9FEB-57FD4280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3039D-E81B-4A2E-857C-80BF971C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04C0C-9F8C-40EC-9A93-BDDCF7D7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2A756-056F-4103-9EDE-DCC45546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E9D1C-4994-4C13-9AAE-B8D65598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1EA8A0-61C4-4B71-A373-06C86632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9DAA19-90F8-4F00-9A66-AC999257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E44926-9A19-421D-8A20-8557DBA7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100-A7CB-4E60-87AA-E030B88A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4A0-5310-40FF-9407-8CC1353A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D50-AA7C-4D45-B35F-03089E14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BEF-496F-4871-84E2-C5166447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E3B-5423-4C6A-94D5-A2405F37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1571-F6B8-4666-8B90-2F870A697BF9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3F00-6BAC-4D0B-8CCC-697C962713E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F21E-68BE-4F07-8BE1-8FFC6CE90FED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0DF5-3CF8-4CDF-A36E-84017E829E0D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на тему: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рестская крепость»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ученица 9 класс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янина Еле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566640" y="189000"/>
            <a:ext cx="8242560" cy="1243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642960" y="571680"/>
            <a:ext cx="7429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обринском укреплении к этому времени все защитники (около 400 человек под командованием майора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тра Михайловича Гаврил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сосредоточились в Восточном форте. Ежедневно защитникам крепости приходилось отбивать 7—8 атак, причём применялись огнемёты. 26 июня пал последний участок обороны Цитадели возле Трёхарочных ворот, 29 июня — Восточный форт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рганизованная оборона крепости на этом закончилась — оставались лишь изолированные группы и одиночные бойцы. В общей сложности 5-6 тысяч человек попало в немецкий пл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3"/>
          <p:cNvSpPr/>
          <p:nvPr/>
        </p:nvSpPr>
        <p:spPr>
          <a:xfrm>
            <a:off x="500040" y="3571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защитников крепости не было патронов, еды, но хуже всего было с водой. Фашисты обстреливали берег реки и днём, и ночью. Баклага речной воды нередко стоила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5" descr="Как нарисовать крепость картинки Сайт о рисовании"/>
          <p:cNvPicPr/>
          <p:nvPr/>
        </p:nvPicPr>
        <p:blipFill>
          <a:blip r:embed="rId1"/>
          <a:stretch/>
        </p:blipFill>
        <p:spPr>
          <a:xfrm>
            <a:off x="1285920" y="2214720"/>
            <a:ext cx="5829120" cy="3924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легенда о советском солдате, который сражался один на протяжении 10 месяцев, не подпуская немцев к развалинам крепост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928800" y="428760"/>
            <a:ext cx="72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шинство участников обороны Брестской крепости погиб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6" descr="Фильм Брестская Крепость"/>
          <p:cNvPicPr/>
          <p:nvPr/>
        </p:nvPicPr>
        <p:blipFill>
          <a:blip r:embed="rId1"/>
          <a:stretch/>
        </p:blipFill>
        <p:spPr>
          <a:xfrm>
            <a:off x="1428840" y="1428840"/>
            <a:ext cx="5715000" cy="3822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28760" y="285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Немцы по радио говорили, что Москва захвачена, советская армия разбита, обещали солдату замечательную, сытую жизнь, но как только фашисты подходили к руинам, он отвечал им огнем. Вышел солдат из крепости только тогда, когда фашисты признались, что Москва не захвачена, а наша армия сражается. Из руин вышел худой, изможденный человек. Нельзя было судить о его возрасте, т.к. он был совершенно седой и совершенно слепой. В подвале было темно и, выйдя на свет, человек потерял зрение. На вопрос: «Кто вы? Назовите свою фамилию, звание», он ответил: «Я советский солдат». Потрясенные мужеством советского солдата, немцы выстроились в шеренгу, а офицер отдал честь. До машины советский солдат не дошел, он упал замертво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ГУСЬ-БУКА"/>
          <p:cNvPicPr/>
          <p:nvPr/>
        </p:nvPicPr>
        <p:blipFill>
          <a:blip r:embed="rId1"/>
          <a:stretch/>
        </p:blipFill>
        <p:spPr>
          <a:xfrm>
            <a:off x="928800" y="1785960"/>
            <a:ext cx="6858000" cy="350352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3"/>
          <p:cNvSpPr/>
          <p:nvPr/>
        </p:nvSpPr>
        <p:spPr>
          <a:xfrm>
            <a:off x="642960" y="35712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  последнего сражались бойцы. Об этом говорят надписи на стенах крепости: «Прощай, Родина! Умрём, но не сдадимся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4"/>
          <p:cNvSpPr/>
          <p:nvPr/>
        </p:nvSpPr>
        <p:spPr>
          <a:xfrm>
            <a:off x="785880" y="5357880"/>
            <a:ext cx="72151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«20 июля 1941 года».Прямое доказательство того, что крепость продолжала сопротивление еще на 29-й день войны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7120" y="78588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Заголовок 5" descr=""/>
          <p:cNvPicPr/>
          <p:nvPr/>
        </p:nvPicPr>
        <p:blipFill>
          <a:blip r:embed="rId1"/>
          <a:stretch/>
        </p:blipFill>
        <p:spPr>
          <a:xfrm>
            <a:off x="798480" y="3346560"/>
            <a:ext cx="6608880" cy="25178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3"/>
          <p:cNvSpPr/>
          <p:nvPr/>
        </p:nvSpPr>
        <p:spPr>
          <a:xfrm>
            <a:off x="1000080" y="24289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e58b6"/>
                </a:solidFill>
                <a:uFillTx/>
                <a:latin typeface="Arial"/>
              </a:rPr>
              <a:t>://www.brest.by/ct/page5_4.htm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1000080" y="42876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e58b6"/>
                </a:solidFill>
                <a:uFillTx/>
                <a:latin typeface="Arial"/>
              </a:rPr>
              <a:t>http://www.brest-fortress.by/istoriya/12-krepost-1941-1944/43-boi-na-kobrinskom-ukreplenii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57120" y="357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рестская крепость или крепость Брест-Литовск - крепость в черте города Брест в Белоруссии. Город и крепость расположены в юго-западной части Брестской области, при впадении реки Мухавец в Западный Буг, у государственной границы с Польше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Picture 2" descr="Брестская крепость - план схема - фото / Брестская крепость - фото / Мемориалы / Памятники и мемориалы / Фоторепортажи - Брест -"/>
          <p:cNvPicPr/>
          <p:nvPr/>
        </p:nvPicPr>
        <p:blipFill>
          <a:blip r:embed="rId1"/>
          <a:stretch/>
        </p:blipFill>
        <p:spPr>
          <a:xfrm>
            <a:off x="1285920" y="2786040"/>
            <a:ext cx="6191280" cy="3381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156000" y="1600200"/>
            <a:ext cx="28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Picture 5" descr="Презентации про брестскую крепость для детей - Лучшая библиотека"/>
          <p:cNvPicPr/>
          <p:nvPr/>
        </p:nvPicPr>
        <p:blipFill>
          <a:blip r:embed="rId1"/>
          <a:stretch/>
        </p:blipFill>
        <p:spPr>
          <a:xfrm>
            <a:off x="4429080" y="3214800"/>
            <a:ext cx="4216320" cy="316548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5"/>
          <p:cNvSpPr/>
          <p:nvPr/>
        </p:nvSpPr>
        <p:spPr>
          <a:xfrm>
            <a:off x="357120" y="428760"/>
            <a:ext cx="45007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естская крепость была построена в 19 веке как часть системы укреплений, создававшихся на западных границах Российской империи. К моменту нападения Германии на Советский Союз она уже не могла выполнять серьезные оборонительные задач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6"/>
          <p:cNvSpPr/>
          <p:nvPr/>
        </p:nvSpPr>
        <p:spPr>
          <a:xfrm>
            <a:off x="4786200" y="214200"/>
            <a:ext cx="421488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моменту нападения в крепости находилось около 8 тысяч военнослужащих, до 300 семей командного состава, некоторое количество лиц, медицинский персонал и персонал хозяйственных служб - всего, более 10 тысяч человек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9" descr="Первый канал. Официальный сайт"/>
          <p:cNvPicPr/>
          <p:nvPr/>
        </p:nvPicPr>
        <p:blipFill>
          <a:blip r:embed="rId2"/>
          <a:stretch/>
        </p:blipFill>
        <p:spPr>
          <a:xfrm>
            <a:off x="428760" y="3357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712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22 июня до 20-х чисел июля 1941 года проходила героическая оборона Брестской крепости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Picture 5" descr="Кино Отзывы"/>
          <p:cNvPicPr/>
          <p:nvPr/>
        </p:nvPicPr>
        <p:blipFill>
          <a:blip r:embed="rId1"/>
          <a:stretch/>
        </p:blipFill>
        <p:spPr>
          <a:xfrm>
            <a:off x="1214280" y="1428840"/>
            <a:ext cx="6667560" cy="4533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214200" y="2142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ассвете 22 июня 1941 крепость, в первую очередь казармы и жилые дома командного состава, были подвергнуты мощному артиллерийскому обстрелу, после чего укрепления были атакованы немецкими штурмовыми отряд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4714920" y="3000240"/>
            <a:ext cx="40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турм крепости вели батальоны 45-й пехотной дивизии. По расчетам, штурм крепости должен был закончиться к 12 часам дня. Однако расчеты немецкого командования оказались неверн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Каратели эстонского &quot;взвода тяжёлых пулемётов&quot;. - ЯПлакалъ"/>
          <p:cNvPicPr/>
          <p:nvPr/>
        </p:nvPicPr>
        <p:blipFill>
          <a:blip r:embed="rId1"/>
          <a:stretch/>
        </p:blipFill>
        <p:spPr>
          <a:xfrm>
            <a:off x="4786200" y="35712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Брестская крепость - символ беспримерной стойкости советского народа"/>
          <p:cNvPicPr/>
          <p:nvPr/>
        </p:nvPicPr>
        <p:blipFill>
          <a:blip r:embed="rId2"/>
          <a:stretch/>
        </p:blipFill>
        <p:spPr>
          <a:xfrm>
            <a:off x="500040" y="3714840"/>
            <a:ext cx="4000680" cy="25844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56800" y="428760"/>
            <a:ext cx="7186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репости находилось много женщин и детей, они мужественно переносили все тяготы и лишения. Женщины и подростки ухаживали за ранеными, заряжали пулеметные диски и ленты. Многим раненым оказала медицинскую помощ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Picture 2" descr="Вий 3D на Filmz.ru Спецпроект: Вий 3D Брестская крепость Фот…"/>
          <p:cNvPicPr/>
          <p:nvPr/>
        </p:nvPicPr>
        <p:blipFill>
          <a:blip r:embed="rId1"/>
          <a:stretch/>
        </p:blipFill>
        <p:spPr>
          <a:xfrm>
            <a:off x="928800" y="2857680"/>
            <a:ext cx="7143480" cy="3333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5"/>
          <p:cNvSpPr/>
          <p:nvPr/>
        </p:nvSpPr>
        <p:spPr>
          <a:xfrm>
            <a:off x="357120" y="214200"/>
            <a:ext cx="72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жение защитников крепости было безнадежным. Покинуть крепость удалось лишь части личного состава, после чего крепость была полностью окружена.Пути отхода были отрезаны, и уже в первые дни крепость оказалась в глубоком немецком тыл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4143240" y="20718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никам крепости удалось уничтожить прорвавшиеся в центральную часть крепости отряды и занять оборону в прочных оборонительных казармах, расположенных по периметру Цитадели, а также в различных постройках, развалинах, подвалах и казематах как в Цитадели, так и на территории прилегающих укреп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082867573d95"/>
          <p:cNvPicPr/>
          <p:nvPr/>
        </p:nvPicPr>
        <p:blipFill>
          <a:blip r:embed="rId1"/>
          <a:stretch/>
        </p:blipFill>
        <p:spPr>
          <a:xfrm>
            <a:off x="285840" y="2500200"/>
            <a:ext cx="3857400" cy="3373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7"/>
          <p:cNvSpPr/>
          <p:nvPr/>
        </p:nvSpPr>
        <p:spPr>
          <a:xfrm>
            <a:off x="285840" y="285840"/>
            <a:ext cx="72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7:00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2 июн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42-я и 6-я стрелковые дивизии покинули крепость и г. Брест. К вечеру 24 июня немцы овладели Волынским и Тереспольским укреплением, а остатки гарнизона последнего, осознавая невозможность держаться, ночью переправились в Цитадель. Таким образом, оборона сосредоточилась в Кобринском укреплении и Цитаде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11" descr="http://www.brest-fortress.by/images/phocagallery/boi-kobrin/thumbs/phoca_thumb_l_foto-3.jpg"/>
          <p:cNvPicPr/>
          <p:nvPr/>
        </p:nvPicPr>
        <p:blipFill>
          <a:blip r:embed="rId1"/>
          <a:stretch/>
        </p:blipFill>
        <p:spPr>
          <a:xfrm>
            <a:off x="1285920" y="3286080"/>
            <a:ext cx="5500800" cy="3148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План Цитадели - фото - Брест - Брестская крепость / Музей обороны Брестской крепости / Вооруженных сил / Музеи и галереи / Фотор"/>
          <p:cNvPicPr/>
          <p:nvPr/>
        </p:nvPicPr>
        <p:blipFill>
          <a:blip r:embed="rId1"/>
          <a:stretch/>
        </p:blipFill>
        <p:spPr>
          <a:xfrm>
            <a:off x="928800" y="857160"/>
            <a:ext cx="6958080" cy="4635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7:20:34Z</dcterms:created>
  <dc:creator>Admin</dc:creator>
  <dc:description/>
  <dc:language>en-US</dc:language>
  <cp:lastModifiedBy>Admin</cp:lastModifiedBy>
  <dcterms:modified xsi:type="dcterms:W3CDTF">2014-11-20T17:42:56Z</dcterms:modified>
  <cp:revision>26</cp:revision>
  <dc:subject/>
  <dc:title>Брестская крепость.</dc:title>
</cp:coreProperties>
</file>