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2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wmf" ContentType="image/x-wmf"/>
  <Override PartName="/ppt/media/image6.gif" ContentType="image/gif"/>
  <Override PartName="/ppt/media/image7.gif" ContentType="image/gif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notesMasterIdLst>
    <p:notesMasterId r:id="rId36"/>
  </p:notesMasterIdLst>
  <p:sldIdLst>
    <p:sldId id="256" r:id="rId37"/>
    <p:sldId id="257" r:id="rId38"/>
    <p:sldId id="258" r:id="rId39"/>
    <p:sldId id="259" r:id="rId4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notesMaster" Target="notesMasters/notesMaster1.xml"/><Relationship Id="rId37" Type="http://schemas.openxmlformats.org/officeDocument/2006/relationships/slide" Target="slides/slide1.xml"/><Relationship Id="rId38" Type="http://schemas.openxmlformats.org/officeDocument/2006/relationships/slide" Target="slides/slide2.xml"/><Relationship Id="rId39" Type="http://schemas.openxmlformats.org/officeDocument/2006/relationships/slide" Target="slides/slide3.xml"/><Relationship Id="rId40" Type="http://schemas.openxmlformats.org/officeDocument/2006/relationships/slide" Target="slides/slide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-3235680" y="-360"/>
            <a:ext cx="19470600" cy="146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Text Box 1"/>
          <p:cNvSpPr/>
          <p:nvPr/>
        </p:nvSpPr>
        <p:spPr>
          <a:xfrm>
            <a:off x="-3235320" y="0"/>
            <a:ext cx="19473840" cy="146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Text Box 1"/>
          <p:cNvSpPr/>
          <p:nvPr/>
        </p:nvSpPr>
        <p:spPr>
          <a:xfrm>
            <a:off x="-3235320" y="0"/>
            <a:ext cx="19473840" cy="146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Text Box 1"/>
          <p:cNvSpPr/>
          <p:nvPr/>
        </p:nvSpPr>
        <p:spPr>
          <a:xfrm>
            <a:off x="1338120" y="1069920"/>
            <a:ext cx="488340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Text Box 1"/>
          <p:cNvSpPr/>
          <p:nvPr/>
        </p:nvSpPr>
        <p:spPr>
          <a:xfrm>
            <a:off x="-3235320" y="0"/>
            <a:ext cx="19473840" cy="146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71C5-F48E-489D-AA4B-AA96E267DD7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D4DD-A01C-4EEA-8BE8-0CB63DF477F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6589-A621-4ECF-9DBA-14B39A97C2D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4C66-D41A-4194-8030-84A42F198E0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6A94-D516-4123-90FF-841623B233D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0C17-F37A-4328-8EF7-7825C77B9D8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2DA8-4350-4591-9552-D21EABFCE8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532E-AB65-43F5-8BC8-F4A1884FFE0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C216-8305-4932-8960-C396FB727F8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4047-344C-4F61-9883-B496B81AA60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E4C9-DDC5-411C-940B-9ECB872879D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9FEDE-41BC-437D-B97E-C9BBABB7801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2268A-CCF3-471D-8145-89BD84E061C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21A71-43E4-4A26-B3A4-BFD82D0B4A4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1F124-99E5-4CC1-AF1E-9930ED02097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681A5-B24F-4EC7-A3F3-B7E50783B2B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43F31-3D9C-4E9A-A84C-CD1C5ED0D0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5A75A-4A09-45C8-8A18-B9861241DF0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463E8-111D-480A-B734-6D3578E025E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E9E1-F2BD-4424-8F2F-DFAE84F61AA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936DB-5CB9-410C-883D-9ABE7FFE1AA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CF196-162E-4E4F-A620-BC7541F6894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6F372-7BD0-4CBF-8887-0A2A2DEC264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EB294-2C27-440F-A196-FD6EA0ABAA9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CD1F-8225-4A4D-88E7-FFFC73B00E0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48F9-166E-48EA-B1F9-D3255464C2A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968B-B814-4EDD-90CD-9B8B8B3897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81E2-2A9D-43DE-A03C-BC59A1CB31F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EB00-CCE9-47C8-A601-408B4186E20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9C3A-46C4-40A1-B9C6-49759F26A6D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73F2-A6B8-49AB-9E6E-072032BD8B4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1627-B29D-4AD5-9DBE-69A40CAFF05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2F71-B7F1-4AE3-84FF-4B5BF4DE503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37B4-E889-49DF-A1A3-8574E1350D7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D7A-8357-4EC3-AE37-414B6D38791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A101-193C-42BF-A988-3F0EDB58863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CDF8F-01EC-4C86-ACA4-2DABDA406E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0800C-534B-4832-9E59-8CAEFF2F86D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1CF9B-6591-4BC0-9387-774880B719A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1365D-8542-4778-B282-2F180308035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57C51-036B-4A53-86FC-22F7E970D07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1D53C-14F9-4FDC-827C-3B5EF771A3E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09BCE-AFA5-4268-B033-50F4D54C570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B0CC2-6472-4CB4-982F-9F3517C8863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B61AD-C682-4A11-B6F4-27AB083FBEA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606F2-86E8-45D5-85F9-D73D1EFD414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455FF-7FD0-4B2C-8A1F-D52598678E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FA19B-63DB-4B09-AFC1-8E640256B7A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652F9-6CEB-41C9-9757-B0E29605CC9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4DC48-4DDC-4F4D-9024-35277C5C1BB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A26E7-A538-4B41-A40F-6C86F1ADA87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DD1AF-909C-4BE2-811D-C6659F9506A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A7AF3-DD50-40E4-86F5-F75B14ACB7A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777E8-92B4-404F-AE05-853EDC15761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67D11-57FE-47DE-8D05-4B89E4B667F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9243B-C778-4D84-B509-E6018FAA7BA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56B1E-27D6-4E4C-8CF1-3B444B1CDD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AEE60-D483-4F30-930A-A36F2FADB18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232DE-48AA-4197-BBF9-97217A7FF43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CBC22-97FF-4A15-A687-3CEC499D400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3C68-C1B6-4B6B-BBE5-7B175D52064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C794-2375-4726-A713-25E227E884A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7304-94BA-4E85-8812-AEF154185D7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B143-6EC9-4519-ADDD-D862B8C1B74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09E3-6DC4-4EE3-8A38-6B918B1B21F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DF1D-6B5B-4313-BD0A-CF070A652DA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C3DA-3D50-4EC0-81E0-72C04C1978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0AF3-ABFE-466A-97F6-7F6EB9DB69A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EE0B-2A6C-4DD7-9451-9BC7D645708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8072-077B-4663-91F9-CC241932B80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D31C-F67D-4496-9511-C73499F2460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2C6E-03C0-4250-B639-E51826726B6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01A131-049F-42DD-AF02-8FF17682DDB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5F45B2-9445-4DFD-B469-1854292771F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021C28-34EB-4A40-992C-E657831320A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31E7E2-0991-453E-A66F-E2210A04406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3CA8F4-27FA-4B3A-A459-8740A3E3A1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32F10A-AD9A-4B33-B488-BEAE34F4250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467F80-CA17-4DAA-97A4-01D848679F5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C2244C-FC45-4F82-8F11-A9CB3032AFD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A286A9-FE9A-4C84-BCB7-3E865BE60BB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52808A-BD14-493D-8C19-CE7CBFB097D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E917F8-B361-44DC-9443-E730DFAF7B7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0B8349-880A-4AA1-AF51-C045D12C99C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8D2C8-90BA-4FB0-B8EC-BAADFD24785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14B38-95E3-4462-9C50-D5466863322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199BBF-DC3D-4D01-AE98-0F448E6F03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ED89D-CAC7-4817-8780-9433853531D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70C60-C711-4476-B3CA-C6B75606777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4B82F-3F1C-494E-A861-9CF6D0A1958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BB633-2B88-4749-8B34-28E6FA168BB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5BC73B-D4FE-4906-ADBF-5A77FDAE5CA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D0E88C-225C-44DC-8F08-E11BFD97B02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2789F-34C0-4B0B-B5AD-B3340F2B182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F74617-E0CB-47E2-B4FF-4DD0C920928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1A8C4B-F33F-4526-99A4-76DEA52D1C9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45A64-5696-43C9-81E1-0BE985857E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42368-0F17-4A03-875F-1E85E889FAF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DBF25-7D99-41CF-AD64-F2AF46A822C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48D3F-F7E2-4993-B140-4B63E50574B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782F4-96E1-472D-ABE6-D490EEF9B56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F3463-EB11-4BE8-9959-AABBA0C24A2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53120-99CE-43DC-B3C3-10A8AADB65D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21749-19C3-4EB4-832A-13373B6243A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FAA2B-F92B-4748-9CC6-ED717D63608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E5522-81AE-4905-986B-C8770508897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416BE-3516-49D4-892D-C34E30D90D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F9599-C870-4926-B6A9-D3160AAA944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CA6A94-F97F-41FC-9DAD-C48D3D30812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9164CD-D68A-4D07-BB8A-FF94982348A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07DC4E-9FDD-4869-8A8E-0192C9F8E1A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28E871-3815-4CBF-A74D-AF9965E0011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98949F-C0F1-4CEC-AAB7-C62F0C3B0D6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742A19-D51E-4934-9894-E6E99EAC317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6A80D2-718D-4EBF-B97E-57761205F08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AC3080-EED6-4C57-B432-D5D35343132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4BDDDB-1126-4A72-9470-387A2DE54C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2B254A-018B-4A0F-9D8E-55CF0C948B7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066951-EE0B-40B2-98BF-A5058BAC65A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C8FDC4-7632-400F-B82E-16315DB3F20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13E3A8-C0E0-4651-B087-54D1D0C8058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A0D7DE-5AB8-421E-A395-E2A18BAB9FD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FC38EB-9FC1-489F-9968-15195C891FB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04647E-72B2-4AFA-A2A4-420E5A0C221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32209C-B392-4D4C-998A-9133D9E417A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0DF19E-C449-48E3-8585-173D3049C6A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C21587-CBE2-4F95-B447-99F501DA9E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22AF6F-67FA-4C9D-BC64-AC0C4BB6B4A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D1D2D8-5B7A-46E4-AFA0-601B98A1174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DF7D00-0C5A-418C-B463-FDD4F5ABC91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C270F2-A893-4C89-8755-BEA5149D32B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EFB5CF-6283-4263-A9DD-65338B8CB44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D42668-3682-4582-8EE6-48949F11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6D28DF-E4ED-4450-A4BA-C14BCE95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719704-3D54-4F71-88A4-E495A8F7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8DFDF6-0143-4F3F-B7F6-9FBCE3DF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AF9761-5D67-495A-9C2C-4B928D83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045E51-237D-46FB-84DA-9E512EE2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69903F-ABBD-4CD7-882D-58734E0B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4D2362-3C07-41AF-B7D1-C8D29BDF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06E2E0-30D0-4251-B40C-FDDE47E2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EB31F3-A840-426F-B860-230919BC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D6E0F2-CC78-4B4E-8DAE-A4046519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F42202-F337-47EE-8C8F-F217459F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49BF0D-6520-482C-92B6-6AB04EFE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C6B0CD-FA82-4C78-BBB1-8089D106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137388-6E43-4BA1-A0E6-DCD6B414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4DC764-BAEC-4960-9584-B4A4400A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E9DB61-BD46-49AF-80A0-B77D45D9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62FA10-7CD6-4234-A8B3-D7BC58AC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C786E2-9E62-4119-8934-A904E1A0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367624-8851-4210-9180-94492942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0DD091-DA82-4E79-A40B-C5878F61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CFBE7A-8101-4570-AACA-CC8797C9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61B7CE-B7AA-44A3-AD2A-0BD6136A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1B678D-5F66-45B4-8011-9905AD32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808383-98EB-473E-A081-9D83FD7A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FF865F-760E-46EE-BE6C-2CD11122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75F235-C214-40EE-8479-C525272F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29A30A-6DC0-492C-AD7E-37B21DED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43D12A-BC15-408A-844E-404A80F2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F68566-BC8A-4170-A25C-DE3FDE69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381AAB-6580-4445-B707-2AADA5E7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EB3D62-9A35-41EF-9142-EDEB3273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9F2B98-A846-4B3B-B230-55781FA4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723D24-50D3-4A54-B0A6-2D4E3483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FB59B1-DB22-4872-B241-76441B03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1CB550-3A33-4531-BDDA-D3009CCF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6FD7B5-5ECB-4A5B-9745-55BD0154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1B7380-20DE-44EE-9F9A-0CC35423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DA7BA0-E7F5-4749-8D74-8063463C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052DE3-2A6E-4414-9A54-37C9B0C4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585164-5910-4274-9E6B-6128AC8E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888A2E-A1AC-4CE6-8FBF-238ACE90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06E507-0A58-4C93-94ED-E5E34918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7C8A41-EA6D-465A-8AAD-DC34B84D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A7BBF9-7128-4414-9CD5-A0711D9B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26FE5D-77B4-4F71-9644-7CDB99FE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3ABB07-F39A-4717-BA07-E6FD0A47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8438D2-3559-4B15-ACD8-0AEAED2F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FDC8C1-E29F-47EB-B4CA-9344A78C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235A70-9956-4DDD-AEE0-3FDD308C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B9CA28-486E-4060-B3C9-9FDE2732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B9103B-8A59-4107-B1AC-307A93F0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008A43-57C2-479F-9C69-FB5447CE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1C796C-6001-431B-987A-13EC4B8B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459E49-1AC0-4996-B410-A291DE1F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583AF1-FD0D-4C12-97D3-A92DE779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A07D95-D4B7-40BE-906B-434AB4D4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A784F2-75F0-4EB2-ACBD-261470C0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6D4291-57C9-4EBD-964F-4806ADEF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D55BAD-B4FF-47A1-AEEA-DCD8AAC4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95D477-42C6-455C-93B5-69805CFE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77E4F4-30E5-4FFC-82B1-091EA894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394EF3-3644-4CD1-BF5F-844F8A79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911F11-E127-4FC4-85A1-7FDC1A44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57C078-78EC-46B2-A0DC-F080EFC7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808B3C-C3EC-48D4-8630-3AE4B8C7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6DC2DA-DAE7-4D87-BFF1-A7D80612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B03D41-09E2-4FE4-A01B-5E240C1B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D3CE32-C5B2-4C70-9B5E-4FF9A4FF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02671D-FC44-405E-8C75-54AE175B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030F4B-26C6-4C45-82B8-A146E2A4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F5E70D-8E00-4DB1-97EB-F00B09F8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BB5C70-A089-4E2F-AE97-17C67161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70F284-04A5-43ED-8E2B-EF242407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854A54-F409-4D46-A9D7-B89664FD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F317D4-5CD2-47B0-93B2-FF7918D5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555B9F-13A5-4B7F-8F51-59E340A8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897274-4957-4B81-AD40-3AA8FF4A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D76DF5-A123-4135-A495-84E6BED3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6AF697-EC96-495A-9435-E7111BC1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362C88-7038-4FDB-A11C-7AFB2731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045D00-EAC9-4C48-BA06-76F4B113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5CD6F2-8B6E-4EE1-8146-B6BA1616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AB8537-69C0-476D-9F9F-D43702FA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229610-4219-458E-879B-DCACE0C8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63E1DD-9BAA-42C4-A190-C821A5CB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D5CC79-585B-4C9B-B851-6CCD6F6F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684627-2506-4FB7-A947-E094B109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34407E-75D9-47C3-901E-E2E5DDD2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AFB5DA-9F7C-4BF6-ACEC-BC61C4E1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C344B8-76BD-449A-A605-BF2A90FD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FF2BFE-005C-44BE-905E-2C395519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2EFD35-1518-4876-B6FA-56C5BB66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90690B-1D32-422E-B1B1-478021B8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7E4AE8-62DD-41EF-9321-42C4DECC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13653F-6671-4C08-AB3A-3BC18E1F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9DD10B-6537-4CFC-B9AD-2F586308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18E4B4-74F4-4797-9427-7F7B28CD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04B991-7D82-4E5F-BC6E-E669A88A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567256-A4C8-48D5-9856-717007A0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5610F7-5501-4E53-A962-BD695705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F1ABDD-E5F7-4F4C-8FAC-EFC5C7A9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01CD04-2ECF-4F3F-B8CD-DD484462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D6F0F8-17DF-4FD0-A8EF-2FFDBCF1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5722BF-DBBD-4409-B942-43139EC3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4D0CE3-E58A-4368-9217-72C0C71E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7A21D3-B303-4668-B3B5-2FA34C24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202164-A6B2-4804-A291-4D16B335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B785FF6-6EBF-4F57-A30F-3E431733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7AFCC3B-9071-4688-B5BD-0B0FE527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D0BF89-746A-4F01-8D79-6A441E63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78710D-2197-44BC-9FD7-6C8DD9E5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F8F893-5B33-47F9-8587-FFF7175F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0E1E46F-B728-4F60-817D-0CE5B6D2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B778CA7-6BB5-4665-8846-DEFA48F7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E32FDD9-FB25-4123-84D8-7FB6B2EB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CEBDBE-BF5E-4B36-BDA6-49716014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212762-403B-449A-9D4E-5F064D3E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0EF946-3A68-4EB0-89D5-BDD2F109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FE6F62-9931-4241-ADDD-B48B3BD0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328060-789C-4F99-BF88-E191F075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349E724-48EF-4B10-AE59-D61AF4CC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77B472-909B-4B0C-9C7F-964A20E8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C1DF36-8567-4A50-984A-570E4E0E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4A020A-FDE9-4293-BEF9-6E82A662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C9E1331-647D-48F7-BB74-7CE7635E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CB9036E-1164-48C6-8945-A586DDF9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C46FCE-8352-4652-AEBC-F2074D85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641AB8-CB75-4DA4-AEC3-D137FB66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DBC658-BA26-451A-87EB-AD621BF6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E14FF4-C9EB-4079-839C-5E97ABC6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CCDE61E-F4C9-4FA8-89B6-DC80DA12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6F7CF0C-9804-4DD0-AD08-A306ED12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6BF3C19-631A-4D67-AC80-AA0400A0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00B6CE3-C79E-4A1E-9865-A6D66CF8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0378C8D-709E-4D3D-B05A-3F0E7192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145A3DA-5886-426C-B52E-B048EC3A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73B7F84-8CC3-4F17-B4BF-4E028CBA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DE0B47D-8B82-4C3E-8B10-9766952F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97C45D8-2CAF-4349-BFD9-31BC1017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0C0140F-3802-40A0-B96B-FD87A6D3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FAE9580-DC1E-4401-9244-D0AB78A5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38306BC-5346-4EC5-A293-305388B5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8A7F347-CDED-482C-A720-A0E4B661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55640" y="2016000"/>
            <a:ext cx="8564400" cy="88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587160"/>
            <a:ext cx="8604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2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4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2400" indent="-214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4040" indent="-212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40880" y="587160"/>
            <a:ext cx="8604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2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4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2400" indent="-214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4040" indent="-212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0880" y="587160"/>
            <a:ext cx="8604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2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4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2400" indent="-214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4040" indent="-212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Group 1"/>
          <p:cNvGrpSpPr/>
          <p:nvPr/>
        </p:nvGrpSpPr>
        <p:grpSpPr>
          <a:xfrm>
            <a:off x="0" y="0"/>
            <a:ext cx="10077480" cy="7640280"/>
            <a:chOff x="0" y="0"/>
            <a:chExt cx="10077480" cy="7640280"/>
          </a:xfrm>
        </p:grpSpPr>
        <p:sp>
          <p:nvSpPr>
            <p:cNvPr id="430" name="AutoShape 2"/>
            <p:cNvSpPr/>
            <p:nvPr/>
          </p:nvSpPr>
          <p:spPr>
            <a:xfrm>
              <a:off x="0" y="3861360"/>
              <a:ext cx="4399920" cy="344736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AutoShape 3"/>
            <p:cNvSpPr/>
            <p:nvPr/>
          </p:nvSpPr>
          <p:spPr>
            <a:xfrm>
              <a:off x="0" y="4364640"/>
              <a:ext cx="3695040" cy="28058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AutoShape 4"/>
            <p:cNvSpPr/>
            <p:nvPr/>
          </p:nvSpPr>
          <p:spPr>
            <a:xfrm>
              <a:off x="3660120" y="5655240"/>
              <a:ext cx="6417000" cy="16506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AutoShape 5"/>
            <p:cNvSpPr/>
            <p:nvPr/>
          </p:nvSpPr>
          <p:spPr>
            <a:xfrm>
              <a:off x="0" y="917280"/>
              <a:ext cx="1703160" cy="20898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AutoShape 6"/>
            <p:cNvSpPr/>
            <p:nvPr/>
          </p:nvSpPr>
          <p:spPr>
            <a:xfrm>
              <a:off x="5575680" y="1080"/>
              <a:ext cx="4496760" cy="39646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AutoShape 7"/>
            <p:cNvSpPr/>
            <p:nvPr/>
          </p:nvSpPr>
          <p:spPr>
            <a:xfrm>
              <a:off x="6166440" y="1080"/>
              <a:ext cx="3823560" cy="26377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AutoShape 8"/>
            <p:cNvSpPr/>
            <p:nvPr/>
          </p:nvSpPr>
          <p:spPr>
            <a:xfrm>
              <a:off x="0" y="1134720"/>
              <a:ext cx="1426680" cy="14094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AutoShape 9"/>
            <p:cNvSpPr/>
            <p:nvPr/>
          </p:nvSpPr>
          <p:spPr>
            <a:xfrm>
              <a:off x="0" y="2702880"/>
              <a:ext cx="1333080" cy="1868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AutoShape 10"/>
            <p:cNvSpPr/>
            <p:nvPr/>
          </p:nvSpPr>
          <p:spPr>
            <a:xfrm>
              <a:off x="4047480" y="6000840"/>
              <a:ext cx="5567760" cy="1303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Rectangle 11"/>
            <p:cNvSpPr/>
            <p:nvPr/>
          </p:nvSpPr>
          <p:spPr>
            <a:xfrm>
              <a:off x="336240" y="221760"/>
              <a:ext cx="108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Rectangle 12"/>
            <p:cNvSpPr/>
            <p:nvPr/>
          </p:nvSpPr>
          <p:spPr>
            <a:xfrm>
              <a:off x="356760" y="228240"/>
              <a:ext cx="144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AutoShape 13"/>
            <p:cNvSpPr/>
            <p:nvPr/>
          </p:nvSpPr>
          <p:spPr>
            <a:xfrm>
              <a:off x="0" y="7051680"/>
              <a:ext cx="10077480" cy="5029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AutoShape 14"/>
            <p:cNvSpPr/>
            <p:nvPr/>
          </p:nvSpPr>
          <p:spPr>
            <a:xfrm>
              <a:off x="0" y="7051680"/>
              <a:ext cx="10077480" cy="588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AutoShape 15"/>
            <p:cNvSpPr/>
            <p:nvPr/>
          </p:nvSpPr>
          <p:spPr>
            <a:xfrm>
              <a:off x="0" y="0"/>
              <a:ext cx="10077480" cy="502920"/>
            </a:xfrm>
            <a:prstGeom prst="pie">
              <a:avLst/>
            </a:pr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AutoShape 16"/>
            <p:cNvSpPr/>
            <p:nvPr/>
          </p:nvSpPr>
          <p:spPr>
            <a:xfrm>
              <a:off x="890280" y="399600"/>
              <a:ext cx="5577480" cy="354096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AutoShape 17"/>
            <p:cNvSpPr/>
            <p:nvPr/>
          </p:nvSpPr>
          <p:spPr>
            <a:xfrm>
              <a:off x="2350800" y="512280"/>
              <a:ext cx="3750480" cy="3126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AutoShape 18"/>
            <p:cNvSpPr/>
            <p:nvPr/>
          </p:nvSpPr>
          <p:spPr>
            <a:xfrm>
              <a:off x="5128200" y="3023640"/>
              <a:ext cx="4947480" cy="41374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AutoShape 19"/>
            <p:cNvSpPr/>
            <p:nvPr/>
          </p:nvSpPr>
          <p:spPr>
            <a:xfrm>
              <a:off x="5528160" y="3252240"/>
              <a:ext cx="3782160" cy="3382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5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7160">
              <a:lnSpc>
                <a:spcPct val="95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98760" indent="-227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5960" indent="-227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5960" indent="-2271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5960" indent="-2271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22"/>
          <p:cNvSpPr/>
          <p:nvPr/>
        </p:nvSpPr>
        <p:spPr>
          <a:xfrm>
            <a:off x="50328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23"/>
          <p:cNvSpPr/>
          <p:nvPr/>
        </p:nvSpPr>
        <p:spPr>
          <a:xfrm>
            <a:off x="3443400" y="6888240"/>
            <a:ext cx="3190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1"/>
          </p:nvPr>
        </p:nvSpPr>
        <p:spPr>
          <a:xfrm>
            <a:off x="7222680" y="6887880"/>
            <a:ext cx="23497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E5201BA0-A1EE-4F92-9F25-A1C6834073B6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1"/>
          <p:cNvGrpSpPr/>
          <p:nvPr/>
        </p:nvGrpSpPr>
        <p:grpSpPr>
          <a:xfrm>
            <a:off x="0" y="0"/>
            <a:ext cx="10077480" cy="7640280"/>
            <a:chOff x="0" y="0"/>
            <a:chExt cx="10077480" cy="7640280"/>
          </a:xfrm>
        </p:grpSpPr>
        <p:sp>
          <p:nvSpPr>
            <p:cNvPr id="490" name="AutoShape 2"/>
            <p:cNvSpPr/>
            <p:nvPr/>
          </p:nvSpPr>
          <p:spPr>
            <a:xfrm>
              <a:off x="0" y="3861360"/>
              <a:ext cx="4399920" cy="344736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AutoShape 3"/>
            <p:cNvSpPr/>
            <p:nvPr/>
          </p:nvSpPr>
          <p:spPr>
            <a:xfrm>
              <a:off x="0" y="4364640"/>
              <a:ext cx="3695040" cy="28058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AutoShape 4"/>
            <p:cNvSpPr/>
            <p:nvPr/>
          </p:nvSpPr>
          <p:spPr>
            <a:xfrm>
              <a:off x="3660120" y="5655240"/>
              <a:ext cx="6417000" cy="16506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AutoShape 5"/>
            <p:cNvSpPr/>
            <p:nvPr/>
          </p:nvSpPr>
          <p:spPr>
            <a:xfrm>
              <a:off x="0" y="917280"/>
              <a:ext cx="1703160" cy="20898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AutoShape 6"/>
            <p:cNvSpPr/>
            <p:nvPr/>
          </p:nvSpPr>
          <p:spPr>
            <a:xfrm>
              <a:off x="5575680" y="1080"/>
              <a:ext cx="4496760" cy="39646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AutoShape 7"/>
            <p:cNvSpPr/>
            <p:nvPr/>
          </p:nvSpPr>
          <p:spPr>
            <a:xfrm>
              <a:off x="6166440" y="1080"/>
              <a:ext cx="3823560" cy="26377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AutoShape 8"/>
            <p:cNvSpPr/>
            <p:nvPr/>
          </p:nvSpPr>
          <p:spPr>
            <a:xfrm>
              <a:off x="0" y="1134720"/>
              <a:ext cx="1426680" cy="14094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AutoShape 9"/>
            <p:cNvSpPr/>
            <p:nvPr/>
          </p:nvSpPr>
          <p:spPr>
            <a:xfrm>
              <a:off x="0" y="2702880"/>
              <a:ext cx="1333080" cy="1868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AutoShape 10"/>
            <p:cNvSpPr/>
            <p:nvPr/>
          </p:nvSpPr>
          <p:spPr>
            <a:xfrm>
              <a:off x="4047480" y="6000840"/>
              <a:ext cx="5567760" cy="1303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Rectangle 11"/>
            <p:cNvSpPr/>
            <p:nvPr/>
          </p:nvSpPr>
          <p:spPr>
            <a:xfrm>
              <a:off x="336240" y="221760"/>
              <a:ext cx="108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Rectangle 12"/>
            <p:cNvSpPr/>
            <p:nvPr/>
          </p:nvSpPr>
          <p:spPr>
            <a:xfrm>
              <a:off x="356760" y="228240"/>
              <a:ext cx="144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AutoShape 13"/>
            <p:cNvSpPr/>
            <p:nvPr/>
          </p:nvSpPr>
          <p:spPr>
            <a:xfrm>
              <a:off x="0" y="7051680"/>
              <a:ext cx="10077480" cy="5029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AutoShape 14"/>
            <p:cNvSpPr/>
            <p:nvPr/>
          </p:nvSpPr>
          <p:spPr>
            <a:xfrm>
              <a:off x="0" y="7051680"/>
              <a:ext cx="10077480" cy="588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AutoShape 15"/>
            <p:cNvSpPr/>
            <p:nvPr/>
          </p:nvSpPr>
          <p:spPr>
            <a:xfrm>
              <a:off x="0" y="0"/>
              <a:ext cx="10077480" cy="502920"/>
            </a:xfrm>
            <a:prstGeom prst="pie">
              <a:avLst/>
            </a:pr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AutoShape 16"/>
            <p:cNvSpPr/>
            <p:nvPr/>
          </p:nvSpPr>
          <p:spPr>
            <a:xfrm>
              <a:off x="890280" y="399600"/>
              <a:ext cx="5577480" cy="354096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AutoShape 17"/>
            <p:cNvSpPr/>
            <p:nvPr/>
          </p:nvSpPr>
          <p:spPr>
            <a:xfrm>
              <a:off x="2350800" y="512280"/>
              <a:ext cx="3750480" cy="3126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AutoShape 18"/>
            <p:cNvSpPr/>
            <p:nvPr/>
          </p:nvSpPr>
          <p:spPr>
            <a:xfrm>
              <a:off x="5128200" y="3023640"/>
              <a:ext cx="4947480" cy="41374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AutoShape 19"/>
            <p:cNvSpPr/>
            <p:nvPr/>
          </p:nvSpPr>
          <p:spPr>
            <a:xfrm>
              <a:off x="5528160" y="3252240"/>
              <a:ext cx="3782160" cy="3382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5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7160">
              <a:lnSpc>
                <a:spcPct val="95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98760" indent="-227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5960" indent="-227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5960" indent="-2271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5960" indent="-2271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22"/>
          <p:cNvSpPr/>
          <p:nvPr/>
        </p:nvSpPr>
        <p:spPr>
          <a:xfrm>
            <a:off x="50328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23"/>
          <p:cNvSpPr/>
          <p:nvPr/>
        </p:nvSpPr>
        <p:spPr>
          <a:xfrm>
            <a:off x="3443400" y="6888240"/>
            <a:ext cx="3190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sldNum" idx="2"/>
          </p:nvPr>
        </p:nvSpPr>
        <p:spPr>
          <a:xfrm>
            <a:off x="7222680" y="6887880"/>
            <a:ext cx="23497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D9569AEC-2D86-4906-962A-D119C38E4EFB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1"/>
          <p:cNvGrpSpPr/>
          <p:nvPr/>
        </p:nvGrpSpPr>
        <p:grpSpPr>
          <a:xfrm>
            <a:off x="0" y="0"/>
            <a:ext cx="10077480" cy="7640280"/>
            <a:chOff x="0" y="0"/>
            <a:chExt cx="10077480" cy="7640280"/>
          </a:xfrm>
        </p:grpSpPr>
        <p:sp>
          <p:nvSpPr>
            <p:cNvPr id="550" name="AutoShape 2"/>
            <p:cNvSpPr/>
            <p:nvPr/>
          </p:nvSpPr>
          <p:spPr>
            <a:xfrm>
              <a:off x="0" y="3861360"/>
              <a:ext cx="4399920" cy="344736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AutoShape 3"/>
            <p:cNvSpPr/>
            <p:nvPr/>
          </p:nvSpPr>
          <p:spPr>
            <a:xfrm>
              <a:off x="0" y="4364640"/>
              <a:ext cx="3695040" cy="28058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AutoShape 4"/>
            <p:cNvSpPr/>
            <p:nvPr/>
          </p:nvSpPr>
          <p:spPr>
            <a:xfrm>
              <a:off x="3660120" y="5655240"/>
              <a:ext cx="6417000" cy="16506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AutoShape 5"/>
            <p:cNvSpPr/>
            <p:nvPr/>
          </p:nvSpPr>
          <p:spPr>
            <a:xfrm>
              <a:off x="0" y="917280"/>
              <a:ext cx="1703160" cy="20898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AutoShape 6"/>
            <p:cNvSpPr/>
            <p:nvPr/>
          </p:nvSpPr>
          <p:spPr>
            <a:xfrm>
              <a:off x="5575680" y="1080"/>
              <a:ext cx="4496760" cy="39646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AutoShape 7"/>
            <p:cNvSpPr/>
            <p:nvPr/>
          </p:nvSpPr>
          <p:spPr>
            <a:xfrm>
              <a:off x="6166440" y="1080"/>
              <a:ext cx="3823560" cy="26377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AutoShape 8"/>
            <p:cNvSpPr/>
            <p:nvPr/>
          </p:nvSpPr>
          <p:spPr>
            <a:xfrm>
              <a:off x="0" y="1134720"/>
              <a:ext cx="1426680" cy="14094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AutoShape 9"/>
            <p:cNvSpPr/>
            <p:nvPr/>
          </p:nvSpPr>
          <p:spPr>
            <a:xfrm>
              <a:off x="0" y="2702880"/>
              <a:ext cx="1333080" cy="1868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AutoShape 10"/>
            <p:cNvSpPr/>
            <p:nvPr/>
          </p:nvSpPr>
          <p:spPr>
            <a:xfrm>
              <a:off x="4047480" y="6000840"/>
              <a:ext cx="5567760" cy="1303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Rectangle 11"/>
            <p:cNvSpPr/>
            <p:nvPr/>
          </p:nvSpPr>
          <p:spPr>
            <a:xfrm>
              <a:off x="336240" y="221760"/>
              <a:ext cx="108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Rectangle 12"/>
            <p:cNvSpPr/>
            <p:nvPr/>
          </p:nvSpPr>
          <p:spPr>
            <a:xfrm>
              <a:off x="356760" y="228240"/>
              <a:ext cx="144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AutoShape 13"/>
            <p:cNvSpPr/>
            <p:nvPr/>
          </p:nvSpPr>
          <p:spPr>
            <a:xfrm>
              <a:off x="0" y="7051680"/>
              <a:ext cx="10077480" cy="5029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AutoShape 14"/>
            <p:cNvSpPr/>
            <p:nvPr/>
          </p:nvSpPr>
          <p:spPr>
            <a:xfrm>
              <a:off x="0" y="7051680"/>
              <a:ext cx="10077480" cy="588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AutoShape 15"/>
            <p:cNvSpPr/>
            <p:nvPr/>
          </p:nvSpPr>
          <p:spPr>
            <a:xfrm>
              <a:off x="0" y="0"/>
              <a:ext cx="10077480" cy="502920"/>
            </a:xfrm>
            <a:prstGeom prst="pie">
              <a:avLst/>
            </a:pr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AutoShape 16"/>
            <p:cNvSpPr/>
            <p:nvPr/>
          </p:nvSpPr>
          <p:spPr>
            <a:xfrm>
              <a:off x="890280" y="399600"/>
              <a:ext cx="5577480" cy="354096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AutoShape 17"/>
            <p:cNvSpPr/>
            <p:nvPr/>
          </p:nvSpPr>
          <p:spPr>
            <a:xfrm>
              <a:off x="2350800" y="512280"/>
              <a:ext cx="3750480" cy="3126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AutoShape 18"/>
            <p:cNvSpPr/>
            <p:nvPr/>
          </p:nvSpPr>
          <p:spPr>
            <a:xfrm>
              <a:off x="5128200" y="3023640"/>
              <a:ext cx="4947480" cy="41374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AutoShape 19"/>
            <p:cNvSpPr/>
            <p:nvPr/>
          </p:nvSpPr>
          <p:spPr>
            <a:xfrm>
              <a:off x="5528160" y="3252240"/>
              <a:ext cx="3782160" cy="3382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5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7160">
              <a:lnSpc>
                <a:spcPct val="95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98760" indent="-227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5960" indent="-227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5960" indent="-2271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5960" indent="-2271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Text Box 22"/>
          <p:cNvSpPr/>
          <p:nvPr/>
        </p:nvSpPr>
        <p:spPr>
          <a:xfrm>
            <a:off x="50328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23"/>
          <p:cNvSpPr/>
          <p:nvPr/>
        </p:nvSpPr>
        <p:spPr>
          <a:xfrm>
            <a:off x="3443400" y="6888240"/>
            <a:ext cx="3190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3"/>
          </p:nvPr>
        </p:nvSpPr>
        <p:spPr>
          <a:xfrm>
            <a:off x="7222680" y="6887880"/>
            <a:ext cx="23497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FE9E9267-BCD0-490B-AB10-F84B8658827E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Group 1"/>
          <p:cNvGrpSpPr/>
          <p:nvPr/>
        </p:nvGrpSpPr>
        <p:grpSpPr>
          <a:xfrm>
            <a:off x="0" y="0"/>
            <a:ext cx="10077480" cy="7640280"/>
            <a:chOff x="0" y="0"/>
            <a:chExt cx="10077480" cy="7640280"/>
          </a:xfrm>
        </p:grpSpPr>
        <p:sp>
          <p:nvSpPr>
            <p:cNvPr id="610" name="AutoShape 2"/>
            <p:cNvSpPr/>
            <p:nvPr/>
          </p:nvSpPr>
          <p:spPr>
            <a:xfrm>
              <a:off x="0" y="3861360"/>
              <a:ext cx="4399920" cy="344736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AutoShape 3"/>
            <p:cNvSpPr/>
            <p:nvPr/>
          </p:nvSpPr>
          <p:spPr>
            <a:xfrm>
              <a:off x="0" y="4364640"/>
              <a:ext cx="3695040" cy="28058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AutoShape 4"/>
            <p:cNvSpPr/>
            <p:nvPr/>
          </p:nvSpPr>
          <p:spPr>
            <a:xfrm>
              <a:off x="3660120" y="5655240"/>
              <a:ext cx="6417000" cy="16506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AutoShape 5"/>
            <p:cNvSpPr/>
            <p:nvPr/>
          </p:nvSpPr>
          <p:spPr>
            <a:xfrm>
              <a:off x="0" y="917280"/>
              <a:ext cx="1703160" cy="20898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AutoShape 6"/>
            <p:cNvSpPr/>
            <p:nvPr/>
          </p:nvSpPr>
          <p:spPr>
            <a:xfrm>
              <a:off x="5575680" y="1080"/>
              <a:ext cx="4496760" cy="39646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AutoShape 7"/>
            <p:cNvSpPr/>
            <p:nvPr/>
          </p:nvSpPr>
          <p:spPr>
            <a:xfrm>
              <a:off x="6166440" y="1080"/>
              <a:ext cx="3823560" cy="26377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AutoShape 8"/>
            <p:cNvSpPr/>
            <p:nvPr/>
          </p:nvSpPr>
          <p:spPr>
            <a:xfrm>
              <a:off x="0" y="1134720"/>
              <a:ext cx="1426680" cy="14094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AutoShape 9"/>
            <p:cNvSpPr/>
            <p:nvPr/>
          </p:nvSpPr>
          <p:spPr>
            <a:xfrm>
              <a:off x="0" y="2702880"/>
              <a:ext cx="1333080" cy="1868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AutoShape 10"/>
            <p:cNvSpPr/>
            <p:nvPr/>
          </p:nvSpPr>
          <p:spPr>
            <a:xfrm>
              <a:off x="4047480" y="6000840"/>
              <a:ext cx="5567760" cy="1303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336240" y="221760"/>
              <a:ext cx="108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356760" y="228240"/>
              <a:ext cx="144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AutoShape 13"/>
            <p:cNvSpPr/>
            <p:nvPr/>
          </p:nvSpPr>
          <p:spPr>
            <a:xfrm>
              <a:off x="0" y="7051680"/>
              <a:ext cx="10077480" cy="5029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AutoShape 14"/>
            <p:cNvSpPr/>
            <p:nvPr/>
          </p:nvSpPr>
          <p:spPr>
            <a:xfrm>
              <a:off x="0" y="7051680"/>
              <a:ext cx="10077480" cy="588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AutoShape 15"/>
            <p:cNvSpPr/>
            <p:nvPr/>
          </p:nvSpPr>
          <p:spPr>
            <a:xfrm>
              <a:off x="0" y="0"/>
              <a:ext cx="10077480" cy="502920"/>
            </a:xfrm>
            <a:prstGeom prst="pie">
              <a:avLst/>
            </a:pr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AutoShape 16"/>
            <p:cNvSpPr/>
            <p:nvPr/>
          </p:nvSpPr>
          <p:spPr>
            <a:xfrm>
              <a:off x="890280" y="399600"/>
              <a:ext cx="5577480" cy="354096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AutoShape 17"/>
            <p:cNvSpPr/>
            <p:nvPr/>
          </p:nvSpPr>
          <p:spPr>
            <a:xfrm>
              <a:off x="2350800" y="512280"/>
              <a:ext cx="3750480" cy="3126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AutoShape 18"/>
            <p:cNvSpPr/>
            <p:nvPr/>
          </p:nvSpPr>
          <p:spPr>
            <a:xfrm>
              <a:off x="5128200" y="3023640"/>
              <a:ext cx="4947480" cy="41374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AutoShape 19"/>
            <p:cNvSpPr/>
            <p:nvPr/>
          </p:nvSpPr>
          <p:spPr>
            <a:xfrm>
              <a:off x="5528160" y="3252240"/>
              <a:ext cx="3782160" cy="3382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5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7160">
              <a:lnSpc>
                <a:spcPct val="95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98760" indent="-227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5960" indent="-227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5960" indent="-2271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5960" indent="-2271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Text Box 22"/>
          <p:cNvSpPr/>
          <p:nvPr/>
        </p:nvSpPr>
        <p:spPr>
          <a:xfrm>
            <a:off x="50328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23"/>
          <p:cNvSpPr/>
          <p:nvPr/>
        </p:nvSpPr>
        <p:spPr>
          <a:xfrm>
            <a:off x="3443400" y="6888240"/>
            <a:ext cx="3190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sldNum" idx="4"/>
          </p:nvPr>
        </p:nvSpPr>
        <p:spPr>
          <a:xfrm>
            <a:off x="7222680" y="6887880"/>
            <a:ext cx="23497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A1A11EB-99A9-4AF7-84D1-48779F07EA4F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Group 1"/>
          <p:cNvGrpSpPr/>
          <p:nvPr/>
        </p:nvGrpSpPr>
        <p:grpSpPr>
          <a:xfrm>
            <a:off x="0" y="0"/>
            <a:ext cx="10077480" cy="7640280"/>
            <a:chOff x="0" y="0"/>
            <a:chExt cx="10077480" cy="7640280"/>
          </a:xfrm>
        </p:grpSpPr>
        <p:sp>
          <p:nvSpPr>
            <p:cNvPr id="670" name="AutoShape 2"/>
            <p:cNvSpPr/>
            <p:nvPr/>
          </p:nvSpPr>
          <p:spPr>
            <a:xfrm>
              <a:off x="0" y="3861360"/>
              <a:ext cx="4399920" cy="344736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AutoShape 3"/>
            <p:cNvSpPr/>
            <p:nvPr/>
          </p:nvSpPr>
          <p:spPr>
            <a:xfrm>
              <a:off x="0" y="4364640"/>
              <a:ext cx="3695040" cy="28058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AutoShape 4"/>
            <p:cNvSpPr/>
            <p:nvPr/>
          </p:nvSpPr>
          <p:spPr>
            <a:xfrm>
              <a:off x="3660120" y="5655240"/>
              <a:ext cx="6417000" cy="16506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AutoShape 5"/>
            <p:cNvSpPr/>
            <p:nvPr/>
          </p:nvSpPr>
          <p:spPr>
            <a:xfrm>
              <a:off x="0" y="917280"/>
              <a:ext cx="1703160" cy="20898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AutoShape 6"/>
            <p:cNvSpPr/>
            <p:nvPr/>
          </p:nvSpPr>
          <p:spPr>
            <a:xfrm>
              <a:off x="5575680" y="1080"/>
              <a:ext cx="4496760" cy="39646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AutoShape 7"/>
            <p:cNvSpPr/>
            <p:nvPr/>
          </p:nvSpPr>
          <p:spPr>
            <a:xfrm>
              <a:off x="6166440" y="1080"/>
              <a:ext cx="3823560" cy="26377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AutoShape 8"/>
            <p:cNvSpPr/>
            <p:nvPr/>
          </p:nvSpPr>
          <p:spPr>
            <a:xfrm>
              <a:off x="0" y="1134720"/>
              <a:ext cx="1426680" cy="14094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AutoShape 9"/>
            <p:cNvSpPr/>
            <p:nvPr/>
          </p:nvSpPr>
          <p:spPr>
            <a:xfrm>
              <a:off x="0" y="2702880"/>
              <a:ext cx="1333080" cy="1868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AutoShape 10"/>
            <p:cNvSpPr/>
            <p:nvPr/>
          </p:nvSpPr>
          <p:spPr>
            <a:xfrm>
              <a:off x="4047480" y="6000840"/>
              <a:ext cx="5567760" cy="1303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Rectangle 11"/>
            <p:cNvSpPr/>
            <p:nvPr/>
          </p:nvSpPr>
          <p:spPr>
            <a:xfrm>
              <a:off x="336240" y="221760"/>
              <a:ext cx="108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Rectangle 12"/>
            <p:cNvSpPr/>
            <p:nvPr/>
          </p:nvSpPr>
          <p:spPr>
            <a:xfrm>
              <a:off x="356760" y="228240"/>
              <a:ext cx="144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AutoShape 13"/>
            <p:cNvSpPr/>
            <p:nvPr/>
          </p:nvSpPr>
          <p:spPr>
            <a:xfrm>
              <a:off x="0" y="7051680"/>
              <a:ext cx="10077480" cy="5029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AutoShape 14"/>
            <p:cNvSpPr/>
            <p:nvPr/>
          </p:nvSpPr>
          <p:spPr>
            <a:xfrm>
              <a:off x="0" y="7051680"/>
              <a:ext cx="10077480" cy="588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AutoShape 15"/>
            <p:cNvSpPr/>
            <p:nvPr/>
          </p:nvSpPr>
          <p:spPr>
            <a:xfrm>
              <a:off x="0" y="0"/>
              <a:ext cx="10077480" cy="502920"/>
            </a:xfrm>
            <a:prstGeom prst="pie">
              <a:avLst/>
            </a:pr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AutoShape 16"/>
            <p:cNvSpPr/>
            <p:nvPr/>
          </p:nvSpPr>
          <p:spPr>
            <a:xfrm>
              <a:off x="890280" y="399600"/>
              <a:ext cx="5577480" cy="354096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AutoShape 17"/>
            <p:cNvSpPr/>
            <p:nvPr/>
          </p:nvSpPr>
          <p:spPr>
            <a:xfrm>
              <a:off x="2350800" y="512280"/>
              <a:ext cx="3750480" cy="3126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AutoShape 18"/>
            <p:cNvSpPr/>
            <p:nvPr/>
          </p:nvSpPr>
          <p:spPr>
            <a:xfrm>
              <a:off x="5128200" y="3023640"/>
              <a:ext cx="4947480" cy="41374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AutoShape 19"/>
            <p:cNvSpPr/>
            <p:nvPr/>
          </p:nvSpPr>
          <p:spPr>
            <a:xfrm>
              <a:off x="5528160" y="3252240"/>
              <a:ext cx="3782160" cy="3382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5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7160">
              <a:lnSpc>
                <a:spcPct val="95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98760" indent="-227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5960" indent="-227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5960" indent="-2271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5960" indent="-2271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Text Box 22"/>
          <p:cNvSpPr/>
          <p:nvPr/>
        </p:nvSpPr>
        <p:spPr>
          <a:xfrm>
            <a:off x="50328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23"/>
          <p:cNvSpPr/>
          <p:nvPr/>
        </p:nvSpPr>
        <p:spPr>
          <a:xfrm>
            <a:off x="3443400" y="6888240"/>
            <a:ext cx="3190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sldNum" idx="5"/>
          </p:nvPr>
        </p:nvSpPr>
        <p:spPr>
          <a:xfrm>
            <a:off x="7222680" y="6887880"/>
            <a:ext cx="23497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53482075-EEE1-4F89-A0A9-16644FA5A7A6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1"/>
          <p:cNvGrpSpPr/>
          <p:nvPr/>
        </p:nvGrpSpPr>
        <p:grpSpPr>
          <a:xfrm>
            <a:off x="0" y="0"/>
            <a:ext cx="10077480" cy="7640280"/>
            <a:chOff x="0" y="0"/>
            <a:chExt cx="10077480" cy="7640280"/>
          </a:xfrm>
        </p:grpSpPr>
        <p:sp>
          <p:nvSpPr>
            <p:cNvPr id="730" name="AutoShape 2"/>
            <p:cNvSpPr/>
            <p:nvPr/>
          </p:nvSpPr>
          <p:spPr>
            <a:xfrm>
              <a:off x="0" y="3861360"/>
              <a:ext cx="4399920" cy="344736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AutoShape 3"/>
            <p:cNvSpPr/>
            <p:nvPr/>
          </p:nvSpPr>
          <p:spPr>
            <a:xfrm>
              <a:off x="0" y="4364640"/>
              <a:ext cx="3695040" cy="28058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AutoShape 4"/>
            <p:cNvSpPr/>
            <p:nvPr/>
          </p:nvSpPr>
          <p:spPr>
            <a:xfrm>
              <a:off x="3660120" y="5655240"/>
              <a:ext cx="6417000" cy="16506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AutoShape 5"/>
            <p:cNvSpPr/>
            <p:nvPr/>
          </p:nvSpPr>
          <p:spPr>
            <a:xfrm>
              <a:off x="0" y="917280"/>
              <a:ext cx="1703160" cy="20898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AutoShape 6"/>
            <p:cNvSpPr/>
            <p:nvPr/>
          </p:nvSpPr>
          <p:spPr>
            <a:xfrm>
              <a:off x="5575680" y="1080"/>
              <a:ext cx="4496760" cy="39646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AutoShape 7"/>
            <p:cNvSpPr/>
            <p:nvPr/>
          </p:nvSpPr>
          <p:spPr>
            <a:xfrm>
              <a:off x="6166440" y="1080"/>
              <a:ext cx="3823560" cy="26377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AutoShape 8"/>
            <p:cNvSpPr/>
            <p:nvPr/>
          </p:nvSpPr>
          <p:spPr>
            <a:xfrm>
              <a:off x="0" y="1134720"/>
              <a:ext cx="1426680" cy="14094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AutoShape 9"/>
            <p:cNvSpPr/>
            <p:nvPr/>
          </p:nvSpPr>
          <p:spPr>
            <a:xfrm>
              <a:off x="0" y="2702880"/>
              <a:ext cx="1333080" cy="1868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AutoShape 10"/>
            <p:cNvSpPr/>
            <p:nvPr/>
          </p:nvSpPr>
          <p:spPr>
            <a:xfrm>
              <a:off x="4047480" y="6000840"/>
              <a:ext cx="5567760" cy="1303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Rectangle 11"/>
            <p:cNvSpPr/>
            <p:nvPr/>
          </p:nvSpPr>
          <p:spPr>
            <a:xfrm>
              <a:off x="336240" y="221760"/>
              <a:ext cx="108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Rectangle 12"/>
            <p:cNvSpPr/>
            <p:nvPr/>
          </p:nvSpPr>
          <p:spPr>
            <a:xfrm>
              <a:off x="356760" y="228240"/>
              <a:ext cx="144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AutoShape 13"/>
            <p:cNvSpPr/>
            <p:nvPr/>
          </p:nvSpPr>
          <p:spPr>
            <a:xfrm>
              <a:off x="0" y="7051680"/>
              <a:ext cx="10077480" cy="5029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AutoShape 14"/>
            <p:cNvSpPr/>
            <p:nvPr/>
          </p:nvSpPr>
          <p:spPr>
            <a:xfrm>
              <a:off x="0" y="7051680"/>
              <a:ext cx="10077480" cy="588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AutoShape 15"/>
            <p:cNvSpPr/>
            <p:nvPr/>
          </p:nvSpPr>
          <p:spPr>
            <a:xfrm>
              <a:off x="0" y="0"/>
              <a:ext cx="10077480" cy="502920"/>
            </a:xfrm>
            <a:prstGeom prst="pie">
              <a:avLst/>
            </a:pr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AutoShape 16"/>
            <p:cNvSpPr/>
            <p:nvPr/>
          </p:nvSpPr>
          <p:spPr>
            <a:xfrm>
              <a:off x="890280" y="399600"/>
              <a:ext cx="5577480" cy="354096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AutoShape 17"/>
            <p:cNvSpPr/>
            <p:nvPr/>
          </p:nvSpPr>
          <p:spPr>
            <a:xfrm>
              <a:off x="2350800" y="512280"/>
              <a:ext cx="3750480" cy="3126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AutoShape 18"/>
            <p:cNvSpPr/>
            <p:nvPr/>
          </p:nvSpPr>
          <p:spPr>
            <a:xfrm>
              <a:off x="5128200" y="3023640"/>
              <a:ext cx="4947480" cy="41374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AutoShape 19"/>
            <p:cNvSpPr/>
            <p:nvPr/>
          </p:nvSpPr>
          <p:spPr>
            <a:xfrm>
              <a:off x="5528160" y="3252240"/>
              <a:ext cx="3782160" cy="3382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5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7160">
              <a:lnSpc>
                <a:spcPct val="95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98760" indent="-227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5960" indent="-227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5960" indent="-2271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5960" indent="-2271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Text Box 22"/>
          <p:cNvSpPr/>
          <p:nvPr/>
        </p:nvSpPr>
        <p:spPr>
          <a:xfrm>
            <a:off x="50328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23"/>
          <p:cNvSpPr/>
          <p:nvPr/>
        </p:nvSpPr>
        <p:spPr>
          <a:xfrm>
            <a:off x="3443400" y="6888240"/>
            <a:ext cx="3190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sldNum" idx="6"/>
          </p:nvPr>
        </p:nvSpPr>
        <p:spPr>
          <a:xfrm>
            <a:off x="7222680" y="6887880"/>
            <a:ext cx="23497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B66B3C4D-8E7C-45C9-9067-6A78F5E67338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oup 1"/>
          <p:cNvGrpSpPr/>
          <p:nvPr/>
        </p:nvGrpSpPr>
        <p:grpSpPr>
          <a:xfrm>
            <a:off x="0" y="0"/>
            <a:ext cx="10077480" cy="7640280"/>
            <a:chOff x="0" y="0"/>
            <a:chExt cx="10077480" cy="7640280"/>
          </a:xfrm>
        </p:grpSpPr>
        <p:sp>
          <p:nvSpPr>
            <p:cNvPr id="790" name="AutoShape 2"/>
            <p:cNvSpPr/>
            <p:nvPr/>
          </p:nvSpPr>
          <p:spPr>
            <a:xfrm>
              <a:off x="0" y="3861360"/>
              <a:ext cx="4399920" cy="344736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AutoShape 3"/>
            <p:cNvSpPr/>
            <p:nvPr/>
          </p:nvSpPr>
          <p:spPr>
            <a:xfrm>
              <a:off x="0" y="4364640"/>
              <a:ext cx="3695040" cy="28058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AutoShape 4"/>
            <p:cNvSpPr/>
            <p:nvPr/>
          </p:nvSpPr>
          <p:spPr>
            <a:xfrm>
              <a:off x="3660120" y="5655240"/>
              <a:ext cx="6417000" cy="16506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AutoShape 5"/>
            <p:cNvSpPr/>
            <p:nvPr/>
          </p:nvSpPr>
          <p:spPr>
            <a:xfrm>
              <a:off x="0" y="917280"/>
              <a:ext cx="1703160" cy="20898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AutoShape 6"/>
            <p:cNvSpPr/>
            <p:nvPr/>
          </p:nvSpPr>
          <p:spPr>
            <a:xfrm>
              <a:off x="5575680" y="1080"/>
              <a:ext cx="4496760" cy="39646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AutoShape 7"/>
            <p:cNvSpPr/>
            <p:nvPr/>
          </p:nvSpPr>
          <p:spPr>
            <a:xfrm>
              <a:off x="6166440" y="1080"/>
              <a:ext cx="3823560" cy="26377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AutoShape 8"/>
            <p:cNvSpPr/>
            <p:nvPr/>
          </p:nvSpPr>
          <p:spPr>
            <a:xfrm>
              <a:off x="0" y="1134720"/>
              <a:ext cx="1426680" cy="14094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AutoShape 9"/>
            <p:cNvSpPr/>
            <p:nvPr/>
          </p:nvSpPr>
          <p:spPr>
            <a:xfrm>
              <a:off x="0" y="2702880"/>
              <a:ext cx="1333080" cy="1868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AutoShape 10"/>
            <p:cNvSpPr/>
            <p:nvPr/>
          </p:nvSpPr>
          <p:spPr>
            <a:xfrm>
              <a:off x="4047480" y="6000840"/>
              <a:ext cx="5567760" cy="1303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Rectangle 11"/>
            <p:cNvSpPr/>
            <p:nvPr/>
          </p:nvSpPr>
          <p:spPr>
            <a:xfrm>
              <a:off x="336240" y="221760"/>
              <a:ext cx="108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Rectangle 12"/>
            <p:cNvSpPr/>
            <p:nvPr/>
          </p:nvSpPr>
          <p:spPr>
            <a:xfrm>
              <a:off x="356760" y="228240"/>
              <a:ext cx="144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AutoShape 13"/>
            <p:cNvSpPr/>
            <p:nvPr/>
          </p:nvSpPr>
          <p:spPr>
            <a:xfrm>
              <a:off x="0" y="7051680"/>
              <a:ext cx="10077480" cy="5029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AutoShape 14"/>
            <p:cNvSpPr/>
            <p:nvPr/>
          </p:nvSpPr>
          <p:spPr>
            <a:xfrm>
              <a:off x="0" y="7051680"/>
              <a:ext cx="10077480" cy="588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AutoShape 15"/>
            <p:cNvSpPr/>
            <p:nvPr/>
          </p:nvSpPr>
          <p:spPr>
            <a:xfrm>
              <a:off x="0" y="0"/>
              <a:ext cx="10077480" cy="502920"/>
            </a:xfrm>
            <a:prstGeom prst="pie">
              <a:avLst/>
            </a:pr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AutoShape 16"/>
            <p:cNvSpPr/>
            <p:nvPr/>
          </p:nvSpPr>
          <p:spPr>
            <a:xfrm>
              <a:off x="890280" y="399600"/>
              <a:ext cx="5577480" cy="354096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AutoShape 17"/>
            <p:cNvSpPr/>
            <p:nvPr/>
          </p:nvSpPr>
          <p:spPr>
            <a:xfrm>
              <a:off x="2350800" y="512280"/>
              <a:ext cx="3750480" cy="3126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AutoShape 18"/>
            <p:cNvSpPr/>
            <p:nvPr/>
          </p:nvSpPr>
          <p:spPr>
            <a:xfrm>
              <a:off x="5128200" y="3023640"/>
              <a:ext cx="4947480" cy="41374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AutoShape 19"/>
            <p:cNvSpPr/>
            <p:nvPr/>
          </p:nvSpPr>
          <p:spPr>
            <a:xfrm>
              <a:off x="5528160" y="3252240"/>
              <a:ext cx="3782160" cy="3382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5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7160">
              <a:lnSpc>
                <a:spcPct val="95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98760" indent="-227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5960" indent="-227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5960" indent="-2271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5960" indent="-2271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Text Box 22"/>
          <p:cNvSpPr/>
          <p:nvPr/>
        </p:nvSpPr>
        <p:spPr>
          <a:xfrm>
            <a:off x="50328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Text Box 23"/>
          <p:cNvSpPr/>
          <p:nvPr/>
        </p:nvSpPr>
        <p:spPr>
          <a:xfrm>
            <a:off x="3443400" y="6888240"/>
            <a:ext cx="3190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sldNum" idx="7"/>
          </p:nvPr>
        </p:nvSpPr>
        <p:spPr>
          <a:xfrm>
            <a:off x="7222680" y="6887880"/>
            <a:ext cx="23497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BC72FED7-C624-493E-A757-6844F64A3EFC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Group 1"/>
          <p:cNvGrpSpPr/>
          <p:nvPr/>
        </p:nvGrpSpPr>
        <p:grpSpPr>
          <a:xfrm>
            <a:off x="0" y="0"/>
            <a:ext cx="10077480" cy="7640280"/>
            <a:chOff x="0" y="0"/>
            <a:chExt cx="10077480" cy="7640280"/>
          </a:xfrm>
        </p:grpSpPr>
        <p:sp>
          <p:nvSpPr>
            <p:cNvPr id="850" name="AutoShape 2"/>
            <p:cNvSpPr/>
            <p:nvPr/>
          </p:nvSpPr>
          <p:spPr>
            <a:xfrm>
              <a:off x="0" y="3861360"/>
              <a:ext cx="4399920" cy="344736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AutoShape 3"/>
            <p:cNvSpPr/>
            <p:nvPr/>
          </p:nvSpPr>
          <p:spPr>
            <a:xfrm>
              <a:off x="0" y="4364640"/>
              <a:ext cx="3695040" cy="28058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AutoShape 4"/>
            <p:cNvSpPr/>
            <p:nvPr/>
          </p:nvSpPr>
          <p:spPr>
            <a:xfrm>
              <a:off x="3660120" y="5655240"/>
              <a:ext cx="6417000" cy="16506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AutoShape 5"/>
            <p:cNvSpPr/>
            <p:nvPr/>
          </p:nvSpPr>
          <p:spPr>
            <a:xfrm>
              <a:off x="0" y="917280"/>
              <a:ext cx="1703160" cy="20898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AutoShape 6"/>
            <p:cNvSpPr/>
            <p:nvPr/>
          </p:nvSpPr>
          <p:spPr>
            <a:xfrm>
              <a:off x="5575680" y="1080"/>
              <a:ext cx="4496760" cy="39646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AutoShape 7"/>
            <p:cNvSpPr/>
            <p:nvPr/>
          </p:nvSpPr>
          <p:spPr>
            <a:xfrm>
              <a:off x="6166440" y="1080"/>
              <a:ext cx="3823560" cy="26377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AutoShape 8"/>
            <p:cNvSpPr/>
            <p:nvPr/>
          </p:nvSpPr>
          <p:spPr>
            <a:xfrm>
              <a:off x="0" y="1134720"/>
              <a:ext cx="1426680" cy="14094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AutoShape 9"/>
            <p:cNvSpPr/>
            <p:nvPr/>
          </p:nvSpPr>
          <p:spPr>
            <a:xfrm>
              <a:off x="0" y="2702880"/>
              <a:ext cx="1333080" cy="1868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AutoShape 10"/>
            <p:cNvSpPr/>
            <p:nvPr/>
          </p:nvSpPr>
          <p:spPr>
            <a:xfrm>
              <a:off x="4047480" y="6000840"/>
              <a:ext cx="5567760" cy="1303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Rectangle 11"/>
            <p:cNvSpPr/>
            <p:nvPr/>
          </p:nvSpPr>
          <p:spPr>
            <a:xfrm>
              <a:off x="336240" y="221760"/>
              <a:ext cx="108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Rectangle 12"/>
            <p:cNvSpPr/>
            <p:nvPr/>
          </p:nvSpPr>
          <p:spPr>
            <a:xfrm>
              <a:off x="356760" y="228240"/>
              <a:ext cx="144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AutoShape 13"/>
            <p:cNvSpPr/>
            <p:nvPr/>
          </p:nvSpPr>
          <p:spPr>
            <a:xfrm>
              <a:off x="0" y="7051680"/>
              <a:ext cx="10077480" cy="5029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AutoShape 14"/>
            <p:cNvSpPr/>
            <p:nvPr/>
          </p:nvSpPr>
          <p:spPr>
            <a:xfrm>
              <a:off x="0" y="7051680"/>
              <a:ext cx="10077480" cy="588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AutoShape 15"/>
            <p:cNvSpPr/>
            <p:nvPr/>
          </p:nvSpPr>
          <p:spPr>
            <a:xfrm>
              <a:off x="0" y="0"/>
              <a:ext cx="10077480" cy="502920"/>
            </a:xfrm>
            <a:prstGeom prst="pie">
              <a:avLst/>
            </a:pr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AutoShape 16"/>
            <p:cNvSpPr/>
            <p:nvPr/>
          </p:nvSpPr>
          <p:spPr>
            <a:xfrm>
              <a:off x="890280" y="399600"/>
              <a:ext cx="5577480" cy="354096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AutoShape 17"/>
            <p:cNvSpPr/>
            <p:nvPr/>
          </p:nvSpPr>
          <p:spPr>
            <a:xfrm>
              <a:off x="2350800" y="512280"/>
              <a:ext cx="3750480" cy="3126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AutoShape 18"/>
            <p:cNvSpPr/>
            <p:nvPr/>
          </p:nvSpPr>
          <p:spPr>
            <a:xfrm>
              <a:off x="5128200" y="3023640"/>
              <a:ext cx="4947480" cy="41374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AutoShape 19"/>
            <p:cNvSpPr/>
            <p:nvPr/>
          </p:nvSpPr>
          <p:spPr>
            <a:xfrm>
              <a:off x="5528160" y="3252240"/>
              <a:ext cx="3782160" cy="3382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5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7160">
              <a:lnSpc>
                <a:spcPct val="95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98760" indent="-227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5960" indent="-227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5960" indent="-2271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5960" indent="-2271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50328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3443400" y="6888240"/>
            <a:ext cx="3190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sldNum" idx="8"/>
          </p:nvPr>
        </p:nvSpPr>
        <p:spPr>
          <a:xfrm>
            <a:off x="7222680" y="6887880"/>
            <a:ext cx="23497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7216720-CC8C-40C3-BE4B-E4211FB7E1A6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0880" y="587160"/>
            <a:ext cx="8604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2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4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2400" indent="-214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4040" indent="-212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Group 1"/>
          <p:cNvGrpSpPr/>
          <p:nvPr/>
        </p:nvGrpSpPr>
        <p:grpSpPr>
          <a:xfrm>
            <a:off x="0" y="0"/>
            <a:ext cx="10077480" cy="7640280"/>
            <a:chOff x="0" y="0"/>
            <a:chExt cx="10077480" cy="7640280"/>
          </a:xfrm>
        </p:grpSpPr>
        <p:sp>
          <p:nvSpPr>
            <p:cNvPr id="910" name="AutoShape 2"/>
            <p:cNvSpPr/>
            <p:nvPr/>
          </p:nvSpPr>
          <p:spPr>
            <a:xfrm>
              <a:off x="0" y="3861360"/>
              <a:ext cx="4399920" cy="344736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AutoShape 3"/>
            <p:cNvSpPr/>
            <p:nvPr/>
          </p:nvSpPr>
          <p:spPr>
            <a:xfrm>
              <a:off x="0" y="4364640"/>
              <a:ext cx="3695040" cy="28058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AutoShape 4"/>
            <p:cNvSpPr/>
            <p:nvPr/>
          </p:nvSpPr>
          <p:spPr>
            <a:xfrm>
              <a:off x="3660120" y="5655240"/>
              <a:ext cx="6417000" cy="16506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AutoShape 5"/>
            <p:cNvSpPr/>
            <p:nvPr/>
          </p:nvSpPr>
          <p:spPr>
            <a:xfrm>
              <a:off x="0" y="917280"/>
              <a:ext cx="1703160" cy="20898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AutoShape 6"/>
            <p:cNvSpPr/>
            <p:nvPr/>
          </p:nvSpPr>
          <p:spPr>
            <a:xfrm>
              <a:off x="5575680" y="1080"/>
              <a:ext cx="4496760" cy="39646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AutoShape 7"/>
            <p:cNvSpPr/>
            <p:nvPr/>
          </p:nvSpPr>
          <p:spPr>
            <a:xfrm>
              <a:off x="6166440" y="1080"/>
              <a:ext cx="3823560" cy="26377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AutoShape 8"/>
            <p:cNvSpPr/>
            <p:nvPr/>
          </p:nvSpPr>
          <p:spPr>
            <a:xfrm>
              <a:off x="0" y="1134720"/>
              <a:ext cx="1426680" cy="14094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AutoShape 9"/>
            <p:cNvSpPr/>
            <p:nvPr/>
          </p:nvSpPr>
          <p:spPr>
            <a:xfrm>
              <a:off x="0" y="2702880"/>
              <a:ext cx="1333080" cy="1868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AutoShape 10"/>
            <p:cNvSpPr/>
            <p:nvPr/>
          </p:nvSpPr>
          <p:spPr>
            <a:xfrm>
              <a:off x="4047480" y="6000840"/>
              <a:ext cx="5567760" cy="1303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336240" y="221760"/>
              <a:ext cx="108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356760" y="228240"/>
              <a:ext cx="144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AutoShape 13"/>
            <p:cNvSpPr/>
            <p:nvPr/>
          </p:nvSpPr>
          <p:spPr>
            <a:xfrm>
              <a:off x="0" y="7051680"/>
              <a:ext cx="10077480" cy="5029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AutoShape 14"/>
            <p:cNvSpPr/>
            <p:nvPr/>
          </p:nvSpPr>
          <p:spPr>
            <a:xfrm>
              <a:off x="0" y="7051680"/>
              <a:ext cx="10077480" cy="588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AutoShape 15"/>
            <p:cNvSpPr/>
            <p:nvPr/>
          </p:nvSpPr>
          <p:spPr>
            <a:xfrm>
              <a:off x="0" y="0"/>
              <a:ext cx="10077480" cy="502920"/>
            </a:xfrm>
            <a:prstGeom prst="pie">
              <a:avLst/>
            </a:pr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AutoShape 16"/>
            <p:cNvSpPr/>
            <p:nvPr/>
          </p:nvSpPr>
          <p:spPr>
            <a:xfrm>
              <a:off x="890280" y="399600"/>
              <a:ext cx="5577480" cy="354096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AutoShape 17"/>
            <p:cNvSpPr/>
            <p:nvPr/>
          </p:nvSpPr>
          <p:spPr>
            <a:xfrm>
              <a:off x="2350800" y="512280"/>
              <a:ext cx="3750480" cy="3126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AutoShape 18"/>
            <p:cNvSpPr/>
            <p:nvPr/>
          </p:nvSpPr>
          <p:spPr>
            <a:xfrm>
              <a:off x="5128200" y="3023640"/>
              <a:ext cx="4947480" cy="41374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AutoShape 19"/>
            <p:cNvSpPr/>
            <p:nvPr/>
          </p:nvSpPr>
          <p:spPr>
            <a:xfrm>
              <a:off x="5528160" y="3252240"/>
              <a:ext cx="3782160" cy="3382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5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7160">
              <a:lnSpc>
                <a:spcPct val="95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98760" indent="-227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5960" indent="-227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5960" indent="-2271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5960" indent="-2271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Text Box 22"/>
          <p:cNvSpPr/>
          <p:nvPr/>
        </p:nvSpPr>
        <p:spPr>
          <a:xfrm>
            <a:off x="50328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Text Box 23"/>
          <p:cNvSpPr/>
          <p:nvPr/>
        </p:nvSpPr>
        <p:spPr>
          <a:xfrm>
            <a:off x="3443400" y="6888240"/>
            <a:ext cx="3190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sldNum" idx="9"/>
          </p:nvPr>
        </p:nvSpPr>
        <p:spPr>
          <a:xfrm>
            <a:off x="7222680" y="6887880"/>
            <a:ext cx="23497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FAFCF24F-3F84-4691-98C9-6B4D4ACC701D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1"/>
          <p:cNvGrpSpPr/>
          <p:nvPr/>
        </p:nvGrpSpPr>
        <p:grpSpPr>
          <a:xfrm>
            <a:off x="0" y="0"/>
            <a:ext cx="10077480" cy="7640280"/>
            <a:chOff x="0" y="0"/>
            <a:chExt cx="10077480" cy="7640280"/>
          </a:xfrm>
        </p:grpSpPr>
        <p:sp>
          <p:nvSpPr>
            <p:cNvPr id="970" name="AutoShape 2"/>
            <p:cNvSpPr/>
            <p:nvPr/>
          </p:nvSpPr>
          <p:spPr>
            <a:xfrm>
              <a:off x="0" y="3861360"/>
              <a:ext cx="4399920" cy="344736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AutoShape 3"/>
            <p:cNvSpPr/>
            <p:nvPr/>
          </p:nvSpPr>
          <p:spPr>
            <a:xfrm>
              <a:off x="0" y="4364640"/>
              <a:ext cx="3695040" cy="28058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AutoShape 4"/>
            <p:cNvSpPr/>
            <p:nvPr/>
          </p:nvSpPr>
          <p:spPr>
            <a:xfrm>
              <a:off x="3660120" y="5655240"/>
              <a:ext cx="6417000" cy="16506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AutoShape 5"/>
            <p:cNvSpPr/>
            <p:nvPr/>
          </p:nvSpPr>
          <p:spPr>
            <a:xfrm>
              <a:off x="0" y="917280"/>
              <a:ext cx="1703160" cy="20898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AutoShape 6"/>
            <p:cNvSpPr/>
            <p:nvPr/>
          </p:nvSpPr>
          <p:spPr>
            <a:xfrm>
              <a:off x="5575680" y="1080"/>
              <a:ext cx="4496760" cy="39646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AutoShape 7"/>
            <p:cNvSpPr/>
            <p:nvPr/>
          </p:nvSpPr>
          <p:spPr>
            <a:xfrm>
              <a:off x="6166440" y="1080"/>
              <a:ext cx="3823560" cy="26377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AutoShape 8"/>
            <p:cNvSpPr/>
            <p:nvPr/>
          </p:nvSpPr>
          <p:spPr>
            <a:xfrm>
              <a:off x="0" y="1134720"/>
              <a:ext cx="1426680" cy="14094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AutoShape 9"/>
            <p:cNvSpPr/>
            <p:nvPr/>
          </p:nvSpPr>
          <p:spPr>
            <a:xfrm>
              <a:off x="0" y="2702880"/>
              <a:ext cx="1333080" cy="1868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AutoShape 10"/>
            <p:cNvSpPr/>
            <p:nvPr/>
          </p:nvSpPr>
          <p:spPr>
            <a:xfrm>
              <a:off x="4047480" y="6000840"/>
              <a:ext cx="5567760" cy="1303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Rectangle 11"/>
            <p:cNvSpPr/>
            <p:nvPr/>
          </p:nvSpPr>
          <p:spPr>
            <a:xfrm>
              <a:off x="336240" y="221760"/>
              <a:ext cx="108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Rectangle 12"/>
            <p:cNvSpPr/>
            <p:nvPr/>
          </p:nvSpPr>
          <p:spPr>
            <a:xfrm>
              <a:off x="356760" y="228240"/>
              <a:ext cx="144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AutoShape 13"/>
            <p:cNvSpPr/>
            <p:nvPr/>
          </p:nvSpPr>
          <p:spPr>
            <a:xfrm>
              <a:off x="0" y="7051680"/>
              <a:ext cx="10077480" cy="5029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AutoShape 14"/>
            <p:cNvSpPr/>
            <p:nvPr/>
          </p:nvSpPr>
          <p:spPr>
            <a:xfrm>
              <a:off x="0" y="7051680"/>
              <a:ext cx="10077480" cy="588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AutoShape 15"/>
            <p:cNvSpPr/>
            <p:nvPr/>
          </p:nvSpPr>
          <p:spPr>
            <a:xfrm>
              <a:off x="0" y="0"/>
              <a:ext cx="10077480" cy="502920"/>
            </a:xfrm>
            <a:prstGeom prst="pie">
              <a:avLst/>
            </a:pr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AutoShape 16"/>
            <p:cNvSpPr/>
            <p:nvPr/>
          </p:nvSpPr>
          <p:spPr>
            <a:xfrm>
              <a:off x="890280" y="399600"/>
              <a:ext cx="5577480" cy="354096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AutoShape 17"/>
            <p:cNvSpPr/>
            <p:nvPr/>
          </p:nvSpPr>
          <p:spPr>
            <a:xfrm>
              <a:off x="2350800" y="512280"/>
              <a:ext cx="3750480" cy="3126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AutoShape 18"/>
            <p:cNvSpPr/>
            <p:nvPr/>
          </p:nvSpPr>
          <p:spPr>
            <a:xfrm>
              <a:off x="5128200" y="3023640"/>
              <a:ext cx="4947480" cy="41374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AutoShape 19"/>
            <p:cNvSpPr/>
            <p:nvPr/>
          </p:nvSpPr>
          <p:spPr>
            <a:xfrm>
              <a:off x="5528160" y="3252240"/>
              <a:ext cx="3782160" cy="3382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5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7160">
              <a:lnSpc>
                <a:spcPct val="95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98760" indent="-227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5960" indent="-227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5960" indent="-2271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5960" indent="-2271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Text Box 22"/>
          <p:cNvSpPr/>
          <p:nvPr/>
        </p:nvSpPr>
        <p:spPr>
          <a:xfrm>
            <a:off x="50328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Text Box 23"/>
          <p:cNvSpPr/>
          <p:nvPr/>
        </p:nvSpPr>
        <p:spPr>
          <a:xfrm>
            <a:off x="3443400" y="6888240"/>
            <a:ext cx="3190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sldNum" idx="10"/>
          </p:nvPr>
        </p:nvSpPr>
        <p:spPr>
          <a:xfrm>
            <a:off x="7222680" y="6887880"/>
            <a:ext cx="23497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10F65A2E-C262-4A6B-975E-2FCBDA08F452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Group 1"/>
          <p:cNvGrpSpPr/>
          <p:nvPr/>
        </p:nvGrpSpPr>
        <p:grpSpPr>
          <a:xfrm>
            <a:off x="0" y="0"/>
            <a:ext cx="10077480" cy="7640280"/>
            <a:chOff x="0" y="0"/>
            <a:chExt cx="10077480" cy="7640280"/>
          </a:xfrm>
        </p:grpSpPr>
        <p:sp>
          <p:nvSpPr>
            <p:cNvPr id="1030" name="AutoShape 2"/>
            <p:cNvSpPr/>
            <p:nvPr/>
          </p:nvSpPr>
          <p:spPr>
            <a:xfrm>
              <a:off x="0" y="3861360"/>
              <a:ext cx="4399920" cy="344736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AutoShape 3"/>
            <p:cNvSpPr/>
            <p:nvPr/>
          </p:nvSpPr>
          <p:spPr>
            <a:xfrm>
              <a:off x="0" y="4364640"/>
              <a:ext cx="3695040" cy="28058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AutoShape 4"/>
            <p:cNvSpPr/>
            <p:nvPr/>
          </p:nvSpPr>
          <p:spPr>
            <a:xfrm>
              <a:off x="3660120" y="5655240"/>
              <a:ext cx="6417000" cy="16506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AutoShape 5"/>
            <p:cNvSpPr/>
            <p:nvPr/>
          </p:nvSpPr>
          <p:spPr>
            <a:xfrm>
              <a:off x="0" y="917280"/>
              <a:ext cx="1703160" cy="20898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AutoShape 6"/>
            <p:cNvSpPr/>
            <p:nvPr/>
          </p:nvSpPr>
          <p:spPr>
            <a:xfrm>
              <a:off x="5575680" y="1080"/>
              <a:ext cx="4496760" cy="39646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AutoShape 7"/>
            <p:cNvSpPr/>
            <p:nvPr/>
          </p:nvSpPr>
          <p:spPr>
            <a:xfrm>
              <a:off x="6166440" y="1080"/>
              <a:ext cx="3823560" cy="26377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AutoShape 8"/>
            <p:cNvSpPr/>
            <p:nvPr/>
          </p:nvSpPr>
          <p:spPr>
            <a:xfrm>
              <a:off x="0" y="1134720"/>
              <a:ext cx="1426680" cy="14094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AutoShape 9"/>
            <p:cNvSpPr/>
            <p:nvPr/>
          </p:nvSpPr>
          <p:spPr>
            <a:xfrm>
              <a:off x="0" y="2702880"/>
              <a:ext cx="1333080" cy="1868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AutoShape 10"/>
            <p:cNvSpPr/>
            <p:nvPr/>
          </p:nvSpPr>
          <p:spPr>
            <a:xfrm>
              <a:off x="4047480" y="6000840"/>
              <a:ext cx="5567760" cy="1303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Rectangle 11"/>
            <p:cNvSpPr/>
            <p:nvPr/>
          </p:nvSpPr>
          <p:spPr>
            <a:xfrm>
              <a:off x="336240" y="221760"/>
              <a:ext cx="108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Rectangle 12"/>
            <p:cNvSpPr/>
            <p:nvPr/>
          </p:nvSpPr>
          <p:spPr>
            <a:xfrm>
              <a:off x="356760" y="228240"/>
              <a:ext cx="144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AutoShape 13"/>
            <p:cNvSpPr/>
            <p:nvPr/>
          </p:nvSpPr>
          <p:spPr>
            <a:xfrm>
              <a:off x="0" y="7051680"/>
              <a:ext cx="10077480" cy="5029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AutoShape 14"/>
            <p:cNvSpPr/>
            <p:nvPr/>
          </p:nvSpPr>
          <p:spPr>
            <a:xfrm>
              <a:off x="0" y="7051680"/>
              <a:ext cx="10077480" cy="588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AutoShape 15"/>
            <p:cNvSpPr/>
            <p:nvPr/>
          </p:nvSpPr>
          <p:spPr>
            <a:xfrm>
              <a:off x="0" y="0"/>
              <a:ext cx="10077480" cy="502920"/>
            </a:xfrm>
            <a:prstGeom prst="pie">
              <a:avLst/>
            </a:pr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AutoShape 16"/>
            <p:cNvSpPr/>
            <p:nvPr/>
          </p:nvSpPr>
          <p:spPr>
            <a:xfrm>
              <a:off x="890280" y="399600"/>
              <a:ext cx="5577480" cy="354096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AutoShape 17"/>
            <p:cNvSpPr/>
            <p:nvPr/>
          </p:nvSpPr>
          <p:spPr>
            <a:xfrm>
              <a:off x="2350800" y="512280"/>
              <a:ext cx="3750480" cy="3126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AutoShape 18"/>
            <p:cNvSpPr/>
            <p:nvPr/>
          </p:nvSpPr>
          <p:spPr>
            <a:xfrm>
              <a:off x="5128200" y="3023640"/>
              <a:ext cx="4947480" cy="41374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AutoShape 19"/>
            <p:cNvSpPr/>
            <p:nvPr/>
          </p:nvSpPr>
          <p:spPr>
            <a:xfrm>
              <a:off x="5528160" y="3252240"/>
              <a:ext cx="3782160" cy="3382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4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5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1560" indent="-227160">
              <a:lnSpc>
                <a:spcPct val="95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98760" indent="-227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5960" indent="-227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5960" indent="-2271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5960" indent="-2271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Text Box 22"/>
          <p:cNvSpPr/>
          <p:nvPr/>
        </p:nvSpPr>
        <p:spPr>
          <a:xfrm>
            <a:off x="50328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23"/>
          <p:cNvSpPr/>
          <p:nvPr/>
        </p:nvSpPr>
        <p:spPr>
          <a:xfrm>
            <a:off x="3443400" y="6888240"/>
            <a:ext cx="3190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sldNum" idx="11"/>
          </p:nvPr>
        </p:nvSpPr>
        <p:spPr>
          <a:xfrm>
            <a:off x="7222680" y="6887880"/>
            <a:ext cx="23497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CD37D3C-CDC6-4D8D-82FF-C3D8389C9FBA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12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13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14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31DA304-7004-4A79-8951-6ABFF44F5D0C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 type="dt" idx="15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 type="ftr" idx="16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 type="sldNum" idx="17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330D23F5-8ED7-426F-AE6F-A16B82F11DDB}" type="slidenum">
              <a:rPr b="0" lang="en-GB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dt" idx="18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ftr" idx="19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 type="sldNum" idx="20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92C21EBD-990B-42E8-AE53-1F9F0CB4B654}" type="slidenum">
              <a:rPr b="0" lang="en-GB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 type="dt" idx="2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 type="ftr" idx="22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 type="sldNum" idx="23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010D3F96-1F35-4433-B72A-9B6E6564296B}" type="slidenum">
              <a:rPr b="0" lang="en-GB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 type="dt" idx="2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 type="ftr" idx="25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 type="sldNum" idx="26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43ACE99-F178-494B-B9A8-B97910DB5F05}" type="slidenum">
              <a:rPr b="0" lang="en-GB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 type="dt" idx="2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 type="ftr" idx="28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 type="sldNum" idx="29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2E97A93-C62E-4CCC-89C6-2E17BAAA7DE3}" type="slidenum">
              <a:rPr b="0" lang="en-GB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 type="dt" idx="3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 type="ftr" idx="31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 type="sldNum" idx="32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B2753025-6143-4AD9-B3FC-7B509B6D3B33}" type="slidenum">
              <a:rPr b="0" lang="en-GB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0880" y="587160"/>
            <a:ext cx="8604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2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4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2400" indent="-214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4040" indent="-212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 type="dt" idx="33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 type="ftr" idx="34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 type="sldNum" idx="35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399F6F0-2E3A-43C4-A4B1-1D52D8BDC731}" type="slidenum">
              <a:rPr b="0" lang="en-GB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 type="dt" idx="36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 type="ftr" idx="37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 type="sldNum" idx="38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08321DCA-0C5B-4D8A-8F2F-3FFF527F1463}" type="slidenum">
              <a:rPr b="0" lang="en-GB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 type="dt" idx="39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 type="ftr" idx="40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 type="sldNum" idx="41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12ADB0C0-B137-4C46-9B3E-D130C53AB9FF}" type="slidenum">
              <a:rPr b="0" lang="en-GB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 type="dt" idx="42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 type="ftr" idx="43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 type="sldNum" idx="44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132EFFD-2FD1-4958-8A54-35C59FF11C26}" type="slidenum">
              <a:rPr b="0" lang="en-GB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 type="dt" idx="45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 type="ftr" idx="46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 type="sldNum" idx="47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0B25F3A6-8BBE-4A85-8C20-1C722410798C}" type="slidenum">
              <a:rPr b="0" lang="en-GB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0880" y="587160"/>
            <a:ext cx="8604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2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4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2400" indent="-214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4040" indent="-212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0880" y="587160"/>
            <a:ext cx="8604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2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4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2400" indent="-214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4040" indent="-212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0880" y="587160"/>
            <a:ext cx="8604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2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4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2400" indent="-214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4040" indent="-212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0880" y="587160"/>
            <a:ext cx="8604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2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4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2400" indent="-214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4040" indent="-212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0880" y="587160"/>
            <a:ext cx="8604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2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4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2400" indent="-214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4040" indent="-212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0880" y="587160"/>
            <a:ext cx="8604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2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4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2400" indent="-214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4040" indent="-212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56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3.xml"/><Relationship Id="rId10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5" name="Text Box 1" descr=""/>
          <p:cNvPicPr/>
          <p:nvPr/>
        </p:nvPicPr>
        <p:blipFill>
          <a:blip r:embed="rId1"/>
          <a:stretch/>
        </p:blipFill>
        <p:spPr>
          <a:xfrm>
            <a:off x="390600" y="1616040"/>
            <a:ext cx="9271080" cy="37418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AutoShape 1"/>
          <p:cNvSpPr/>
          <p:nvPr/>
        </p:nvSpPr>
        <p:spPr>
          <a:xfrm>
            <a:off x="611280" y="636480"/>
            <a:ext cx="9144000" cy="1285920"/>
          </a:xfrm>
          <a:prstGeom prst="horizontalScroll">
            <a:avLst>
              <a:gd name="adj" fmla="val 12500"/>
            </a:avLst>
          </a:prstGeom>
          <a:solidFill>
            <a:srgbClr val="e6e6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Text Box 2"/>
          <p:cNvSpPr/>
          <p:nvPr/>
        </p:nvSpPr>
        <p:spPr>
          <a:xfrm>
            <a:off x="896760" y="992160"/>
            <a:ext cx="86410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Arial"/>
              </a:rPr>
              <a:t>СТАНЦИЯ «ГРИБНА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AutoShape 3"/>
          <p:cNvSpPr/>
          <p:nvPr/>
        </p:nvSpPr>
        <p:spPr>
          <a:xfrm>
            <a:off x="617400" y="2489040"/>
            <a:ext cx="2136960" cy="927360"/>
          </a:xfrm>
          <a:prstGeom prst="pie">
            <a:avLst/>
          </a:prstGeom>
          <a:solidFill>
            <a:srgbClr val="dc2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Oval 4"/>
          <p:cNvSpPr/>
          <p:nvPr/>
        </p:nvSpPr>
        <p:spPr>
          <a:xfrm>
            <a:off x="1336680" y="3419640"/>
            <a:ext cx="539640" cy="180000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AutoShape 5"/>
          <p:cNvSpPr/>
          <p:nvPr/>
        </p:nvSpPr>
        <p:spPr>
          <a:xfrm rot="1200000">
            <a:off x="857160" y="4379400"/>
            <a:ext cx="1619280" cy="1260720"/>
          </a:xfrm>
          <a:prstGeom prst="irregularSeal2">
            <a:avLst/>
          </a:prstGeom>
          <a:solidFill>
            <a:srgbClr val="5c852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AutoShape 6"/>
          <p:cNvSpPr/>
          <p:nvPr/>
        </p:nvSpPr>
        <p:spPr>
          <a:xfrm>
            <a:off x="2754360" y="4280040"/>
            <a:ext cx="2136600" cy="927000"/>
          </a:xfrm>
          <a:prstGeom prst="pie">
            <a:avLst/>
          </a:prstGeom>
          <a:solidFill>
            <a:srgbClr val="dc2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9⅔ - ⅓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Oval 7"/>
          <p:cNvSpPr/>
          <p:nvPr/>
        </p:nvSpPr>
        <p:spPr>
          <a:xfrm>
            <a:off x="3473280" y="5111640"/>
            <a:ext cx="540000" cy="180036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AutoShape 8"/>
          <p:cNvSpPr/>
          <p:nvPr/>
        </p:nvSpPr>
        <p:spPr>
          <a:xfrm rot="1200000">
            <a:off x="2981160" y="5963760"/>
            <a:ext cx="1619280" cy="1260720"/>
          </a:xfrm>
          <a:prstGeom prst="irregularSeal2">
            <a:avLst/>
          </a:prstGeom>
          <a:solidFill>
            <a:srgbClr val="5c852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AutoShape 9"/>
          <p:cNvSpPr/>
          <p:nvPr/>
        </p:nvSpPr>
        <p:spPr>
          <a:xfrm>
            <a:off x="4735440" y="1900080"/>
            <a:ext cx="2136960" cy="927360"/>
          </a:xfrm>
          <a:prstGeom prst="pie">
            <a:avLst/>
          </a:prstGeom>
          <a:solidFill>
            <a:srgbClr val="dc2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Oval 10"/>
          <p:cNvSpPr/>
          <p:nvPr/>
        </p:nvSpPr>
        <p:spPr>
          <a:xfrm>
            <a:off x="5492880" y="2822400"/>
            <a:ext cx="539640" cy="180036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AutoShape 11"/>
          <p:cNvSpPr/>
          <p:nvPr/>
        </p:nvSpPr>
        <p:spPr>
          <a:xfrm rot="1200000">
            <a:off x="4965480" y="3854160"/>
            <a:ext cx="1619280" cy="1260360"/>
          </a:xfrm>
          <a:prstGeom prst="irregularSeal2">
            <a:avLst/>
          </a:prstGeom>
          <a:solidFill>
            <a:srgbClr val="5c852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Text Box 12"/>
          <p:cNvSpPr/>
          <p:nvPr/>
        </p:nvSpPr>
        <p:spPr>
          <a:xfrm>
            <a:off x="754200" y="2922480"/>
            <a:ext cx="1885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1⅓+ 2⅔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Text Box 15"/>
          <p:cNvSpPr/>
          <p:nvPr/>
        </p:nvSpPr>
        <p:spPr>
          <a:xfrm>
            <a:off x="3040200" y="4708440"/>
            <a:ext cx="1714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Text Box 17"/>
          <p:cNvSpPr/>
          <p:nvPr/>
        </p:nvSpPr>
        <p:spPr>
          <a:xfrm>
            <a:off x="4826160" y="2351160"/>
            <a:ext cx="190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4⅞-⅝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1228680" y="358452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Text Box 35"/>
          <p:cNvSpPr/>
          <p:nvPr/>
        </p:nvSpPr>
        <p:spPr>
          <a:xfrm>
            <a:off x="1481040" y="3456000"/>
            <a:ext cx="1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500" autoRev="1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500" autoRev="1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AutoShape 17"/>
          <p:cNvSpPr/>
          <p:nvPr/>
        </p:nvSpPr>
        <p:spPr>
          <a:xfrm>
            <a:off x="2519280" y="2987640"/>
            <a:ext cx="540000" cy="72072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AutoShape 1"/>
          <p:cNvSpPr/>
          <p:nvPr/>
        </p:nvSpPr>
        <p:spPr>
          <a:xfrm>
            <a:off x="360360" y="268200"/>
            <a:ext cx="9441000" cy="1440000"/>
          </a:xfrm>
          <a:prstGeom prst="horizontalScroll">
            <a:avLst>
              <a:gd name="adj" fmla="val 12500"/>
            </a:avLst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Text Box 2"/>
          <p:cNvSpPr/>
          <p:nvPr/>
        </p:nvSpPr>
        <p:spPr>
          <a:xfrm>
            <a:off x="539640" y="720720"/>
            <a:ext cx="9360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en-GB" sz="4000" spc="-1" strike="noStrike">
                <a:solidFill>
                  <a:srgbClr val="632523"/>
                </a:solidFill>
                <a:latin typeface="Arial"/>
              </a:rPr>
              <a:t>СТАНЦИЯ«ВЫЧИСЛИТЕЛЬНА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5" name="Text Box 3" descr=""/>
          <p:cNvPicPr/>
          <p:nvPr/>
        </p:nvPicPr>
        <p:blipFill>
          <a:blip r:embed="rId1"/>
          <a:stretch/>
        </p:blipFill>
        <p:spPr>
          <a:xfrm>
            <a:off x="669960" y="1670040"/>
            <a:ext cx="6553080" cy="944640"/>
          </a:xfrm>
          <a:prstGeom prst="rect">
            <a:avLst/>
          </a:prstGeom>
          <a:ln w="0">
            <a:noFill/>
          </a:ln>
        </p:spPr>
      </p:pic>
      <p:sp>
        <p:nvSpPr>
          <p:cNvPr id="1606" name="Text Box 4"/>
          <p:cNvSpPr/>
          <p:nvPr/>
        </p:nvSpPr>
        <p:spPr>
          <a:xfrm>
            <a:off x="1260360" y="2952720"/>
            <a:ext cx="37800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Text Box 5"/>
          <p:cNvSpPr/>
          <p:nvPr/>
        </p:nvSpPr>
        <p:spPr>
          <a:xfrm>
            <a:off x="663480" y="3137040"/>
            <a:ext cx="2662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⅞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-  ⅜ =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Text Box 6"/>
          <p:cNvSpPr/>
          <p:nvPr/>
        </p:nvSpPr>
        <p:spPr>
          <a:xfrm>
            <a:off x="5183280" y="3208320"/>
            <a:ext cx="128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AutoShape 8"/>
          <p:cNvSpPr/>
          <p:nvPr/>
        </p:nvSpPr>
        <p:spPr>
          <a:xfrm>
            <a:off x="3060720" y="3419640"/>
            <a:ext cx="1620720" cy="1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43920" bIns="-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Text Box 15"/>
          <p:cNvSpPr/>
          <p:nvPr/>
        </p:nvSpPr>
        <p:spPr>
          <a:xfrm>
            <a:off x="1682640" y="4519440"/>
            <a:ext cx="1285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9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Text Box 16"/>
          <p:cNvSpPr/>
          <p:nvPr/>
        </p:nvSpPr>
        <p:spPr>
          <a:xfrm>
            <a:off x="7020000" y="4319640"/>
            <a:ext cx="143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AutoShape 18"/>
          <p:cNvSpPr/>
          <p:nvPr/>
        </p:nvSpPr>
        <p:spPr>
          <a:xfrm>
            <a:off x="4680000" y="2987640"/>
            <a:ext cx="539640" cy="72072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AutoShape 19"/>
          <p:cNvSpPr/>
          <p:nvPr/>
        </p:nvSpPr>
        <p:spPr>
          <a:xfrm>
            <a:off x="6373800" y="2959200"/>
            <a:ext cx="952560" cy="749160"/>
          </a:xfrm>
          <a:prstGeom prst="irregularSeal2">
            <a:avLst/>
          </a:prstGeom>
          <a:solidFill>
            <a:srgbClr val="9537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AutoShape 24"/>
          <p:cNvSpPr/>
          <p:nvPr/>
        </p:nvSpPr>
        <p:spPr>
          <a:xfrm>
            <a:off x="825480" y="4208400"/>
            <a:ext cx="1079640" cy="900000"/>
          </a:xfrm>
          <a:prstGeom prst="irregularSeal2">
            <a:avLst/>
          </a:prstGeom>
          <a:solidFill>
            <a:srgbClr val="95373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AutoShape 25"/>
          <p:cNvSpPr/>
          <p:nvPr/>
        </p:nvSpPr>
        <p:spPr>
          <a:xfrm>
            <a:off x="2897280" y="4422600"/>
            <a:ext cx="720720" cy="540000"/>
          </a:xfrm>
          <a:prstGeom prst="pie">
            <a:avLst/>
          </a:prstGeom>
          <a:solidFill>
            <a:srgbClr val="c5000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6" name="AutoShape 27"/>
          <p:cNvCxnSpPr/>
          <p:nvPr/>
        </p:nvCxnSpPr>
        <p:spPr>
          <a:xfrm rot="5400000">
            <a:off x="3299400" y="1161720"/>
            <a:ext cx="1169280" cy="5976360"/>
          </a:xfrm>
          <a:prstGeom prst="bentConnector4">
            <a:avLst>
              <a:gd name="adj1" fmla="val 38312"/>
              <a:gd name="adj2" fmla="val 103819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17" name="Text Box 28"/>
          <p:cNvSpPr/>
          <p:nvPr/>
        </p:nvSpPr>
        <p:spPr>
          <a:xfrm>
            <a:off x="2325600" y="3137040"/>
            <a:ext cx="12146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Text Box 30"/>
          <p:cNvSpPr/>
          <p:nvPr/>
        </p:nvSpPr>
        <p:spPr>
          <a:xfrm>
            <a:off x="4611600" y="3208320"/>
            <a:ext cx="128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Text Box 43"/>
          <p:cNvSpPr/>
          <p:nvPr/>
        </p:nvSpPr>
        <p:spPr>
          <a:xfrm>
            <a:off x="896760" y="4494240"/>
            <a:ext cx="1079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Arial"/>
              </a:rPr>
              <a:t>59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0" name="Picture 6" descr="HACKER3"/>
          <p:cNvPicPr/>
          <p:nvPr/>
        </p:nvPicPr>
        <p:blipFill>
          <a:blip r:embed="rId2"/>
          <a:stretch/>
        </p:blipFill>
        <p:spPr>
          <a:xfrm>
            <a:off x="7540560" y="4851360"/>
            <a:ext cx="1685880" cy="1330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Text Box 1"/>
          <p:cNvSpPr/>
          <p:nvPr/>
        </p:nvSpPr>
        <p:spPr>
          <a:xfrm>
            <a:off x="1079640" y="2173320"/>
            <a:ext cx="7199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2" name="Picture 2" descr=""/>
          <p:cNvPicPr/>
          <p:nvPr/>
        </p:nvPicPr>
        <p:blipFill>
          <a:blip r:embed="rId1"/>
          <a:stretch/>
        </p:blipFill>
        <p:spPr>
          <a:xfrm>
            <a:off x="3257640" y="2909880"/>
            <a:ext cx="3600360" cy="1800360"/>
          </a:xfrm>
          <a:prstGeom prst="rect">
            <a:avLst/>
          </a:prstGeom>
          <a:ln w="0">
            <a:noFill/>
          </a:ln>
          <a:effectLst>
            <a:outerShdw dist="101314" dir="2700000" blurRad="0" rotWithShape="0">
              <a:srgbClr val="808080"/>
            </a:outerShdw>
          </a:effectLst>
        </p:spPr>
      </p:pic>
      <p:pic>
        <p:nvPicPr>
          <p:cNvPr id="1623" name="Picture 3" descr=""/>
          <p:cNvPicPr/>
          <p:nvPr/>
        </p:nvPicPr>
        <p:blipFill>
          <a:blip r:embed="rId2"/>
          <a:stretch/>
        </p:blipFill>
        <p:spPr>
          <a:xfrm>
            <a:off x="3257640" y="2909880"/>
            <a:ext cx="3600360" cy="1800360"/>
          </a:xfrm>
          <a:prstGeom prst="rect">
            <a:avLst/>
          </a:prstGeom>
          <a:ln w="0">
            <a:noFill/>
          </a:ln>
          <a:effectLst>
            <a:outerShdw dist="101314" dir="2700000" blurRad="0" rotWithShape="0">
              <a:srgbClr val="808080"/>
            </a:outerShdw>
          </a:effectLst>
        </p:spPr>
      </p:pic>
      <p:pic>
        <p:nvPicPr>
          <p:cNvPr id="1624" name="Picture 4" descr=""/>
          <p:cNvPicPr/>
          <p:nvPr/>
        </p:nvPicPr>
        <p:blipFill>
          <a:blip r:embed="rId3"/>
          <a:stretch/>
        </p:blipFill>
        <p:spPr>
          <a:xfrm>
            <a:off x="3257640" y="2909880"/>
            <a:ext cx="3600360" cy="1800360"/>
          </a:xfrm>
          <a:prstGeom prst="rect">
            <a:avLst/>
          </a:prstGeom>
          <a:ln w="0">
            <a:noFill/>
          </a:ln>
          <a:effectLst>
            <a:outerShdw dist="101314" dir="2700000" blurRad="0" rotWithShape="0">
              <a:srgbClr val="808080"/>
            </a:outerShdw>
          </a:effectLst>
        </p:spPr>
      </p:pic>
      <p:sp>
        <p:nvSpPr>
          <p:cNvPr id="1625" name="WordArt 5"/>
          <p:cNvSpPr txBox="1"/>
          <p:nvPr/>
        </p:nvSpPr>
        <p:spPr>
          <a:xfrm>
            <a:off x="720720" y="1871640"/>
            <a:ext cx="8820000" cy="37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-2213"/>
              </a:avLst>
            </a:prstTxWarp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Спасибо за работу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До новых встреч!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pic>
        <p:nvPicPr>
          <p:cNvPr id="1626" name="Picture 6" descr=""/>
          <p:cNvPicPr/>
          <p:nvPr/>
        </p:nvPicPr>
        <p:blipFill>
          <a:blip r:embed="rId4"/>
          <a:stretch/>
        </p:blipFill>
        <p:spPr>
          <a:xfrm>
            <a:off x="3257640" y="2303640"/>
            <a:ext cx="3600360" cy="1800000"/>
          </a:xfrm>
          <a:prstGeom prst="rect">
            <a:avLst/>
          </a:prstGeom>
          <a:ln w="0">
            <a:noFill/>
          </a:ln>
          <a:effectLst>
            <a:outerShdw dist="101314" dir="2700000" blurRad="0" rotWithShape="0">
              <a:srgbClr val="808080"/>
            </a:outerShdw>
          </a:effectLst>
        </p:spPr>
      </p:pic>
      <p:pic>
        <p:nvPicPr>
          <p:cNvPr id="1627" name="Picture 7" descr=""/>
          <p:cNvPicPr/>
          <p:nvPr/>
        </p:nvPicPr>
        <p:blipFill>
          <a:blip r:embed="rId5"/>
          <a:stretch/>
        </p:blipFill>
        <p:spPr>
          <a:xfrm>
            <a:off x="3257640" y="2303640"/>
            <a:ext cx="3600360" cy="1800000"/>
          </a:xfrm>
          <a:prstGeom prst="rect">
            <a:avLst/>
          </a:prstGeom>
          <a:ln w="0">
            <a:noFill/>
          </a:ln>
          <a:effectLst>
            <a:outerShdw dist="101314" dir="2700000" blurRad="0" rotWithShape="0">
              <a:srgbClr val="808080"/>
            </a:outerShdw>
          </a:effectLst>
        </p:spPr>
      </p:pic>
      <p:pic>
        <p:nvPicPr>
          <p:cNvPr id="1628" name="Picture 9" descr=""/>
          <p:cNvPicPr/>
          <p:nvPr/>
        </p:nvPicPr>
        <p:blipFill>
          <a:blip r:embed="rId6"/>
          <a:stretch/>
        </p:blipFill>
        <p:spPr>
          <a:xfrm rot="6979800">
            <a:off x="2656440" y="-1926000"/>
            <a:ext cx="1785960" cy="20955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0" descr="E:\Анимашки\J0076171.GIF"/>
          <p:cNvPicPr/>
          <p:nvPr/>
        </p:nvPicPr>
        <p:blipFill>
          <a:blip r:embed="rId7"/>
          <a:stretch/>
        </p:blipFill>
        <p:spPr>
          <a:xfrm>
            <a:off x="10080720" y="636480"/>
            <a:ext cx="1130040" cy="766800"/>
          </a:xfrm>
          <a:prstGeom prst="rect">
            <a:avLst/>
          </a:prstGeom>
          <a:ln w="0">
            <a:noFill/>
          </a:ln>
        </p:spPr>
      </p:pic>
      <p:pic>
        <p:nvPicPr>
          <p:cNvPr id="1630" name="2.F.PAPETTI - SLEEPY SHORES.mp3" descr=""/>
          <p:cNvPicPr/>
          <p:nvPr/>
        </p:nvPicPr>
        <p:blipFill>
          <a:blip r:embed="rId8"/>
          <a:stretch/>
        </p:blipFill>
        <p:spPr>
          <a:xfrm>
            <a:off x="4888080" y="362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16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30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.00046 C 0.01025 0.02312 -0.00642 -0.01179 0.00973 0.0141 C 0.02014 0.03052 0.000869999999999999 0.01087 0.01632 0.02497 C 0.02587 0.04485 0.04358 0.04462 0.0573 0.05665 C 0.07813 0.07468 0.09584 0.09549 0.11962 0.10566 C 0.12518 0.11052 0.13004 0.11722 0.13594 0.12115 C 0.15799 0.13595 0.18369 0.14751 0.20816 0.1526 C 0.20764 0.16162 0.20816 0.17087 0.20643 0.17942 C 0.20452 0.18844 0.1948 0.20485 0.18837 0.21063 C 0.18316 0.2215 0.18612 0.2222 0.17691 0.22867 C 0.1724 0.23769 0.17119 0.2363 0.16389 0.23977 C 0.15782 0.25179 0.14705 0.25803 0.13768 0.26428 C 0.13091 0.26913 0.12327 0.27884 0.11632 0.28208 C 0.1125 0.28416 0.10816 0.28601 0.10487 0.28902 C 0.09879 0.29503 0.10174 0.29641 0.09497 0.30011 C 0.0908 0.30266 0.07744 0.30428 0.07535 0.30474 C 0.06546 0.30705 0.05556 0.31029 0.04584 0.31352 C 0.03455 0.32092 0.02205 0.32578 0.00973 0.32925 C -0.05156 0.36878 -0.11666 0.35075 -0.18541 0.35168 C -0.18819 0.35237 -0.19097 0.3526 -0.19357 0.35376 C -0.19583 0.35468 -0.19774 0.35722 -0.2 0.35815 C -0.21302 0.3637 -0.22604 0.36393 -0.23784 0.37387 C -0.23941 0.38081 -0.24114 0.38728 -0.2427 0.39399 C -0.24184 0.41526 -0.24253 0.43931 -0.23454 0.45896 C -0.225 0.48231 -0.20763 0.4985 -0.19027 0.51029 C -0.18506 0.51399 -0.17899 0.51399 -0.17378 0.51722 C -0.15208 0.5304 -0.12517 0.54566 -0.10173 0.55075 C -0.08836 0.55676 -0.07621 0.56694 -0.06232 0.57087 C -0.05694 0.57225 -0.046 0.57526 -0.046 0.57549 C -0.03472 0.5815 -0.02361 0.58821 -0.01163 0.59098 C -0.00434 0.59722 0.00382 0.59722 0.01146 0.60231 C 0.01997 0.60809 0.0283 0.6104 0.03768 0.61341 C 0.04809 0.61711 0.05799 0.62451 0.06875 0.62682 C 0.07639 0.62821 0.08403 0.62844 0.09167 0.62913 C 0.09445 0.62983 0.0974 0.62959 0.1 0.63121 C 0.10244 0.6326 0.10365 0.63792 0.10643 0.63815 C 0.12709 0.64069 0.14792 0.63954 0.16875 0.64023 C 0.1783 0.64902 0.19063 0.64925 0.20157 0.65364 C 0.20487 0.65526 0.20834 0.65618 0.21146 0.65826 C 0.21355 0.65965 0.21563 0.6615 0.21789 0.66243 C 0.22518 0.66589 0.23108 0.66566 0.23768 0.67144 C 0.23994 0.67329 0.24184 0.6763 0.2441 0.67838 C 0.24566 0.68 0.2474 0.68115 0.24914 0.68254 C 0.24862 0.69087 0.25313 0.70451 0.2474 0.70728 C 0.22622 0.71746 0.20244 0.70821 0.18021 0.71168 C 0.10678 0.73711 0.00487 0.7237 -0.05902 0.72532 C -0.07621 0.72948 -0.09253 0.73757 -0.10989 0.74104 C -0.11562 0.74358 -0.12066 0.74728 -0.12638 0.74983 C -0.13506 0.75884 -0.14305 0.76855 -0.146 0.78335 C -0.14722 0.78936 -0.1493 0.80139 -0.1493 0.80162 C -0.14652 0.82381 -0.14652 0.85965 -0.12638 0.86844 C -0.11336 0.88624 -0.12847 0.86774 -0.11649 0.87746 C -0.10902 0.88347 -0.10191 0.89503 -0.09357 0.89965 C -0.08576 0.90428 -0.07569 0.90589 -0.06736 0.90867 C -0.05572 0.91676 -0.04218 0.92023 -0.02951 0.92439 C -0.02552 0.92717 -0.02239 0.92971 -0.01805 0.9311 C -0.01267 0.93295 -0.00173 0.93549 -0.00173 0.93572 C 0.01528 0.94705 0.03577 0.95306 0.054 0.96023 C 0.07327 0.9674 0.04289 0.9563 0.06389 0.96694 C 0.07761 0.97387 0.09271 0.97156 0.10643 0.97803 C 0.10973 0.98474 0.11146 0.99168 0.11459 0.99838 C 0.11059 1.02081 0.10087 1.01826 0.08525 1.02058 C 0.07657 1.02358 0.06771 1.02474 0.05886 1.02751 C 0.04566 1.03144 0.0349 1.0363 0.02119 1.0363 E">
                                      <p:cBhvr>
                                        <p:cTn id="185" dur="5000" fill="hold"/>
                                        <p:tgtEl>
                                          <p:spTgt spid="1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13 0.00315 C -0.08498 -0.0082 -0.10214 -0.01744 -0.11835 -0.02143 C -0.16288 -0.04915 -0.2175 -0.02584 -0.26723 -0.02521 C -0.27494 -0.02206 -0.28249 -0.02059 -0.29005 -0.01765 C -0.29304 -0.0166 -0.29918 -0.01387 -0.29918 -0.01366 C -0.3083 -0.00547 -0.30705 -0.00315 -0.31885 -0.00063 C -0.3264 0.00399 -0.33396 0.00525 -0.34151 0.00882 C -0.34466 0.01029 -0.35033 0.01344 -0.35395 0.01449 C -0.35961 0.01617 -0.36103 0.01575 -0.36606 0.01827 C -0.37645 0.02394 -0.38652 0.03066 -0.39785 0.03339 C -0.40966 0.04305 -0.4309 0.04305 -0.44507 0.04662 C -0.45624 0.05377 -0.47056 0.05923 -0.483 0.06175 C -0.49339 0.07036 -0.49858 0.06805 -0.51337 0.06931 C -0.51998 0.07351 -0.52565 0.08002 -0.53336 0.08254 C -0.53525 0.08317 -0.53714 0.08359 -0.53918 0.08443 C -0.54217 0.08548 -0.54815 0.08821 -0.54815 0.08842 C -0.55665 0.08737 -0.56531 0.08905 -0.57255 0.08443 C -0.57743 0.08128 -0.58136 0.07624 -0.58624 0.07309 C -0.59584 0.06721 -0.60576 0.06238 -0.61504 0.05608 C -0.63141 0.04494 -0.61819 0.05104 -0.62873 0.04662 C -0.63078 0.04473 -0.63298 0.04326 -0.63487 0.04095 C -0.63676 0.03864 -0.63739 0.03507 -0.63928 0.03339 C -0.64211 0.03108 -0.64542 0.03087 -0.64856 0.02961 C -0.65014 0.02898 -0.65124 0.02688 -0.65313 0.02583 C -0.65895 0.02205 -0.66493 0.01911 -0.67123 0.01638 C -0.67658 0.01428 -0.67988 0.00714 -0.68492 0.00504 C -0.70317 -0.00252 -0.71718 -0.01744 -0.7367 -0.02143 C -0.7592 -0.03991 -0.78769 -0.04684 -0.81397 -0.04978 C -0.82121 -0.05272 -0.82782 -0.05419 -0.83537 -0.05545 C -0.89864 -0.05356 -0.88511 -0.05335 -0.92492 -0.04789 C -0.94129 -0.04117 -0.9309 -0.04432 -0.95687 -0.04222 C -0.96946 -0.03907 -0.98205 -0.03319 -0.9948 -0.03088 C -1.01322 -0.02752 -1.00487 -0.03067 -1.0192 -0.0271 C -1.02801 -0.02479 -1.03572 -0.01912 -1.04485 -0.01765 C -1.08042 -0.01219 -1.11693 -0.01387 -1.15265 -0.01387 E">
                                      <p:cBhvr>
                                        <p:cTn id="188" dur="5000" fill="hold"/>
                                        <p:tgtEl>
                                          <p:spTgt spid="1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777</dc:creator>
  <dc:description/>
  <dc:language>en-US</dc:language>
  <cp:lastModifiedBy>777</cp:lastModifiedBy>
  <dcterms:modified xsi:type="dcterms:W3CDTF">2015-03-01T17:40:41Z</dcterms:modified>
  <cp:revision>113</cp:revision>
  <dc:subject/>
  <dc:title>Слайд 1</dc:title>
</cp:coreProperties>
</file>