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3.gif" ContentType="image/gif"/>
  <Override PartName="/ppt/media/image3.png" ContentType="image/png"/>
  <Override PartName="/ppt/media/image25.png" ContentType="image/png"/>
  <Override PartName="/ppt/media/image4.jpeg" ContentType="image/jpeg"/>
  <Override PartName="/ppt/media/image2.png" ContentType="image/png"/>
  <Override PartName="/ppt/media/image2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A04-ABD3-430E-BCC4-55242116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8C0-968B-4D0F-B37D-DA7F98D0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FFC-E74B-4450-B947-C1C9008B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496-6B5B-4345-9A4B-39DD5D9C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8D6C-DCFD-4792-9A5F-65FB51D6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92CB-1E22-4A71-8F4E-02F4FF4E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DCEE-2C0D-4902-927D-B034BDB1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2DB-6FF5-4EC9-BBB2-2081F79B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8374-2ECC-41DE-8CB4-8BC63E1C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0B9E-D57E-4F0E-BFB3-74197BD7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9431-7FD8-4E6B-8A1A-2D31239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C26-BD35-4F5B-AF71-D2553E23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0AAE-96E5-43AA-9E5B-32D78355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9B7-27BD-4BE2-878B-F35CB62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2A77-26B1-4ED2-9B0A-CB514550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72CE-BC9F-498E-916B-408215A8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463B-06E1-4136-B90A-75B357A7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51CF-5008-4390-827A-DA5D1438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0807-5C9C-44A0-9A6E-C42939DB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9D4E-884B-4227-AEDB-7DDF561A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A252D-5CA3-4B01-884F-4B261114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ED921-0948-4270-9477-56104249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1DA-7E9E-480F-A953-FF06202C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A184-1D0D-4DF4-AD64-D5203BB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E870-B7F0-4B50-BF3D-FECDA8A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100BB-CBD5-41E4-8395-69EBBF9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2DFA-CB8A-4D18-B1F5-604A0CD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4A51-BD0E-4100-8138-A7448118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5036-D84E-465D-BF1B-2A8271D8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179D-B4DD-47C1-9431-FC2FADED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8263-4CB6-4467-96E2-6906118D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913CF-B75A-4789-839E-BBF4085B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8DD3-85AA-4765-8C30-B7180B7F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78F-41AC-432E-AB2C-98570230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E4DE-F050-4D14-99F6-E1FCA29E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F61B-C6B3-4B23-A8F1-20BAAA8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9036-A8D1-4C1B-9AA6-2B7DD69D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58BE-91C0-4E83-93FF-26D0B649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F1AEF-25D2-47BD-86A5-5EB54608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3FA8-B370-4DE5-BD3A-B8FB600C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A845A-01A6-466A-92DA-EEE87E1E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E4159-DEE6-48B5-92C2-4AA8F5A4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3735-84C1-4CBD-ACFB-95EE0334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4A2-7F5B-4B86-B6B8-0A4F1FDB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159-2134-45B5-919E-1EF21AC5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511-76E1-44A4-B1C7-056D00F6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37A-EF5E-49B4-9480-DBCB568F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9B5-9547-497A-A1F5-3531A502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692-BAF0-4140-8117-ED0D13F0438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4831-693B-4AF0-A3DB-071766C4263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91C7-BBE1-4667-85A0-AB19517ABDB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5DEE-495D-4307-981B-D6F95E6EC92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2.nnm.ru/2/d/5/f/5/2d5f548bf057a34442ef536674ee2ab3_full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ms.24open.ru/images/b14f73fa4a31117c6494a44efb762c47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4920" y="836640"/>
            <a:ext cx="828036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i-main-pic" descr="Картинка 53 из 46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907920"/>
            <a:ext cx="734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ыводы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ходе своей работы я выяснил, что 5 человек из 26 делают зарядку регуляр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тренняя зарядка помогает снабдить организм энергией и повысить настро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ходе своих наблюдений я убедился, что зарядка действительно помогает и улучшает эмоционально-физическое состояние люд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3" descr=""/>
          <p:cNvPicPr/>
          <p:nvPr/>
        </p:nvPicPr>
        <p:blipFill>
          <a:blip r:embed="rId1"/>
          <a:stretch/>
        </p:blipFill>
        <p:spPr>
          <a:xfrm>
            <a:off x="450720" y="2054160"/>
            <a:ext cx="83217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50720" y="2200320"/>
            <a:ext cx="8321760" cy="1378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788000" y="4941720"/>
            <a:ext cx="4032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ыполнял: Решанов Константин     ученик 1 «Г» класс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уководитель: Решанова Т.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0" y="476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 образовательное учреждение  «Основная общеобразовательная школа  №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C:\Users\наталья\Desktop\фото выпуск\1сентября 036.JPG"/>
          <p:cNvPicPr/>
          <p:nvPr/>
        </p:nvPicPr>
        <p:blipFill>
          <a:blip r:embed="rId1"/>
          <a:stretch/>
        </p:blipFill>
        <p:spPr>
          <a:xfrm>
            <a:off x="1116000" y="907920"/>
            <a:ext cx="7128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Users\дима\Pictures\2011-03-06 6.04.2011\6.04.2011 063.JPG"/>
          <p:cNvPicPr/>
          <p:nvPr/>
        </p:nvPicPr>
        <p:blipFill>
          <a:blip r:embed="rId1"/>
          <a:stretch/>
        </p:blipFill>
        <p:spPr>
          <a:xfrm>
            <a:off x="1042920" y="981000"/>
            <a:ext cx="6953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" descr="C:\Users\наталья\Desktop\Новая папка\мои фото\2010-10-08\054 - копия.JPG"/>
          <p:cNvPicPr/>
          <p:nvPr/>
        </p:nvPicPr>
        <p:blipFill>
          <a:blip r:embed="rId1"/>
          <a:stretch/>
        </p:blipFill>
        <p:spPr>
          <a:xfrm>
            <a:off x="1835280" y="117792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C:\Users\наталья\Desktop\Новая папка\мои фото\2010-10-08\044.JPG"/>
          <p:cNvPicPr/>
          <p:nvPr/>
        </p:nvPicPr>
        <p:blipFill>
          <a:blip r:embed="rId2"/>
          <a:stretch/>
        </p:blipFill>
        <p:spPr>
          <a:xfrm>
            <a:off x="1116000" y="620640"/>
            <a:ext cx="6696000" cy="5023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Users\наталья\Desktop\Новая папка\мои фото\2011-02-19\030 - копия.JPG"/>
          <p:cNvPicPr/>
          <p:nvPr/>
        </p:nvPicPr>
        <p:blipFill>
          <a:blip r:embed="rId3"/>
          <a:stretch/>
        </p:blipFill>
        <p:spPr>
          <a:xfrm>
            <a:off x="684360" y="1413000"/>
            <a:ext cx="6414840" cy="4760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C:\Users\наталья\Desktop\Новая папка\мои фото\2012-05-12 001\IMG_1850 - копия.JPG"/>
          <p:cNvPicPr/>
          <p:nvPr/>
        </p:nvPicPr>
        <p:blipFill>
          <a:blip r:embed="rId4"/>
          <a:stretch/>
        </p:blipFill>
        <p:spPr>
          <a:xfrm>
            <a:off x="1403280" y="0"/>
            <a:ext cx="5113440" cy="681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чем нужна ежедневная утренняя  зарядк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i-main-pic" descr="Картинка 795 из 46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133720"/>
            <a:ext cx="4680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Диаграмма 6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Диаграмма 3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799308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539640" y="1341360"/>
          <a:ext cx="7704360" cy="4337280"/>
        </p:xfrm>
        <a:graphic>
          <a:graphicData uri="http://schemas.openxmlformats.org/drawingml/2006/table">
            <a:tbl>
              <a:tblPr/>
              <a:tblGrid>
                <a:gridCol w="1925640"/>
                <a:gridCol w="1927440"/>
                <a:gridCol w="1925640"/>
                <a:gridCol w="1925640"/>
              </a:tblGrid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гуляр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регуляр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 дел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ктивность на урок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моциональное состоя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зическое 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Диаграмма 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75280" cy="55436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girl-exercise1[1].gif"/>
          <p:cNvPicPr/>
          <p:nvPr/>
        </p:nvPicPr>
        <p:blipFill>
          <a:blip r:embed="rId2"/>
          <a:stretch/>
        </p:blipFill>
        <p:spPr>
          <a:xfrm>
            <a:off x="755640" y="1557360"/>
            <a:ext cx="2050920" cy="20876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girl-exercise3[1].gif"/>
          <p:cNvPicPr/>
          <p:nvPr/>
        </p:nvPicPr>
        <p:blipFill>
          <a:blip r:embed="rId3"/>
          <a:stretch/>
        </p:blipFill>
        <p:spPr>
          <a:xfrm>
            <a:off x="3492360" y="1484280"/>
            <a:ext cx="2016360" cy="20527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5" descr="girl-exercise2[1].gif"/>
          <p:cNvPicPr/>
          <p:nvPr/>
        </p:nvPicPr>
        <p:blipFill>
          <a:blip r:embed="rId4"/>
          <a:stretch/>
        </p:blipFill>
        <p:spPr>
          <a:xfrm>
            <a:off x="6300720" y="1413000"/>
            <a:ext cx="2152800" cy="19447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6" descr="girl-exercise4[1].gif"/>
          <p:cNvPicPr/>
          <p:nvPr/>
        </p:nvPicPr>
        <p:blipFill>
          <a:blip r:embed="rId5"/>
          <a:stretch/>
        </p:blipFill>
        <p:spPr>
          <a:xfrm>
            <a:off x="611280" y="4221000"/>
            <a:ext cx="1981080" cy="20163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0" descr="girl-exercise7[1].gif"/>
          <p:cNvPicPr/>
          <p:nvPr/>
        </p:nvPicPr>
        <p:blipFill>
          <a:blip r:embed="rId6"/>
          <a:stretch/>
        </p:blipFill>
        <p:spPr>
          <a:xfrm>
            <a:off x="3564000" y="429264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1" descr="girl-exercise6[1].gif"/>
          <p:cNvPicPr/>
          <p:nvPr/>
        </p:nvPicPr>
        <p:blipFill>
          <a:blip r:embed="rId7"/>
          <a:stretch/>
        </p:blipFill>
        <p:spPr>
          <a:xfrm>
            <a:off x="6516720" y="4292640"/>
            <a:ext cx="2050920" cy="208908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2" descr=""/>
          <p:cNvPicPr/>
          <p:nvPr/>
        </p:nvPicPr>
        <p:blipFill>
          <a:blip r:embed="rId8"/>
          <a:stretch/>
        </p:blipFill>
        <p:spPr>
          <a:xfrm>
            <a:off x="450720" y="573120"/>
            <a:ext cx="83217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6:48:14Z</dcterms:created>
  <dc:creator>дима</dc:creator>
  <dc:description/>
  <dc:language>en-US</dc:language>
  <cp:lastModifiedBy>дима</cp:lastModifiedBy>
  <dcterms:modified xsi:type="dcterms:W3CDTF">2015-03-01T13:20:40Z</dcterms:modified>
  <cp:revision>48</cp:revision>
  <dc:subject/>
  <dc:title>Если хочешь быть здоров….</dc:title>
</cp:coreProperties>
</file>