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CAB7-8DF4-4631-832F-659DB6C5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D7DB-AD53-4FA9-816A-EC917117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7EC-4FE8-4A27-BC57-C9C33DBA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A118-DB90-4EDD-8641-B20AD268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5BA4-7B02-4C85-B7CC-9A246831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FA51-BF8D-4BDD-BEF8-EA4C2962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E881-23DB-4242-8A32-39703181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EBA6-8F3D-44BC-AFB4-DF182E25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CF81-7093-4D7F-8F05-4CF8D431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0086-E776-4F34-826D-F6FA4C22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5C6A-3C22-42BD-93FE-E62C7E85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C0D9-5B15-4A84-8CA3-D918AC8B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56F9-8D8E-4C1C-9A5F-6DF044A3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5FDA-2800-4F8D-8C0C-8B52F4DC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2AFF-5DD8-4898-A4C6-F44B764B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7DAF-5D84-4D87-9401-CD5755CC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D87C-CB9B-4413-B7AC-10DC19D5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064A-E98B-4286-8B17-3715A821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8A29-A58C-4ECF-95D8-4611BAEE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70A6-8383-408C-9E97-1A9E47A4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4C53-E16B-492F-9065-CAA5DE32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42E8-7457-47CD-882D-78034839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3D66-07EC-4432-AE11-0F64B5E2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B4D1-FB59-4C4A-A20C-D1D38D28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AE46-698F-4BF3-813C-B7A8D01688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5F07-52F7-461B-A916-761A76646F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21680" y="3841560"/>
            <a:ext cx="778572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Форматирование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текст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меры представления текста с помощ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шрифта различных размер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7620120" cy="16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Дополнительные параметры форматирования символов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7724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Форматирование абзаце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од конца абзаца обеспечивается нажатием клавиши {Enter} и отображается символом ¶, если включен режим отображения непечатаемых симво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4" descr="распорядок дня.jpg"/>
          <p:cNvPicPr/>
          <p:nvPr/>
        </p:nvPicPr>
        <p:blipFill>
          <a:blip r:embed="rId1"/>
          <a:stretch/>
        </p:blipFill>
        <p:spPr>
          <a:xfrm>
            <a:off x="6935760" y="4329000"/>
            <a:ext cx="220824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равнивание абзацев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7200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тступы первой строк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5438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тступы абзац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720108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главление: заголовки и уровн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56288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читать § 15 (стр. 82-8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выучить записи в тетрадя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устно ответить на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4" descr="распорядок дня.jpg"/>
          <p:cNvPicPr/>
          <p:nvPr/>
        </p:nvPicPr>
        <p:blipFill>
          <a:blip r:embed="rId1"/>
          <a:stretch/>
        </p:blipFill>
        <p:spPr>
          <a:xfrm>
            <a:off x="6935760" y="4329000"/>
            <a:ext cx="220824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62120" y="1676520"/>
            <a:ext cx="8001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Цели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бразовательн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формировать у учащихся навыки форматирования текста (форматирование символов, форматирование абзацев, стили форматирования, оглавление докумен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азвивающ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азвитие внимания, памяти, речи, логического мышления, самосто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оспитательн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воспитание дисциплины, аккуратности, чувства ответственности, уверенности в се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Требования к знаниям и умениям учащихся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щиеся должны знать основные навыки форматирования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щиеся должны уметь форматировать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План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организационный  момент (2 мин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изучение нового материала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ин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первичное закрепление изученного материала (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ин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подведение итога урока (2 мин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домашнее задание (1 мин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Изучаемые вопросы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форматирование симво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форматирование абзац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стили форматир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оглавление доку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орматирование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чатного текста понимается расположение строк (длина строки, межстрочное расстояние, выравнивание текста по краю или по середине строки); размеры полей, стран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33"/>
                </a:solidFill>
                <a:latin typeface="Times New Roman"/>
              </a:rPr>
              <a:t>Форматирование символов.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753200"/>
            <a:ext cx="80773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Шрифт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рифт - это полный набор символов (букв, цифр, знаков пунктуации, математических знаков, а также специальных символов) определенного рисунка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 способу представления в компьютере различаются шриф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стр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кто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4" descr="распорядок дня.jpg"/>
          <p:cNvPicPr/>
          <p:nvPr/>
        </p:nvPicPr>
        <p:blipFill>
          <a:blip r:embed="rId1"/>
          <a:stretch/>
        </p:blipFill>
        <p:spPr>
          <a:xfrm>
            <a:off x="6935760" y="4329000"/>
            <a:ext cx="220824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4" descr="распорядок дня.jpg"/>
          <p:cNvPicPr/>
          <p:nvPr/>
        </p:nvPicPr>
        <p:blipFill>
          <a:blip r:embed="rId1"/>
          <a:stretch/>
        </p:blipFill>
        <p:spPr>
          <a:xfrm>
            <a:off x="6935760" y="4329000"/>
            <a:ext cx="2208240" cy="2529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3200400"/>
            <a:ext cx="7162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33"/>
                </a:solidFill>
                <a:latin typeface="Times New Roman"/>
              </a:rPr>
              <a:t>Форматирование символов.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личают шриф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с засечк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например, Times New Roman), которые используются в печатных текст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убле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например, Arial), использующиеся обычно для заголовков, выделений в тексте и подписей к рисун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имеры шрифтов различных тип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7914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23T18:28:1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