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7A7-50FA-4A82-A80C-DBB166A6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F63-F445-4F5B-94C8-C878D979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7AB-9A89-4D92-8DDA-AE0B1618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236-F26D-427E-BB7B-69883C79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FA01-8A3C-4C48-8985-1B59C409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E7FA-67FA-40DF-993E-071512D8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590C-7FBB-46B6-9B79-F2A00B5A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8873-F4C2-4AF2-AB67-33E55DE3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007F-8872-4D9E-9EA3-713563C8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708B-0518-4D89-AAD0-056D03C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3306-0C9F-47F3-B478-A494360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DCE-5E24-4B6A-B60C-DC2D5282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8027-393B-4391-B61D-158D2BF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7195-BC4D-4421-855C-A08F9DE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92F6-3880-49F0-B9CA-3D62FE0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EC3F-4296-487B-A9F2-286BBFD8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0AC6-8EE4-4C4D-A9AC-0B685771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8996-D866-4D5E-98E2-1B25585E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ED57-3B45-478B-B231-278C414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F555-FD8A-4D8D-A8F2-E59646D8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7891-3E30-448E-B769-EF697082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C9BC-5EAD-4BB8-AAEA-E3FEFB8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329-49D0-4CAE-97B8-7DA57E9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B532-058A-49EA-AEC0-CFDBBC6C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9281-0C27-4B28-B193-3F3AE794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75810-B6F9-4A8A-9865-B2B58B1A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854C-4F89-45EE-83B6-59CD0A1A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7128-7BBF-4618-92A6-FE4066C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FFD4-85F7-4511-ACF2-523AB002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5C94-7BD2-4D84-BDC4-9CA53AFA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8C8A-D0CF-4015-8289-9B5F9B37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4257-0306-4AA9-9183-940A9AF8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D3B33-D9BF-4DC0-80ED-1C096E41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6A7-2C5C-4DD3-81F6-48CE847B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D788-5EED-4242-BF84-15814092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C1E1B-52F5-45BB-A690-A32183BB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3178-B7EB-417C-937B-F85925A4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9A5D-6954-4824-A1D0-EC866965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9B4E-AC37-44A7-8033-66B7B69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7F08-FEB8-4630-A7C2-A8E4A5E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9863-DCF2-48EB-881E-D54249AC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6764-8677-40B5-892C-69C3E3F5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6BEB-E75E-4D20-9748-B07397C8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B8E-46B4-4BD2-8CF6-74C72D0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798-3C45-45EE-BB5B-8585536D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71E-7D83-4FCC-8484-A8CF2150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DE7-35CD-4EFE-A7C5-8B6E679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529-6529-42D1-8752-EC002255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F8EF-A695-4CB8-A639-C043D8E40D9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E606-EA07-4546-AA19-C0DCF7C20A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670E-899F-4E5F-8623-81A9B859A2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9199-831B-47D6-B03A-F54121914D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-19080" y="-316080"/>
            <a:ext cx="9144000" cy="72532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4"/>
          <p:cNvSpPr/>
          <p:nvPr/>
        </p:nvSpPr>
        <p:spPr>
          <a:xfrm>
            <a:off x="2843280" y="836640"/>
            <a:ext cx="345744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 какой фотографии боксера бьет Кличко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C:\Users\Оксана\Documents\553245556.jpg"/>
          <p:cNvPicPr/>
          <p:nvPr/>
        </p:nvPicPr>
        <p:blipFill>
          <a:blip r:embed="rId1"/>
          <a:srcRect l="5847" t="0" r="55958" b="0"/>
          <a:stretch/>
        </p:blipFill>
        <p:spPr>
          <a:xfrm>
            <a:off x="1504800" y="2354400"/>
            <a:ext cx="2575080" cy="37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Оксана\Documents\destfoto_54.jpg"/>
          <p:cNvPicPr/>
          <p:nvPr/>
        </p:nvPicPr>
        <p:blipFill>
          <a:blip r:embed="rId2"/>
          <a:srcRect l="0" t="7988" r="53029" b="11576"/>
          <a:stretch/>
        </p:blipFill>
        <p:spPr>
          <a:xfrm>
            <a:off x="5229360" y="2354400"/>
            <a:ext cx="2658960" cy="3784320"/>
          </a:xfrm>
          <a:prstGeom prst="rect">
            <a:avLst/>
          </a:prstGeom>
          <a:ln w="0">
            <a:noFill/>
          </a:ln>
        </p:spPr>
      </p:pic>
      <p:sp>
        <p:nvSpPr>
          <p:cNvPr id="211" name="Заголовок 1"/>
          <p:cNvSpPr/>
          <p:nvPr/>
        </p:nvSpPr>
        <p:spPr>
          <a:xfrm>
            <a:off x="919080" y="2276640"/>
            <a:ext cx="585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4541760" y="2368440"/>
            <a:ext cx="587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Users\Оксана\Documents\553245556.jpg"/>
          <p:cNvPicPr/>
          <p:nvPr/>
        </p:nvPicPr>
        <p:blipFill>
          <a:blip r:embed="rId1"/>
          <a:srcRect l="6425" t="0" r="10259" b="0"/>
          <a:stretch/>
        </p:blipFill>
        <p:spPr>
          <a:xfrm>
            <a:off x="77760" y="1836720"/>
            <a:ext cx="4381560" cy="29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Оксана\Documents\destfoto_54.jpg"/>
          <p:cNvPicPr/>
          <p:nvPr/>
        </p:nvPicPr>
        <p:blipFill>
          <a:blip r:embed="rId2"/>
          <a:srcRect l="0" t="1752" r="4492" b="17911"/>
          <a:stretch/>
        </p:blipFill>
        <p:spPr>
          <a:xfrm>
            <a:off x="4788000" y="1862280"/>
            <a:ext cx="4346640" cy="3039840"/>
          </a:xfrm>
          <a:prstGeom prst="rect">
            <a:avLst/>
          </a:prstGeom>
          <a:ln w="0">
            <a:noFill/>
          </a:ln>
        </p:spPr>
      </p:pic>
      <p:sp>
        <p:nvSpPr>
          <p:cNvPr id="215" name="Умножение 6"/>
          <p:cNvSpPr/>
          <p:nvPr/>
        </p:nvSpPr>
        <p:spPr>
          <a:xfrm>
            <a:off x="6084720" y="2349360"/>
            <a:ext cx="2232360" cy="3167280"/>
          </a:xfrm>
          <a:custGeom>
            <a:avLst/>
            <a:gdLst/>
            <a:ahLst/>
            <a:rect l="l" t="t" r="r" b="b"/>
            <a:pathLst>
              <a:path w="2232025" h="3167063">
                <a:moveTo>
                  <a:pt x="321521" y="911860"/>
                </a:moveTo>
                <a:lnTo>
                  <a:pt x="750633" y="609439"/>
                </a:lnTo>
                <a:lnTo>
                  <a:pt x="1116013" y="1127883"/>
                </a:lnTo>
                <a:lnTo>
                  <a:pt x="1481392" y="609439"/>
                </a:lnTo>
                <a:lnTo>
                  <a:pt x="1910504" y="911860"/>
                </a:lnTo>
                <a:lnTo>
                  <a:pt x="1437136" y="1583532"/>
                </a:lnTo>
                <a:lnTo>
                  <a:pt x="1910504" y="2255203"/>
                </a:lnTo>
                <a:lnTo>
                  <a:pt x="1481392" y="2557624"/>
                </a:lnTo>
                <a:lnTo>
                  <a:pt x="1116013" y="2039180"/>
                </a:lnTo>
                <a:lnTo>
                  <a:pt x="750633" y="2557624"/>
                </a:lnTo>
                <a:lnTo>
                  <a:pt x="321521" y="2255203"/>
                </a:lnTo>
                <a:lnTo>
                  <a:pt x="794889" y="1583532"/>
                </a:lnTo>
                <a:lnTo>
                  <a:pt x="321521" y="91186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052280"/>
            <a:ext cx="586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6402240" y="981000"/>
            <a:ext cx="586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"/>
          <p:cNvSpPr/>
          <p:nvPr/>
        </p:nvSpPr>
        <p:spPr>
          <a:xfrm>
            <a:off x="0" y="18900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 какой фотографии девушка с цвета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rcRect l="69257" t="10249" r="5626" b="0"/>
          <a:stretch/>
        </p:blipFill>
        <p:spPr>
          <a:xfrm>
            <a:off x="4859280" y="2346480"/>
            <a:ext cx="2032200" cy="445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2"/>
          <a:srcRect l="46698" t="0" r="0" b="20877"/>
          <a:stretch/>
        </p:blipFill>
        <p:spPr>
          <a:xfrm>
            <a:off x="1752480" y="2276640"/>
            <a:ext cx="1871640" cy="453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2276280"/>
            <a:ext cx="5875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4211640" y="2368440"/>
            <a:ext cx="587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rcRect l="22709" t="-2250" r="6123" b="-369"/>
          <a:stretch/>
        </p:blipFill>
        <p:spPr>
          <a:xfrm>
            <a:off x="4067280" y="1662120"/>
            <a:ext cx="4889520" cy="433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2"/>
          <a:srcRect l="575" t="-727" r="0" b="27012"/>
          <a:stretch/>
        </p:blipFill>
        <p:spPr>
          <a:xfrm>
            <a:off x="179280" y="1770120"/>
            <a:ext cx="3492720" cy="4222800"/>
          </a:xfrm>
          <a:prstGeom prst="rect">
            <a:avLst/>
          </a:prstGeom>
          <a:ln w="0">
            <a:noFill/>
          </a:ln>
        </p:spPr>
      </p:pic>
      <p:sp>
        <p:nvSpPr>
          <p:cNvPr id="225" name="Умножение 7"/>
          <p:cNvSpPr/>
          <p:nvPr/>
        </p:nvSpPr>
        <p:spPr>
          <a:xfrm>
            <a:off x="4427640" y="2924280"/>
            <a:ext cx="3097080" cy="3673440"/>
          </a:xfrm>
          <a:custGeom>
            <a:avLst/>
            <a:gdLst/>
            <a:ahLst/>
            <a:rect l="l" t="t" r="r" b="b"/>
            <a:pathLst>
              <a:path w="3097212" h="3673475">
                <a:moveTo>
                  <a:pt x="465408" y="1117058"/>
                </a:moveTo>
                <a:lnTo>
                  <a:pt x="1022338" y="647495"/>
                </a:lnTo>
                <a:lnTo>
                  <a:pt x="1548606" y="1271680"/>
                </a:lnTo>
                <a:lnTo>
                  <a:pt x="2074874" y="647495"/>
                </a:lnTo>
                <a:lnTo>
                  <a:pt x="2631804" y="1117058"/>
                </a:lnTo>
                <a:lnTo>
                  <a:pt x="2025022" y="1836738"/>
                </a:lnTo>
                <a:lnTo>
                  <a:pt x="2631804" y="2556417"/>
                </a:lnTo>
                <a:lnTo>
                  <a:pt x="2074874" y="3025980"/>
                </a:lnTo>
                <a:lnTo>
                  <a:pt x="1548606" y="2401795"/>
                </a:lnTo>
                <a:lnTo>
                  <a:pt x="1022338" y="3025980"/>
                </a:lnTo>
                <a:lnTo>
                  <a:pt x="465408" y="2556417"/>
                </a:lnTo>
                <a:lnTo>
                  <a:pt x="1072190" y="1836738"/>
                </a:lnTo>
                <a:lnTo>
                  <a:pt x="465408" y="111705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53960" y="850680"/>
            <a:ext cx="5860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6219720" y="934920"/>
            <a:ext cx="5857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5"/>
          <p:cNvSpPr/>
          <p:nvPr/>
        </p:nvSpPr>
        <p:spPr>
          <a:xfrm>
            <a:off x="1332000" y="18900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оманда в 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96840" y="2604960"/>
            <a:ext cx="11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197080" y="27255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213080" y="27255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19920" y="2619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247760" y="98892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omic Sans MS"/>
              </a:rPr>
              <a:t>С каким весом родились девуш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830920" y="6173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г 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213080" y="61545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г 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2268360" y="6188040"/>
            <a:ext cx="14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   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608400" y="6154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 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"/>
          <p:cNvSpPr/>
          <p:nvPr/>
        </p:nvSpPr>
        <p:spPr>
          <a:xfrm>
            <a:off x="1332000" y="7128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оманда в 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8000" y="26589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784520" y="2664000"/>
            <a:ext cx="12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789360" y="26575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796000" y="26589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11280" y="785880"/>
            <a:ext cx="789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omic Sans MS"/>
              </a:rPr>
              <a:t>С каким ростом родились пар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780160" y="594036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4052880" y="599112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116080" y="595296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5938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9:14:17Z</dcterms:created>
  <dc:creator>Демьяненко И.Н.</dc:creator>
  <dc:description/>
  <dc:language>en-US</dc:language>
  <cp:lastModifiedBy>Оксана</cp:lastModifiedBy>
  <dcterms:modified xsi:type="dcterms:W3CDTF">2015-01-28T16:53:26Z</dcterms:modified>
  <cp:revision>125</cp:revision>
  <dc:subject/>
  <dc:title>Слайд 1</dc:title>
</cp:coreProperties>
</file>