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chimes.wav" ContentType="audio/x-wav"/>
  <Override PartName="/ppt/media/image4.gif" ContentType="image/gif"/>
  <Override PartName="/ppt/media/image6.wmf" ContentType="image/x-wmf"/>
  <Override PartName="/ppt/media/image7.png" ContentType="image/png"/>
  <Override PartName="/ppt/media/image8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29A-4CF5-438B-8133-A78F65CE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DBD-6EB8-4CCC-9FA6-6212F98D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876-79F5-45B2-AA88-CDE7ADC1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976-9DE9-4E24-9C4C-67D864FF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3FF7-FF41-48BC-91FF-9B15C2D1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92B1-46E0-4BC9-BF4B-8046B6B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459E-35AC-4E99-B642-375CE697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6FB4-1A1C-48FC-84BE-0A93D439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0F8C-C7E8-49B5-B725-8A3E700B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B975-4FC8-4C96-A012-F7496308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9F75-1902-4BCE-BE58-B3BDB37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FAF-DAF0-42EB-805A-6193977E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D015-750B-4C64-A4BB-137C36B6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D24E-1C37-445F-8C86-2A8C660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309E-7FC8-4348-AC05-C7997212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F22E-DA19-4B4B-BE2A-A635AA59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3AF0-63CE-4646-8156-FB81985F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D1F8-E161-4CAA-9B26-C63C81A9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49AE-332A-4417-9C35-911C9690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8F94-FFC5-4E63-B976-A366590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074A-8AF5-45E1-85B1-DF91C904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1725-E2D6-4AA8-8E79-133F594D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357-3774-40DB-9FC1-67487B77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C8DC-C462-44D2-9374-4919E0B4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F0ED-2156-43C3-B486-2C075088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3673-F916-4324-A10A-2710D46E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391B4-62E9-4362-B03E-6B95ACB5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B7E6-5067-4C6D-AF78-F24F8D81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9ADD-4626-439F-8A79-15AE8C69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CEAE-0736-44E1-9C7D-CB2C7CDE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F4D54-473F-418F-BBAA-B4CFBDB1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F5A17-1C2B-4721-8152-EF39E64E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C4D8-7DD8-444F-8089-B6235835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AED-5E4D-44AE-B158-5A5D70D6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38DEE-045D-45EC-B9F4-7C6E710F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F484A-EFC8-43AA-99B7-E41EAA71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EE5E-C1D6-4F10-9BEF-59478D8F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361C-1570-4E50-82D0-88C69126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112C4-38EF-4C8B-92CF-05360A9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980D-1843-481C-973B-7EFB2C09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D385-2F38-43C5-A23D-72151480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20380-D018-47A3-BAE3-ADE0DAB6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EA09-BC4C-49EE-A47A-F6DB112B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C03FB-55C6-47CD-8628-2F27ECAE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F1B-73FE-4307-9938-1B2C826F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5B9D-ECCE-49A1-B28A-B2B77BB3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8586-B14B-4FE6-A7FA-DA8EA9DF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9B148-05F6-49A2-A903-8ED77D4C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370A8-1E86-4C68-9D19-573A2AB8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483B2-8E84-4020-B00E-BC102E6C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2B38-8A3B-4915-A205-8946C3DB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5A008-C275-46E3-A707-5D9E758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2FAA6-69ED-4F4F-9BAB-C84B270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5D8B-890D-4B1B-99CF-5F02FF4C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4B4E-F7AC-4817-8338-93A9091C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154-A290-401D-9361-1D993E0A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4A8E2-ECA6-47B0-B022-DA6B0A71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EAC-3CED-495B-B330-0613EF3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A29-7A27-43ED-BC2C-FDDCFAE5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E62-84F8-4F48-8AA1-32856D55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C9E0-6476-4D5D-A22A-D69E3150706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8DDA-48EC-499D-BBB4-19D5152BEEC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9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E3D9-74D4-4017-9129-FB7D21E8A77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5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01B7-2580-42F6-8AF2-411418E7C9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9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9EB9-C196-468D-99EE-364045A1035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eaeaea"/>
                </a:solidFill>
                <a:uFillTx/>
                <a:latin typeface="Verdana"/>
              </a:rPr>
              <a:t>Автор: Шмыкова Алин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300" spc="-1" strike="noStrike">
                <a:solidFill>
                  <a:srgbClr val="ffffcc"/>
                </a:solidFill>
                <a:latin typeface="Arial"/>
              </a:rPr>
              <a:t>Графы  </a:t>
            </a:r>
            <a:endParaRPr b="0" lang="en-US" sz="9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8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Графы – замечательные математические объекты, с их помощью можно решать очень много различных, внешне не похожих друг на друга задач. В математике существует целый раздел – теория графов, который изучает графы, их свойства и применение. Мы же обсудим только самые основные понятия, свойства графов и некоторые способы решения задач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506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Графы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– это схемы, состоящие из точек и соединяющих их дуг или стрелок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Вершины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– это точки граф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Рёбра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– это дуги граф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54017"/>
          <p:cNvPicPr/>
          <p:nvPr/>
        </p:nvPicPr>
        <p:blipFill>
          <a:blip r:embed="rId1"/>
          <a:stretch/>
        </p:blipFill>
        <p:spPr>
          <a:xfrm>
            <a:off x="838080" y="304920"/>
            <a:ext cx="1105200" cy="1057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54017"/>
          <p:cNvPicPr/>
          <p:nvPr/>
        </p:nvPicPr>
        <p:blipFill>
          <a:blip r:embed="rId2"/>
          <a:stretch/>
        </p:blipFill>
        <p:spPr>
          <a:xfrm>
            <a:off x="7238880" y="457200"/>
            <a:ext cx="110520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раф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2590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ершин: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ёбер: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781680" y="1218960"/>
            <a:ext cx="236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Вершина граф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Ребро граф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0" name="Picture 6" descr="131px-Sample_graph"/>
          <p:cNvPicPr/>
          <p:nvPr/>
        </p:nvPicPr>
        <p:blipFill>
          <a:blip r:embed="rId1"/>
          <a:stretch/>
        </p:blipFill>
        <p:spPr>
          <a:xfrm>
            <a:off x="2971800" y="1066680"/>
            <a:ext cx="2438280" cy="563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1" name="Line 8"/>
          <p:cNvSpPr/>
          <p:nvPr/>
        </p:nvSpPr>
        <p:spPr>
          <a:xfrm>
            <a:off x="4572000" y="1905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4800600" y="1371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2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ловие: В спортивном зале собрались ребята. Кто  с кем знаком. (если ребро графа означает « мы знакомы»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190760" y="1676520"/>
            <a:ext cx="236196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– Вит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– Саш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 – Пет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 –  Миш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 – Кол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Line 5"/>
          <p:cNvSpPr/>
          <p:nvPr/>
        </p:nvSpPr>
        <p:spPr>
          <a:xfrm flipH="1" flipV="1">
            <a:off x="837720" y="2819160"/>
            <a:ext cx="2210040" cy="3352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838080" y="2819520"/>
            <a:ext cx="2667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 flipH="1">
            <a:off x="2209320" y="2819520"/>
            <a:ext cx="1295640" cy="2590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2209680" y="5410080"/>
            <a:ext cx="2133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 flipV="1">
            <a:off x="3048120" y="5409720"/>
            <a:ext cx="129528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3429000" y="2362320"/>
            <a:ext cx="533520" cy="533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5"/>
          <p:cNvSpPr/>
          <p:nvPr/>
        </p:nvSpPr>
        <p:spPr>
          <a:xfrm>
            <a:off x="457200" y="2286000"/>
            <a:ext cx="533520" cy="5335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6"/>
          <p:cNvSpPr/>
          <p:nvPr/>
        </p:nvSpPr>
        <p:spPr>
          <a:xfrm>
            <a:off x="1676520" y="5257800"/>
            <a:ext cx="533160" cy="5335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7"/>
          <p:cNvSpPr/>
          <p:nvPr/>
        </p:nvSpPr>
        <p:spPr>
          <a:xfrm>
            <a:off x="4343400" y="5029200"/>
            <a:ext cx="533520" cy="5335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8"/>
          <p:cNvSpPr/>
          <p:nvPr/>
        </p:nvSpPr>
        <p:spPr>
          <a:xfrm>
            <a:off x="2819520" y="6172200"/>
            <a:ext cx="38088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5486400" y="4114800"/>
            <a:ext cx="3352680" cy="2514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тя +Саша +К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ша + Витя + Пе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тя + Саша +Ми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я + Витя + Ми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ша + Коля + Пе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1652760" y="621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2" descr="MCj02318650000[1]"/>
          <p:cNvPicPr/>
          <p:nvPr/>
        </p:nvPicPr>
        <p:blipFill>
          <a:blip r:embed="rId1"/>
          <a:stretch/>
        </p:blipFill>
        <p:spPr>
          <a:xfrm>
            <a:off x="6858000" y="1600200"/>
            <a:ext cx="2162160" cy="2279520"/>
          </a:xfrm>
          <a:prstGeom prst="rect">
            <a:avLst/>
          </a:prstGeom>
          <a:ln w="0">
            <a:noFill/>
          </a:ln>
        </p:spPr>
      </p:pic>
      <p:sp>
        <p:nvSpPr>
          <p:cNvPr id="279" name="Line 21"/>
          <p:cNvSpPr/>
          <p:nvPr/>
        </p:nvSpPr>
        <p:spPr>
          <a:xfrm flipV="1">
            <a:off x="609480" y="4038120"/>
            <a:ext cx="990720" cy="381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-228600" y="4419720"/>
            <a:ext cx="1523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ро 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6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200"/>
                            </p:stCondLst>
                            <p:childTnLst>
                              <p:par>
                                <p:cTn id="2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800"/>
                            </p:stCondLst>
                            <p:childTnLst>
                              <p:par>
                                <p:cTn id="2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400"/>
                            </p:stCondLst>
                            <p:childTnLst>
                              <p:par>
                                <p:cTn id="2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26708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ра, Нина, Оля и Люба надели платья различных цветов. (Красное, синее, белое, голубое). Кто из них  в каком платье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51920" y="342864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я   Нина   Вера    Люб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асное синее голубое бело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990720" y="3962520"/>
            <a:ext cx="0" cy="1295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1143000" y="3886200"/>
            <a:ext cx="914400" cy="1371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 flipH="1">
            <a:off x="2361960" y="3809880"/>
            <a:ext cx="990360" cy="1447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2209680" y="3886200"/>
            <a:ext cx="0" cy="1371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H="1">
            <a:off x="3428640" y="3962520"/>
            <a:ext cx="609480" cy="1295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495680" y="3886200"/>
            <a:ext cx="76320" cy="1371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4800600" y="838080"/>
            <a:ext cx="403848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ля  - в синем, Люба - в бе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ля - в красном, Нина - в син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ра - в синем, Люба - в голуб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5410080" y="3200400"/>
            <a:ext cx="342900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ы: Оля в красном, Нина в голубом, Люба в белом, Вера в си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5" descr="MCj04339210000[1]"/>
          <p:cNvPicPr/>
          <p:nvPr/>
        </p:nvPicPr>
        <p:blipFill>
          <a:blip r:embed="rId1"/>
          <a:stretch/>
        </p:blipFill>
        <p:spPr>
          <a:xfrm>
            <a:off x="5334120" y="5562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92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192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192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192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92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92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192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92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192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192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192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92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192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192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192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92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192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192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192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рина     Лариса     Жанна     Кат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ианино                 гитара           виолончель                скрип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нгл. яз.           Немец. яз.            Франц. яз.         Испан. яз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0" y="0"/>
            <a:ext cx="693432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рина, Лариса, Жанна и Катя умеют играть на различных инструментах,( пианино, виолончели, гитаре, скрипке), но каждая только на одном. Они же знают иностранные языки(английский, немецкий, французский, испанский. Известно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( девушка, которая играет на гитаре, говорит по- испанс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Лариса не играет на скрипке, ни на виолончели и и не знает английского язы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 ) Марина не играет ни на скрипке, ни на виолончели и не знает ни немецкого, ни английского язы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девушка, которая говорит по немецкий не играет на виолончел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 ) Жанна знает французский язык, но не играет на скрип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914400" y="51814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1752480" y="4572000"/>
            <a:ext cx="5486400" cy="6094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1676520" y="4572000"/>
            <a:ext cx="2819160" cy="6094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1294920" y="4572000"/>
            <a:ext cx="38124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676520" y="4648320"/>
            <a:ext cx="1523880" cy="1371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3124080" y="4495680"/>
            <a:ext cx="4419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3048120" y="449568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 flipH="1">
            <a:off x="1828800" y="4495680"/>
            <a:ext cx="2362320" cy="152424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 flipH="1">
            <a:off x="3733560" y="4495680"/>
            <a:ext cx="609480" cy="144792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4419720" y="4495680"/>
            <a:ext cx="3352680" cy="152424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7086600" y="0"/>
            <a:ext cx="2057400" cy="2209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Стрелочками обозначено то на чем девочки не играют, и какого языка они не знают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2" descr="MCj04375630000[1]"/>
          <p:cNvPicPr/>
          <p:nvPr/>
        </p:nvPicPr>
        <p:blipFill>
          <a:blip r:embed="rId1"/>
          <a:stretch/>
        </p:blipFill>
        <p:spPr>
          <a:xfrm>
            <a:off x="7010280" y="2743200"/>
            <a:ext cx="18655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1224059011_novyjj-risunok-1"/>
          <p:cNvPicPr/>
          <p:nvPr/>
        </p:nvPicPr>
        <p:blipFill>
          <a:blip r:embed="rId1"/>
          <a:stretch/>
        </p:blipFill>
        <p:spPr>
          <a:xfrm>
            <a:off x="0" y="1447920"/>
            <a:ext cx="6056280" cy="3925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Задача </a:t>
            </a:r>
            <a:br>
              <a:rPr sz="3600"/>
            </a:br>
            <a:r>
              <a:rPr b="0" lang="ru-RU" sz="3600" spc="-1" strike="noStrike" u="sng">
                <a:solidFill>
                  <a:srgbClr val="ffffcc"/>
                </a:solidFill>
                <a:uFillTx/>
                <a:latin typeface="Arial"/>
              </a:rPr>
              <a:t>« Мосты Эйлера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380880" y="12189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с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0" y="55627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Теорем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В неориентированном графе эйлерова цепь существует тогда и только тогда, когда число вершин с нечётной степенью равно 0 или 2, а эйлеров цикл существует тогда и только тогда, когда нет вершин с нечётной степенью.</a:t>
            </a:r>
            <a:r>
              <a:rPr b="0" lang="ru-RU" sz="1600" spc="-1" strike="noStrike">
                <a:solidFill>
                  <a:srgbClr val="eaeaea"/>
                </a:solidFill>
                <a:latin typeface="Terminator Two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838080" y="21337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83808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5"/>
          <p:cNvSpPr/>
          <p:nvPr/>
        </p:nvSpPr>
        <p:spPr>
          <a:xfrm flipH="1">
            <a:off x="3504960" y="19051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0" descr="MCj02997230000[1]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4079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9"/>
          <p:cNvSpPr/>
          <p:nvPr/>
        </p:nvSpPr>
        <p:spPr>
          <a:xfrm>
            <a:off x="6172200" y="1371600"/>
            <a:ext cx="2971800" cy="52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вший Кенигсберг (ныне Калининград) расположен на реке Прегель. В пределах города река омывает остров. С берегов на остров были перекинуты мосты. Старые мосты не сохранились, но осталась карта города, где они изображены. Кенигсбергцы предлагали приезжим следующую задачу: пройти по всем мостам и вернуться в начальный пункт, причём на каждом мосту следовало побывать только один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200400" y="9907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ссонова</cp:lastModifiedBy>
  <dcterms:modified xsi:type="dcterms:W3CDTF">2015-03-01T17:02:3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