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B158-5597-4915-9634-35E2EBFAD7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4F2-23E7-4E1D-AA0A-42BABDFFE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D17-1DD6-486C-BED7-34967475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8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74A-9229-4230-98AC-F7A26C2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51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DF5-9276-41C4-9441-D833F6BF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5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62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8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5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62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2A6-CB2D-48BC-8575-D3FF977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CC2-7285-41B5-A1AE-7D7C598C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85C-6D8A-4C0B-98E9-283B0DD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446-2AC8-4C72-A52D-39C5ECB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884-9967-4FD7-B313-4595387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12F-0021-4918-9C96-4560E03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808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2873-69A4-47D6-9D5D-AE561ED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EF3-7410-46AA-8919-3DA797B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338-29A6-49C4-960A-832B9B7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51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371-0358-4A97-83CE-BF782A4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941-F777-4256-BD8A-EDB9CCA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808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991-63AE-44E6-894B-36BDA68B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51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CEB-D41C-4450-BCBE-8D6B5720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85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62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808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85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62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C394-7F71-4D36-B266-9C45F50A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D12-5D4C-493A-9088-B4B7C4B0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493-B95F-44D3-89C3-C124B83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DD8-1967-4EA8-9925-8AC928C4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8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863-E94F-4052-9F06-19837C3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D52-00CA-43D2-890B-7F4B822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51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517-F44F-4D51-9236-FC004B1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8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51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8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DE6-B2D9-47F9-98BB-FD9947B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214-1FE7-4CF7-8F2C-6F60AF6F2FA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6C3-9373-4392-9C7B-A79A12DE837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341360"/>
            <a:ext cx="69613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000"/>
                </a:solidFill>
                <a:latin typeface="Times New Roman"/>
                <a:ea typeface="Times New Roman"/>
              </a:rPr>
              <a:t>Схема обследования первоклассника</a:t>
            </a:r>
            <a:br>
              <a:rPr sz="3200"/>
            </a:br>
            <a:r>
              <a:rPr b="1" lang="ru-RU" sz="3200" spc="-1" strike="noStrike">
                <a:solidFill>
                  <a:srgbClr val="3a0000"/>
                </a:solidFill>
                <a:latin typeface="Times New Roman"/>
                <a:ea typeface="Times New Roman"/>
              </a:rPr>
              <a:t>по речевой карт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284280"/>
            <a:ext cx="515772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ЦППРК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ерие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шко Е.Б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2298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5D5-934D-4352-BAAE-3749A7088CD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571680" y="47484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образование и слово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агательное от существительного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у за хитрость называют хит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а за жадность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ца за трусость - …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ва за смелость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с уменьшительно-ласкательным суффик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мяч, а маленький – мяч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стул, маленький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названий детён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исы лися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волка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урицы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ре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81240" y="1600200"/>
            <a:ext cx="607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ледование связной речи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ставление рассказа по картинк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сказ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каз-опис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918-12D8-4BC6-98CA-7A71272F1B4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фонематического слух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1320" y="121428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нематическое восприят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цепочку из слогов: па-ба, ты-ды, са-за, аш-ащ, ус-уч, ма-на, ву-фу, ра­ла, ол-ор, ач-ащ. Па-ба-па, ке-хе-ге, ты-ды-ты, рю-лю-ле, ма-на-ма, са-зо-цы, ос-ац-ус, ты-цы-се, ша-жа-ша, ча-тя-ща, аш-уж-ощ, ти-за-са, ас-ущ-ач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овторить слова: год-кот-кто, том-дом-ком, кора-гора, дочка-точка-бочка-почк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показать, где   (по картинкам)  коза  - коса, удочка  - уточка, бочка -дочка, мышка мишк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ша - крыса, мишка - мис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3EB-529A-433A-8F2F-00AED9782D7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297-D3A0-4E9A-8E93-0D555A11C8A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643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нематические представлен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97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слова с заданным звуком (м, т, р..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ый в начале слова: Алик, Оля, утк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й в начале слова; рот, лом, нос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й в конце слова: луна, окно, шары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ый в конце слова: мак, кот, стол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нематический анализ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32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наличия звука в слов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 слове первый звук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следний звук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место звука в слов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оследовательности, количества и места звуков по отношению к другим звука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F94-622E-486D-96AA-BE7E37179F3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B93-EC85-426F-AAEB-FD784F583BB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42920" y="57168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нематический синт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лов из последовательно заданных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—О—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—У—Н—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—С—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—А—П—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—Ы—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С—У—М—К—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—О—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—Р—О—П—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—У—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—Т—Р—Е—Л—К—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 звуко-слоговой структуры слова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96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 слова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, снег, крыша, мостик, каша, хлеб, кошка, капуста, помидор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слова (с 5-ти лет)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калка  танкист  космонавт  милиционер сковорода   кинотеатр  перепорхнуть  кораблекрушение   аквалангист   термомет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(с 5-ти лет)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слепили снеговик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проводчик чинит водопровод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ционер едет на мотоцикл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CFDA-BC12-440B-8E5D-4244EB908A3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A19-8F54-464C-8FA8-17079C40D1E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643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грамматического строя реч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57200" y="1356840"/>
            <a:ext cx="77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образова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сущ-х мн.ч. и Р.п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 - сто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ул - ..., окно - …, звезда - ..., ухо -  ..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, а много чего?—сто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и т.д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уменьшительно-ласкательной форм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 – столик, стул - ..., дом - …, снег - …, дерево -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притяжательных прилагательны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баки лапа собачья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шки - ..., у медведя - ...,у волка - ...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ьва - ...,        у лисы - ...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йца - ..., у белки - ..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орла - ..., клюв птицы - ..., ружье охотника - ..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альное словообразов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4260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глаголов от глагол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альным способом -путем присоединения приставки к производящему слову: писать – переписать, надписать, выписать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льным путем присоединения суффикса к производящей основе: зелёный– зеленеть, белый – белить, умыть – умыться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E47F-395D-48BE-855F-CF53FD4BFB8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оизме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004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прилагательных с существительным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существительных с числительным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предложно-падежных фор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3C17-6C2F-4A98-976C-B1204A062C4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865-2063-4703-B635-C3FD291EDB9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642600"/>
            <a:ext cx="7993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ее звучание речи: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 в строении артикуляционного аппара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____    активность___  Объём движений ___  точность выполнения__  длитель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вукопроизношение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ые__переднеязычные__соноры__заднеязычны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фрикаты __йотированные__ свистящие__шипящи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— маска — нос сено — василек — выс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— коза   цапля — овца — пале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а — кошка — камыш   жук — нож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 — вещи — лещ   чайка — очки — ноч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 — корова — топор река — варенье — двер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а — молоко — пол лето — колесо — сол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отребление предложно-падежных фор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720" y="16002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по демонстрируемым действиям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да я положила карандаш?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нал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куда я достала карандаш?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нала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едложений по картинк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шка сто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шибки в предложени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лет лет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новка недостающего предлога в предложение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мпа висит ... стол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409-F3D1-4A8B-A2AA-EAC208B36A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словар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81240" y="1600200"/>
            <a:ext cx="73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 исследования служат предметные и сюжетные картинки, а также слова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 (лексические тем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ые (обозначение цвета, вкус, сила, величина, форм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лаголы (кто как передвигается, кричит, что делает, чем делает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еч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BDA-B1EB-495B-8EDE-A11941684F2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D2D7-927C-4380-B317-844C57FDC46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4360" y="620280"/>
            <a:ext cx="77752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й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и инструкция: «Сейчас я буду называть слова, а ты постарайся правильно показать картинку». Далее предлагается показать среди других групп картинок, где, например, семья или дикие животные и т.д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и инструкция: «Сейчас я буду тебе показывать картинки, а ты постарайся их правильно назвать». Задается вопрос: «Это какой …(цвет и т.д.)?» При «Что делает …?» или «Как кричит…?» «Как назвать одним словом эти картинки?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реч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80880" y="1600200"/>
            <a:ext cx="674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данной инструкци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ключ, карандаш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карандашом ключ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карандаш ключ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 круг под крест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 крест под круг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4FA1-BD4D-43DD-A509-EF960F564D8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910-0081-43FD-879F-972C379D5B5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468360" y="620640"/>
            <a:ext cx="8064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Понимание сущ. ед. и мн. 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, и множ. число им. сущ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, где ягода — яг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нок — щенк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, и множ. число глаго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, где идет, где ид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— поют и т.п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48B8-F783-407D-BF4B-0C14013FB4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549360"/>
            <a:ext cx="7993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нимание соотношений членов предложений в сложноподчинённом предло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чем посмотреть мультфильмы, Ваня сделал уроки.     Что Ваня сделал ран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едложение правиль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а испачкала платье, потому что скамейка гря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мейка грязная, потому что Наташа испачкала пла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62D-2A9B-4156-912F-1743F5814A8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928800" y="500040"/>
            <a:ext cx="7643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равильной фра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, где н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гладит утю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нарисован маль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умывается 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вышла в бу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ки склонились от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освещается зем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ю плывут кораб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ны большая яб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спится медведь под сне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большим деревом была глубокая я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ECFC-3496-4E2C-8A13-C46E65E939A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052640" y="404640"/>
            <a:ext cx="7623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нимание падежных оконч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тельный падеж, ед.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. режут хлеб  (чем?); вилка, едят (чем?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а, пилят (чем?); топор, рубят (чем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ный падеж, мн.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много чего? (цветов, деревьев, кустов, пти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е много ч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08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едмета к изображению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808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F20-2585-4CDE-95C0-6D3743DE00F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img057.jpg"/>
          <p:cNvPicPr/>
          <p:nvPr/>
        </p:nvPicPr>
        <p:blipFill>
          <a:blip r:embed="rId1"/>
          <a:srcRect l="7785" t="4761" r="17637" b="20238"/>
          <a:stretch/>
        </p:blipFill>
        <p:spPr>
          <a:xfrm>
            <a:off x="785880" y="1428840"/>
            <a:ext cx="63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4040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стей цело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лишнего предме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Содержимое 9" descr="четвёртый лишний.jpg"/>
          <p:cNvPicPr/>
          <p:nvPr/>
        </p:nvPicPr>
        <p:blipFill>
          <a:blip r:embed="rId1"/>
          <a:stretch/>
        </p:blipFill>
        <p:spPr>
          <a:xfrm>
            <a:off x="4645080" y="2457360"/>
            <a:ext cx="4041720" cy="338616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"/>
          <p:cNvSpPr/>
          <p:nvPr/>
        </p:nvSpPr>
        <p:spPr>
          <a:xfrm>
            <a:off x="655308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794-0A08-464D-85FD-62EF1B7194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0" y="8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iиз частей.jpg"/>
          <p:cNvPicPr/>
          <p:nvPr/>
        </p:nvPicPr>
        <p:blipFill>
          <a:blip r:embed="rId2"/>
          <a:srcRect l="20003" t="23754" r="20938" b="21254"/>
          <a:stretch/>
        </p:blipFill>
        <p:spPr>
          <a:xfrm>
            <a:off x="500040" y="242892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9:50:01Z</dcterms:created>
  <dc:creator>user</dc:creator>
  <dc:description/>
  <cp:keywords/>
  <dc:language>en-US</dc:language>
  <cp:lastModifiedBy>AKACIYA</cp:lastModifiedBy>
  <cp:lastPrinted>2015-01-11T13:26:02Z</cp:lastPrinted>
  <dcterms:modified xsi:type="dcterms:W3CDTF">2015-03-01T11:18:59Z</dcterms:modified>
  <cp:revision>2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