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E9F-0059-4578-BF8D-64EE26D9D1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EE8-24BC-4E76-A727-CC9D2E2756E0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-13855680" y="-9698040"/>
            <a:ext cx="27712800" cy="2078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BD2-7B35-44CE-91FF-AF8D707B8532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-13855680" y="-9698040"/>
            <a:ext cx="27712800" cy="2078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180-06C3-4CFA-BC8A-75A846EDCE00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-13855680" y="-9698040"/>
            <a:ext cx="27712800" cy="2078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5F1-1971-425C-B259-CCF70ED934E5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-13855680" y="-9698040"/>
            <a:ext cx="27712800" cy="2078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3C2-FAAA-4998-9689-0E585821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3D0-72E6-47DD-9375-7258CCC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BD2-17B0-4FB7-BE1F-C0F0FEE7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EAE-5673-47DE-91F6-DAA5F93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DA6E-BD36-4F3B-BA63-E43E432B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F8E16-DBD6-4EA6-A213-AB71A6D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74CF-FAA4-48ED-9724-55115677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C1361-35C6-4EC1-8404-0BE82046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4E537-25CC-4030-857F-300F105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F9C0-7F63-4196-8F17-4E3D684B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BEF06-D738-4257-BC58-3A24289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CD7-94FD-4CEB-95B6-902C8C27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2002-C905-45E2-B072-7CE53ED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5A27A-2314-45B3-BDAB-7EB3FF8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1DB16-DF3E-4E69-AF9D-C82B21CB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E178-D113-4A52-9EB9-A0B99042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90546-6E9F-482B-B446-0714B3E0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9722-3B8F-4962-9F70-846E9238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C923-ACCB-424F-819B-D72ED76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0E1C-120B-4604-B4CB-54A05F6D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AC13-D4F4-47CC-94EE-1CABA9C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218B-1F6B-468D-A5BD-AADAFB8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7E6-7917-492A-AAA7-A04A214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93C0-1BF4-4B2B-85D0-05CE4EB9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CFD6-FA21-473F-B40D-2DD0FAE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32E8-0E78-45B4-840D-F0293F1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E03B-762A-40CA-BAEF-142D7B3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2190-21FD-4B4F-869C-C329AF6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8521-96F0-44DD-A706-A78670A0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F88C-F499-4FAF-9779-F575199A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F22B6-2A5E-4E13-B163-9E08049A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1575C-5A3F-4146-A9C8-64472E0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0D3C3-9561-46A4-BFCC-FFB0900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9AE-9671-412F-8665-B144AC1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EB1ED-8972-4447-A70D-5C8FB80E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2835D-7586-49D4-9557-C8C2EE5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CD918-7DE2-4107-A841-258EBD8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DEBE1-A1B7-4292-8244-5B82FF0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AEEBD-6AF6-45FE-9EE6-E676202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0F4A5-5096-41DB-908B-5FAFF81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C5EE6-C72C-4452-A22D-5C38737E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1D811-127E-4B6E-ACA6-438F94AD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E45E5-9095-47AF-A592-AA08D0C1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EB06E-FDEA-42C1-A685-D69B9BA8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CE1-9CB5-4890-AF45-F44AE63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28E51-C69F-4B47-8F88-589DF5DC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D8EEE-F794-4DF6-9E5D-8F7E0CC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822A9-CA15-4CB7-9FA7-6039F44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3EDB6-1AB6-478E-B1D2-654477D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1ECAB-6A97-423D-A2E0-BE779AE5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72728-44D2-4892-9E20-54B863DE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97240-E4DB-46F7-86A9-88F1C79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04EED-3CAA-4D6B-9C39-D5DECB0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7AACC-478B-4FDD-B413-BEFB782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73841-C09C-4EF0-96FF-C9DC4E64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260-95EC-4EEA-B212-C613BC97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EDF3E-7449-4955-8266-37D98021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643EB-C729-4E02-8054-64257574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FFA54-A22B-41A6-93E6-5E12D65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A5F1C-03A0-4C7D-A585-4F6AC60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722E8-D9FA-45E4-A95C-7B45E21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E56C5-3FC4-4C6A-8359-CE2287BA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FAB95-B96A-497A-8164-FA4FED9B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78C5F-5EFF-425B-94CC-067F66F2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5BE9F-5F21-46BE-8068-A9EA578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B49D9-138D-4CF3-90B8-B3FA686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28F-C0BB-4C89-8D78-1228D58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5622E-3DBC-4889-B3BD-C48AC6C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175C4-D940-43EA-B2F7-8DD36A00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3CB59-56C6-4A3E-BAFB-185C4714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FEB7F-8085-4756-8B81-53FC060C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F5B60-50CE-4F3B-956E-A05E1B2C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FF62B-7E15-46CC-B641-74DCE6E5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2261D-3BD7-49A6-9CE7-FC8A73DD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132B0-48F7-479F-927A-77987F9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84FB5-821A-4D91-9120-6410DD2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3F8D0-44AE-4842-8CDD-DEA2A79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42F-D65A-4AE7-9ABE-36AC7AC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273B7-14D6-4A41-A8F4-982589D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B5BB6-7CB1-4B64-9B8A-AB039B1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C6808-9373-46DC-8EC4-C9346C8E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02718-92AE-48B3-8C54-E9B86E8E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1ED4C-7FD3-424E-85B4-4E9B588C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216-DAE4-4A9C-B6B2-81144AE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913-6841-41AB-BF40-87574F334A6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E277-7FEA-484B-BC63-A65B5FB089A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3275-102F-4C33-BCED-C85B537E472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D36-8A33-4F4F-B3BE-E4B9953DC6A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A8D-618B-40A3-93FA-DAA9FC60CCD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04E-C1AF-4C00-8989-470C64EFFA9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DE8-45A4-435C-9FB2-301AFCC4EF2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ru.wikipedia.org/wiki/&#1058;&#1099;&#1089;&#1103;&#1095;&#1077;&#1083;&#1077;&#1090;&#1080;&#1077;_&#1056;&#1086;&#1089;&#1089;&#1080;&#1080;_(&#1087;&#1072;&#1084;&#1103;&#1090;&#1085;&#1080;&#1082;)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500040" y="1206360"/>
            <a:ext cx="8309160" cy="2749680"/>
          </a:xfrm>
          <a:prstGeom prst="rect">
            <a:avLst/>
          </a:prstGeom>
          <a:ln w="0">
            <a:noFill/>
          </a:ln>
        </p:spPr>
      </p:pic>
      <p:pic>
        <p:nvPicPr>
          <p:cNvPr id="301" name="Заголовок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309160" cy="1579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D:\66632864_r_21_05b.jpg"/>
          <p:cNvPicPr/>
          <p:nvPr/>
        </p:nvPicPr>
        <p:blipFill>
          <a:blip r:embed="rId3"/>
          <a:stretch/>
        </p:blipFill>
        <p:spPr>
          <a:xfrm>
            <a:off x="3429000" y="3786120"/>
            <a:ext cx="22464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2938320" y="0"/>
            <a:ext cx="473256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260280" y="3805200"/>
            <a:ext cx="2382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Сергей Ефошки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Преподобный Серг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Чудо о птицах (акварель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260280" y="227160"/>
            <a:ext cx="5186520" cy="6467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www.vidania.ru/picture/shigri/icon_shigri_odigitriya_22.jpg"/>
          <p:cNvPicPr/>
          <p:nvPr/>
        </p:nvPicPr>
        <p:blipFill>
          <a:blip r:embed="rId2"/>
          <a:stretch/>
        </p:blipFill>
        <p:spPr>
          <a:xfrm>
            <a:off x="6248520" y="115920"/>
            <a:ext cx="2361960" cy="285588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5584680" y="3071880"/>
            <a:ext cx="3299040" cy="37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                                 </a:t>
            </a: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Явл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Божией Мате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в кел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преподобного Серг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на месте нынешней Серапионовой пала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60280" y="190440"/>
            <a:ext cx="7859880" cy="77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http://www.vidania.ru/picture/starogolutvin/icon_sergii_i_donskoy_800x594.jpg"/>
          <p:cNvPicPr/>
          <p:nvPr/>
        </p:nvPicPr>
        <p:blipFill>
          <a:blip r:embed="rId1"/>
          <a:stretch/>
        </p:blipFill>
        <p:spPr>
          <a:xfrm>
            <a:off x="1046160" y="227160"/>
            <a:ext cx="6912000" cy="51339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"/>
          <p:cNvSpPr/>
          <p:nvPr/>
        </p:nvSpPr>
        <p:spPr>
          <a:xfrm>
            <a:off x="785880" y="5435640"/>
            <a:ext cx="77724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Икона. «Святые Сергий Радонежский и Дмитрий Донской» , написанная священником Сергеем Симаковым в XX 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3" descr=""/>
          <p:cNvPicPr/>
          <p:nvPr/>
        </p:nvPicPr>
        <p:blipFill>
          <a:blip r:embed="rId1"/>
          <a:stretch/>
        </p:blipFill>
        <p:spPr>
          <a:xfrm>
            <a:off x="298440" y="36360"/>
            <a:ext cx="8381880" cy="1347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260280" y="1182600"/>
            <a:ext cx="3952800" cy="5645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4429080" y="1150920"/>
            <a:ext cx="4383000" cy="570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719280" y="227160"/>
            <a:ext cx="8086680" cy="542124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1"/>
          <p:cNvSpPr/>
          <p:nvPr/>
        </p:nvSpPr>
        <p:spPr>
          <a:xfrm>
            <a:off x="0" y="5572080"/>
            <a:ext cx="9144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613"/>
                </a:solidFill>
                <a:latin typeface="Constantia"/>
              </a:rPr>
              <a:t>Троице-Сергиева лав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613"/>
                </a:solidFill>
                <a:latin typeface="Constantia"/>
              </a:rPr>
              <a:t>Была основана Преподобным Сергием в 1337 го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upload.wikimedia.org/wikipedia/commons/thumb/5/52/1000_Sergy_Rad.jpg/200px-1000_Sergy_Rad.jpg"/>
          <p:cNvPicPr/>
          <p:nvPr/>
        </p:nvPicPr>
        <p:blipFill>
          <a:blip r:embed="rId1"/>
          <a:stretch/>
        </p:blipFill>
        <p:spPr>
          <a:xfrm>
            <a:off x="5421240" y="173160"/>
            <a:ext cx="2743200" cy="6489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1"/>
          <p:cNvSpPr/>
          <p:nvPr/>
        </p:nvSpPr>
        <p:spPr>
          <a:xfrm>
            <a:off x="285840" y="4714920"/>
            <a:ext cx="489888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Сергий Радонежс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на памятнике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«1000-летие России»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в Великом Новгород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4175280" y="557532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613"/>
                </a:solidFill>
                <a:latin typeface="Constantia"/>
              </a:rPr>
              <a:t>Скульптур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613"/>
                </a:solidFill>
                <a:latin typeface="Constantia"/>
              </a:rPr>
              <a:t>В. Клык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5" descr="http://fictionbook.ru/static/bookimages/00/20/39/00203925.bin.dir/h/i_044.jpg"/>
          <p:cNvPicPr/>
          <p:nvPr/>
        </p:nvPicPr>
        <p:blipFill>
          <a:blip r:embed="rId1"/>
          <a:stretch/>
        </p:blipFill>
        <p:spPr>
          <a:xfrm>
            <a:off x="1116000" y="0"/>
            <a:ext cx="346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целях сохранения культурных и нравственных ценностей, укрепления духовного единства российского народа и в связи с исполняющимся в 2014 году 700-летием со дня рождения преподобного Сергия Радонежского постановляю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вести в 2014 году праздничные мероприятия, посвященные 700-летию со дня рождения преподобного Сергия Радонежск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авительству Российской Федерации совместно с рабочей группой при Президенте Российской Федерации по подготовке к празднованию 700-летия со дня рождения преподобного Сергия Радонежского в 2-месячный срок обеспечить разработку и утверждение плана основных мероприятий по подготовке и проведению празднования 700-летия со дня рождения преподобного Сергия Радонежск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екомендовать органам государственной власти субъектов Российской Федерации и органам местного самоуправления принять участие в подготовке и проведении празднования 700-летия со дня рождения преподобного Сергия Радонежск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Настоящий Указ вступает в силу со дня его подпис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идент Российской Федерации Д. Медведев. Москва, Кремл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сентября 2011 г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365040" y="133200"/>
            <a:ext cx="8566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Содержимое 4" descr="220px-Varni8w.jpg"/>
          <p:cNvPicPr/>
          <p:nvPr/>
        </p:nvPicPr>
        <p:blipFill>
          <a:blip r:embed="rId1"/>
          <a:stretch/>
        </p:blipFill>
        <p:spPr>
          <a:xfrm>
            <a:off x="2214720" y="357120"/>
            <a:ext cx="4857480" cy="52866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00040" y="5643720"/>
            <a:ext cx="8215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901"/>
                </a:solidFill>
                <a:latin typeface="Constantia"/>
              </a:rPr>
              <a:t>Варницкий монастырь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6760" y="5286240"/>
            <a:ext cx="8358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ь помолится за меня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бы дал мне силы Господь понять грамот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Содержимое 4" descr="230px-Mikhail_Nesterov_001.jpg"/>
          <p:cNvPicPr/>
          <p:nvPr/>
        </p:nvPicPr>
        <p:blipFill>
          <a:blip r:embed="rId1"/>
          <a:stretch/>
        </p:blipFill>
        <p:spPr>
          <a:xfrm>
            <a:off x="1143000" y="285840"/>
            <a:ext cx="65008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«И вот второе знамение вам и предсказание — отрок будет велик пред Богом и людьми за свою добродетельную жизнь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6" descr="52227273_russia"/>
          <p:cNvPicPr/>
          <p:nvPr/>
        </p:nvPicPr>
        <p:blipFill>
          <a:blip r:embed="rId1"/>
          <a:stretch/>
        </p:blipFill>
        <p:spPr>
          <a:xfrm>
            <a:off x="0" y="1916280"/>
            <a:ext cx="9097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85480" y="1434600"/>
            <a:ext cx="3314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Основал пустынь на берегу реки Кончуры, посреди глухого Радонежского бора, где и построил (около 1335года) небольшую деревянную церковь во имя Святой Троиц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Picture 6" descr="SergijRadonezhskij2"/>
          <p:cNvPicPr/>
          <p:nvPr/>
        </p:nvPicPr>
        <p:blipFill>
          <a:blip r:embed="rId1"/>
          <a:stretch/>
        </p:blipFill>
        <p:spPr>
          <a:xfrm>
            <a:off x="3857760" y="928800"/>
            <a:ext cx="493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384120" y="1432080"/>
            <a:ext cx="8577360" cy="23112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Р.Запесоцка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7" name="Picture 7" descr="благословление"/>
          <p:cNvPicPr/>
          <p:nvPr/>
        </p:nvPicPr>
        <p:blipFill>
          <a:blip r:embed="rId1"/>
          <a:stretch/>
        </p:blipFill>
        <p:spPr>
          <a:xfrm>
            <a:off x="539640" y="333360"/>
            <a:ext cx="8353440" cy="40705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друг… Кто это?... Откуда взялся неведомый старец под дубом? Шепчет что-то. Видно молится. Струятся по лицу слёзы. Горячая, пламенная, точно не здешняя была та молит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2611440" y="227160"/>
            <a:ext cx="6205680" cy="61657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285840" y="3330000"/>
            <a:ext cx="238284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Михаил Васильевич Несте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(1862-1942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«</a:t>
            </a:r>
            <a:r>
              <a:rPr b="1" i="1" lang="en-GB" sz="2400" spc="-1" strike="noStrike">
                <a:solidFill>
                  <a:srgbClr val="222613"/>
                </a:solidFill>
                <a:latin typeface="Constantia"/>
              </a:rPr>
              <a:t>Юность преподобного отца Сергия</a:t>
            </a:r>
            <a:r>
              <a:rPr b="1" i="1" lang="ru-RU" sz="2400" spc="-1" strike="noStrike">
                <a:solidFill>
                  <a:srgbClr val="222613"/>
                </a:solidFill>
                <a:latin typeface="Constanti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0:52:33Z</dcterms:created>
  <dc:creator>Admin</dc:creator>
  <dc:description/>
  <dc:language>en-US</dc:language>
  <cp:lastModifiedBy>105</cp:lastModifiedBy>
  <dcterms:modified xsi:type="dcterms:W3CDTF">2015-03-01T08:26:56Z</dcterms:modified>
  <cp:revision>17</cp:revision>
  <dc:subject/>
  <dc:title>Сергий Радонежский (3 мая 1314 - 25 сентября 1392)</dc:title>
</cp:coreProperties>
</file>