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C5A-348A-45A2-9516-00CAF89A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03C-E185-414B-93B3-97902CC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F85-BA9E-4A76-A58D-959056DE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223-0FE7-4257-9F2B-7760E5EE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C2C8-3FDA-4ED2-93E3-EC66E6C4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18B0-E295-4F84-A875-0F978DE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FD0A-0627-4893-ABF3-1226EE34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07BB-5F70-43B6-ADA9-0D7A63D8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DE7A-B1F3-4017-88BE-FD98B1F1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11BB-3741-41CD-9030-9C1D9298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4E07-4337-44BF-AFCE-92E8019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3D5-F1D1-4EF1-A3E1-FC1CE78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8E4-81A9-47B5-A63D-B838287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A652-FB17-4C58-A24D-371A49D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82C9-F614-483C-B2E6-B731613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EAC-1A38-4D78-8B0B-4A09AD68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7D0C-2437-4E49-9C9E-08851ED7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217-E826-46AF-BE02-3D236E3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BAC-2367-4BF1-80D2-EDCCE25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3A0-3F6B-4CD7-B8AC-2993457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EE5-CBE9-4350-8503-4DB77A2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F46-3EF3-42EC-9EE7-8D29434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F05-E9F5-4897-B0D0-575A170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A3E-03AA-46F0-A233-B29FEE9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CDB-B38D-4987-8659-30FBF7F25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15AD-02C6-4AA1-A1C1-AC2719C3A21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6666"/>
                </a:solidFill>
                <a:latin typeface="Arial Unicode MS"/>
              </a:rPr>
              <a:t>Leopard</a:t>
            </a:r>
            <a:endParaRPr b="0" lang="en-US" sz="95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7" descr="Обои на рабочий стол leopard cat art 1920x1200"/>
          <p:cNvPicPr/>
          <p:nvPr/>
        </p:nvPicPr>
        <p:blipFill>
          <a:blip r:embed="rId1"/>
          <a:stretch/>
        </p:blipFill>
        <p:spPr>
          <a:xfrm>
            <a:off x="990720" y="2057400"/>
            <a:ext cx="6705360" cy="3886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5532120" y="5943600"/>
            <a:ext cx="26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ikolay Kochenin 3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«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chool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№ 28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3680" y="312480"/>
            <a:ext cx="786276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is is Leopard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Leopard head / Wallpapers as"/>
          <p:cNvPicPr/>
          <p:nvPr/>
        </p:nvPicPr>
        <p:blipFill>
          <a:blip r:embed="rId1"/>
          <a:stretch/>
        </p:blipFill>
        <p:spPr>
          <a:xfrm>
            <a:off x="1554120" y="1600200"/>
            <a:ext cx="58374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It has got yellow skin with black spots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4" descr="Обложки на паспорт из натуральной кожи - Обложка на паспорт &quot;Леопард&quot;"/>
          <p:cNvPicPr/>
          <p:nvPr/>
        </p:nvPicPr>
        <p:blipFill>
          <a:blip r:embed="rId1"/>
          <a:stretch/>
        </p:blipFill>
        <p:spPr>
          <a:xfrm>
            <a:off x="1676520" y="1674720"/>
            <a:ext cx="60958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me leopards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are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lack.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260px-Blackleopard"/>
          <p:cNvPicPr/>
          <p:nvPr/>
        </p:nvPicPr>
        <p:blipFill>
          <a:blip r:embed="rId1"/>
          <a:stretch/>
        </p:blipFill>
        <p:spPr>
          <a:xfrm>
            <a:off x="1066680" y="1511280"/>
            <a:ext cx="6858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It lives in Africa, India, and Russia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4" descr="изображение"/>
          <p:cNvPicPr/>
          <p:nvPr/>
        </p:nvPicPr>
        <p:blipFill>
          <a:blip r:embed="rId1"/>
          <a:stretch/>
        </p:blipFill>
        <p:spPr>
          <a:xfrm>
            <a:off x="457200" y="1974960"/>
            <a:ext cx="82296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opard is a very strong hunter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opard can jump, run and swim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4" descr="Леопард обои, фото, картинки"/>
          <p:cNvPicPr/>
          <p:nvPr/>
        </p:nvPicPr>
        <p:blipFill>
          <a:blip r:embed="rId1"/>
          <a:stretch/>
        </p:blipFill>
        <p:spPr>
          <a:xfrm>
            <a:off x="914400" y="1600200"/>
            <a:ext cx="6973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opard has got four legs and big teeth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4" descr="280px-Leopard_%28Panthera_pardus%29"/>
          <p:cNvPicPr/>
          <p:nvPr/>
        </p:nvPicPr>
        <p:blipFill>
          <a:blip r:embed="rId1"/>
          <a:stretch/>
        </p:blipFill>
        <p:spPr>
          <a:xfrm>
            <a:off x="1143000" y="1447920"/>
            <a:ext cx="6705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9628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e love bags, shoes, umbrellas and toys in color of Leopard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5" descr="i?id=62f65be4055a50b3ada1586cc3137dba-133-144&amp;n=21"/>
          <p:cNvPicPr/>
          <p:nvPr/>
        </p:nvPicPr>
        <p:blipFill>
          <a:blip r:embed="rId1"/>
          <a:stretch/>
        </p:blipFill>
        <p:spPr>
          <a:xfrm>
            <a:off x="762120" y="1827360"/>
            <a:ext cx="2133360" cy="211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Leopard Print Boots"/>
          <p:cNvPicPr/>
          <p:nvPr/>
        </p:nvPicPr>
        <p:blipFill>
          <a:blip r:embed="rId2"/>
          <a:stretch/>
        </p:blipFill>
        <p:spPr>
          <a:xfrm>
            <a:off x="5715000" y="2200320"/>
            <a:ext cx="2890800" cy="206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Леопард детская качалка detskiu-mir.ru"/>
          <p:cNvPicPr/>
          <p:nvPr/>
        </p:nvPicPr>
        <p:blipFill>
          <a:blip r:embed="rId3"/>
          <a:stretch/>
        </p:blipFill>
        <p:spPr>
          <a:xfrm>
            <a:off x="2666880" y="3429000"/>
            <a:ext cx="3048120" cy="308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i?id=e184abb301f25f3abea3ed153be8d51c-33-144&amp;n=21"/>
          <p:cNvPicPr/>
          <p:nvPr/>
        </p:nvPicPr>
        <p:blipFill>
          <a:blip r:embed="rId4"/>
          <a:stretch/>
        </p:blipFill>
        <p:spPr>
          <a:xfrm>
            <a:off x="3429000" y="1981080"/>
            <a:ext cx="1781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1825560"/>
            <a:ext cx="76201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 love leopards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11" descr="i?id=7d21bf19657ce2a012a620eba800e065-29-144&amp;n=21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1:04:44Z</dcterms:created>
  <dc:creator>Елена</dc:creator>
  <dc:description/>
  <dc:language>en-US</dc:language>
  <cp:lastModifiedBy>АЛЁНА</cp:lastModifiedBy>
  <dcterms:modified xsi:type="dcterms:W3CDTF">2015-03-01T10:35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