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903-58E9-4B62-AC58-A8C0CC32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851-1ADC-400B-97C4-837EE85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136-7862-4002-A653-3FF6FFC7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1B9-7F94-48C0-9099-6CFA8A7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505-7B2D-4269-AF61-D762554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D25-5776-44FB-9900-AF6A1A40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E33-4F82-4674-B62B-2700761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057-7EA7-4696-BDD6-031171D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FAB-E351-4349-BE1A-9C232DA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8C7-E578-41E4-8279-021136A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6C9-895F-47AB-8065-EB320FC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605-8C30-43AF-8C0D-0D29686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0470-BC8D-4622-9469-DDBDF4DB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628640"/>
            <a:ext cx="79912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465e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остроение сечений многогран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465e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етодом внутреннего соответ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42" name="PubTriangle"/>
          <p:cNvSpPr/>
          <p:nvPr/>
        </p:nvSpPr>
        <p:spPr>
          <a:xfrm rot="15578400">
            <a:off x="5174280" y="3956760"/>
            <a:ext cx="2448000" cy="2878200"/>
          </a:xfrm>
          <a:solidFill>
            <a:srgbClr val="d8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Triangle"/>
          <p:cNvSpPr/>
          <p:nvPr/>
        </p:nvSpPr>
        <p:spPr>
          <a:xfrm rot="15042000">
            <a:off x="2023920" y="-98280"/>
            <a:ext cx="1366560" cy="2700360"/>
          </a:xfrm>
          <a:solidFill>
            <a:srgbClr val="d8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500280"/>
            <a:ext cx="8064360" cy="3195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0"/>
            <a:ext cx="83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Основу метода внутреннего соответств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оставляет следующая 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500280"/>
            <a:ext cx="8064360" cy="3195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920" y="3622680"/>
            <a:ext cx="39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8840" y="2114640"/>
            <a:ext cx="39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11760" y="362412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92428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443700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30686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141300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4941720"/>
            <a:ext cx="0" cy="1684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19280" y="4868640"/>
            <a:ext cx="5184720" cy="21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92360" y="3789360"/>
            <a:ext cx="1656000" cy="24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560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41720" y="2252520"/>
            <a:ext cx="39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15000" y="404964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492360" y="3068280"/>
            <a:ext cx="1656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2924280"/>
            <a:ext cx="51847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9000" y="44085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65840" y="3132000"/>
            <a:ext cx="2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484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22936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8840" y="4869000"/>
            <a:ext cx="4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4160" y="4221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95800" y="3645000"/>
            <a:ext cx="45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2781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21000" y="5535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380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4941720"/>
            <a:ext cx="46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56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941720"/>
            <a:ext cx="46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716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1700280"/>
            <a:ext cx="244764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=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Y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‖ (A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C)∩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Y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=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907920"/>
            <a:ext cx="856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) случай когда внутреннее проектирование является параллельны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08640" y="3308400"/>
                <a:ext cx="1267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2774880"/>
            <a:ext cx="577368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773360"/>
            <a:ext cx="597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1773360"/>
            <a:ext cx="180036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781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508360" y="1773360"/>
            <a:ext cx="16556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95280" y="1773360"/>
            <a:ext cx="79200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95640" y="2781360"/>
            <a:ext cx="79200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716000" y="3068640"/>
            <a:ext cx="792360" cy="33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72360" y="1773360"/>
            <a:ext cx="79200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157720"/>
            <a:ext cx="180036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6165720"/>
            <a:ext cx="2520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716360" y="5157720"/>
            <a:ext cx="16560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157720"/>
            <a:ext cx="59770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7920" y="3274920"/>
            <a:ext cx="39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3645000"/>
            <a:ext cx="3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969920"/>
            <a:ext cx="39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987640" y="4365720"/>
            <a:ext cx="432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724000" y="4437000"/>
            <a:ext cx="28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157720"/>
            <a:ext cx="4321080" cy="129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87640" y="5660640"/>
            <a:ext cx="2736720" cy="57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592440" y="4384800"/>
            <a:ext cx="432000" cy="1726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0"/>
            <a:ext cx="8893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роить сечение четырех угольной призмы плоскостью,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ной точкой на боковом ребре, и двумя точками в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ковых гранях, не содержащих данного ребра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36572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971640" y="2781360"/>
            <a:ext cx="1728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781360"/>
            <a:ext cx="5616360" cy="1295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781360"/>
            <a:ext cx="4105080" cy="216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372360" y="1773360"/>
            <a:ext cx="79200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76720" y="4076280"/>
            <a:ext cx="158292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700000" y="4076280"/>
            <a:ext cx="237636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637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85360" y="433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9120" y="42451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0720" y="1700280"/>
            <a:ext cx="3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6308640"/>
            <a:ext cx="72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797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70480" y="5734080"/>
            <a:ext cx="56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6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3860640"/>
            <a:ext cx="23400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∩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(NP)∩(Y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(MY)∩[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(XN)∩[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[M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(XP)∩[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KML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6381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0" y="49608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589720"/>
            <a:ext cx="38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9760" y="62373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39290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6108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7200" y="50133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1628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344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816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2708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6093000"/>
            <a:ext cx="48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30064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276800" cy="3133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906560" y="2347560"/>
            <a:ext cx="4248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329840" y="2490840"/>
            <a:ext cx="57636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75280" y="2347560"/>
            <a:ext cx="107928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0200" y="342756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249228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5280" y="371484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4560" y="234792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06560" y="4867200"/>
            <a:ext cx="4248000" cy="146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29840" y="5011560"/>
            <a:ext cx="576360" cy="936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075280" y="4866840"/>
            <a:ext cx="10792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7360" y="4270320"/>
            <a:ext cx="730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39006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5300640"/>
            <a:ext cx="0" cy="432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679920" y="3933720"/>
            <a:ext cx="0" cy="1008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25720" y="5291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1640" y="4941720"/>
            <a:ext cx="2376360" cy="100836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31640" y="3933720"/>
            <a:ext cx="2305080" cy="35892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5013360"/>
            <a:ext cx="1944720" cy="72072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0200" y="5948280"/>
            <a:ext cx="3745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4869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0200" y="3427560"/>
            <a:ext cx="3745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4067280"/>
            <a:ext cx="9720" cy="126504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908000" y="3068640"/>
            <a:ext cx="1944720" cy="2232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332000" y="4868640"/>
            <a:ext cx="4824360" cy="108108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292640"/>
            <a:ext cx="4824360" cy="86508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3068640"/>
            <a:ext cx="4248360" cy="208908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84720" y="4869000"/>
            <a:ext cx="1295280" cy="1296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292640"/>
            <a:ext cx="295272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653000"/>
            <a:ext cx="0" cy="86364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332000" y="3068640"/>
            <a:ext cx="576000" cy="1224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3068640"/>
            <a:ext cx="3672000" cy="180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роить сечение четыреугольной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99215"/>
                    </a:srgbClr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змы плоскостью, заданной точ-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99215"/>
                    </a:srgbClr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й на боковой грани, точкой внутри    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99215"/>
                    </a:srgbClr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00">
                        <a:alpha val="99215"/>
                      </a:srgbClr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змы и точкой на боковом ребре.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00">
                      <a:alpha val="99215"/>
                    </a:srgbClr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1754280" y="22082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4520" y="482436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23240" y="2157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5760" y="472284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1000" y="3630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7960" y="616572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4040" y="3236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5800" y="582768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70480" y="36482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560" y="488808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17720" y="416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2720" y="508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13840" y="5649840"/>
            <a:ext cx="331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52848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73720" y="3794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56160" y="2817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1360" y="547200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4354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7800" y="5013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10520" y="4581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10000" y="498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1800" y="61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1844640"/>
            <a:ext cx="2627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∩ (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M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 ‖ (A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K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∩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‖ (A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(Y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∩ (KP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Y) ∩ (B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L] ∩ [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R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L] ∩ [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S) ∩ [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 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T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RT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560" y="58150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3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fde44"/>
                                      </p:to>
                                    </p:animClr>
                                    <p:animClr clrSpc="rgb">
                                      <p:cBhvr>
                                        <p:cTn id="698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fde44"/>
                                      </p:to>
                                    </p:animClr>
                                    <p:set>
                                      <p:cBhvr>
                                        <p:cTn id="699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ce26"/>
                                      </p:to>
                                    </p:animClr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ce26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10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1" dur="3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2852640"/>
            <a:ext cx="7920360" cy="316872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547280" y="1197000"/>
            <a:ext cx="158436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197000"/>
            <a:ext cx="79236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1197000"/>
            <a:ext cx="3527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197000"/>
            <a:ext cx="43200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47640" y="4365360"/>
            <a:ext cx="511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3640" y="3645000"/>
            <a:ext cx="360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19640" y="2276640"/>
            <a:ext cx="72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197000"/>
            <a:ext cx="598680" cy="34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79640" y="2491920"/>
            <a:ext cx="25923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2040" y="3090960"/>
            <a:ext cx="24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5680" y="162576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61200" y="223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33520" y="3222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82400" y="40989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52640" y="2943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98760" y="47293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8200" y="367344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89000"/>
            <a:ext cx="865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) случай когда внутреннее проецирование является центральным.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436572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2640" y="4105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98840" y="180972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416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6600" y="4653000"/>
            <a:ext cx="42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3716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5760" y="53960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62480" y="2125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0480" y="34290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4840" y="45813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05600" y="29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907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1125360"/>
            <a:ext cx="28814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∩ (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BC) ∩ (S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Y) ∩ (S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2200" y="392436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3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7120" y="2238480"/>
            <a:ext cx="2705040" cy="3371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H="1">
            <a:off x="684360" y="1557360"/>
            <a:ext cx="201600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0360" y="1557360"/>
            <a:ext cx="4319640" cy="31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268360" y="1557360"/>
            <a:ext cx="43200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87080" y="4724280"/>
            <a:ext cx="475164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4869000"/>
            <a:ext cx="1584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1557360"/>
            <a:ext cx="17272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45000" y="2257560"/>
            <a:ext cx="215640" cy="32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84000" y="4724280"/>
            <a:ext cx="6335640" cy="144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547280" y="2276640"/>
            <a:ext cx="2087640" cy="2592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8920" y="4849920"/>
            <a:ext cx="2303280" cy="647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57340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67160" y="1569960"/>
            <a:ext cx="3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64120" y="40384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91000" y="26748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5920" y="41212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49840" y="3890880"/>
            <a:ext cx="33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59280" y="5251320"/>
            <a:ext cx="3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30720" y="4672080"/>
            <a:ext cx="3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3213000"/>
            <a:ext cx="3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1557360"/>
            <a:ext cx="324000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3284640"/>
            <a:ext cx="936720" cy="57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1628640"/>
            <a:ext cx="287280" cy="31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7640" y="5373720"/>
            <a:ext cx="1512720" cy="576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1240" y="4105440"/>
            <a:ext cx="325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3860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7640" y="4797360"/>
            <a:ext cx="1440000" cy="57636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89000"/>
            <a:ext cx="896472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ffff00"/>
                </a:solidFill>
                <a:latin typeface="Arial"/>
              </a:rPr>
              <a:t>Построить сечение треугольной прамиды</a:t>
            </a:r>
            <a:endParaRPr b="0" lang="en-US" sz="1400" spc="1" strike="noStrike">
              <a:ln w="9360">
                <a:solidFill>
                  <a:srgbClr val="ff0000"/>
                </a:solidFill>
                <a:prstDash val="sysDot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ffff00"/>
                </a:solidFill>
                <a:latin typeface="Arial"/>
              </a:rPr>
              <a:t>плоскостью,заданной точкой вне пирамиды,точкой</a:t>
            </a:r>
            <a:endParaRPr b="0" lang="en-US" sz="1400" spc="1" strike="noStrike">
              <a:ln w="9360">
                <a:solidFill>
                  <a:srgbClr val="ff0000"/>
                </a:solidFill>
                <a:prstDash val="sysDot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ffff00"/>
                </a:solidFill>
                <a:latin typeface="Arial"/>
              </a:rPr>
              <a:t>на боковом ребре и точкой на боковой грани.</a:t>
            </a:r>
            <a:endParaRPr b="0" lang="en-US" sz="1400" spc="1" strike="noStrike">
              <a:ln w="9360">
                <a:solidFill>
                  <a:srgbClr val="ff0000"/>
                </a:solidFill>
                <a:prstDash val="sysDot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0280" y="13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6680" y="4721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21800" y="4581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43440" y="5848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1916280"/>
            <a:ext cx="3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53920" y="4545000"/>
            <a:ext cx="50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00680" y="4417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24160" y="580536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30160" y="302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12120" y="4525920"/>
            <a:ext cx="331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8680" y="530064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3040" y="36561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10160" y="5500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3800" y="4564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1628640"/>
            <a:ext cx="201600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∩ (CB) =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(PN) ∩ (S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(M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(CB) =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(MP) ∩ (AB) =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MK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"/>
                            </p:stCondLst>
                            <p:childTnLst>
                              <p:par>
                                <p:cTn id="9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2" dur="3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0" autoRev="1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2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3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3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3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8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49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0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2800440" cy="2904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>
            <a:off x="1042560" y="1468440"/>
            <a:ext cx="1513080" cy="39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1468440"/>
            <a:ext cx="316836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40000" y="1468440"/>
            <a:ext cx="216000" cy="496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000" y="1468440"/>
            <a:ext cx="2087280" cy="496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042920" y="4419720"/>
            <a:ext cx="46814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5427720"/>
            <a:ext cx="129708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435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642920" y="4419720"/>
            <a:ext cx="108108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92000" y="1468440"/>
            <a:ext cx="863640" cy="44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1484280"/>
            <a:ext cx="863640" cy="34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153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1484280"/>
            <a:ext cx="2232000" cy="381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701720" y="4913280"/>
            <a:ext cx="1727280" cy="1008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42920" y="5329080"/>
            <a:ext cx="3745080" cy="10656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1484280"/>
            <a:ext cx="71280" cy="388944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908000" y="3499920"/>
            <a:ext cx="1151280" cy="136692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547640" y="3933720"/>
            <a:ext cx="2448000" cy="216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547640" y="2997000"/>
            <a:ext cx="2664000" cy="1152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4941720"/>
            <a:ext cx="1223640" cy="151164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1484280"/>
            <a:ext cx="1224000" cy="388800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59280" y="3500280"/>
            <a:ext cx="1225440" cy="208764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211280" y="2979360"/>
            <a:ext cx="73080" cy="25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4149720"/>
            <a:ext cx="79236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340000" y="5589720"/>
            <a:ext cx="19447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23920" y="32590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4720" y="465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76400" y="281304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0" y="423864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26920" y="42148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15960" y="52545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0"/>
            <a:ext cx="903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ить сечение четырёхугольной пирамиды</a:t>
            </a:r>
            <a:endParaRPr b="0" lang="en-US" sz="16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оскостью,заданной точкой внутри пирамиды,</a:t>
            </a:r>
            <a:endParaRPr b="0" lang="en-US" sz="16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двумя точками на боковых гранях.</a:t>
            </a:r>
            <a:endParaRPr b="0" lang="en-US" sz="16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184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11253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528480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66040" y="420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02520" y="6364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5800" y="6364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7440" y="3716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92320" y="508464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1640" y="328464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1040" y="486900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50960" y="47433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7240" y="5805360"/>
            <a:ext cx="331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89040" y="537372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36920" y="4005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60720" y="4005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0984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1800" y="5805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68320" y="5373720"/>
            <a:ext cx="3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0640" y="371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86160" y="54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4720" y="1628640"/>
            <a:ext cx="27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∩ 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∩ (PN) =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X) ∩ (SA) =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N) ∩ (SB) =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P) ∩ (SD) =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∩ (A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M) ∩ (S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Y) ∩ (SC) =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KL =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3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9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2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3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3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3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3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9" dur="3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3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30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3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3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3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0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3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3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5" dur="30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6" dur="30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30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1" dur="3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22" dur="3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3" dur="3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5:39:21Z</dcterms:created>
  <dc:creator>Computer</dc:creator>
  <dc:description/>
  <dc:language>en-US</dc:language>
  <cp:lastModifiedBy>Computer</cp:lastModifiedBy>
  <dcterms:modified xsi:type="dcterms:W3CDTF">2011-04-25T17:47:23Z</dcterms:modified>
  <cp:revision>54</cp:revision>
  <dc:subject/>
  <dc:title>Метод внутреннего соответствия.</dc:title>
</cp:coreProperties>
</file>