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9.png" ContentType="image/png"/>
  <Override PartName="/ppt/media/image10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6A617-1FA2-4EE5-90DF-04B9BE082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53CCD-627E-42FF-B2A1-818AEC004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C52F6-BBD9-401C-8E99-49A274D90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1BC67-15F8-4CFD-BF2F-A27EB3D2D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3B25A-53EB-443B-B672-5B85E0574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1FF98-790D-4794-9E8D-660BB6EF0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16482-9B7F-41DD-BAAD-D48673D9D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E1CEB-3388-4138-B4E0-15AB38285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ABF56-E0CB-41A3-9924-E1B7E23C6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433DA-0B7D-4298-82B2-5126510CD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A8779-9A3F-4F97-9F48-E71305E6F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D843F-0949-4C96-8052-D8D7D62D0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CF469-5D8C-49C7-92A4-60987BB94B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0" lang="ru-RU" sz="1800" spc="-1" strike="noStrike">
                <a:solidFill>
                  <a:srgbClr val="0033cc"/>
                </a:solidFill>
                <a:latin typeface="Times New Roman"/>
              </a:rPr>
              <a:t>Муниципальное дошкольное образовательное учреждение муниципального района Волжский Самарской области п.г.т.Стройкерамика (ГБОУ СОШ №1 «ОЦ» СП детский сад «Солнышко»)</a:t>
            </a:r>
            <a:br>
              <a:rPr sz="1800"/>
            </a:br>
            <a:br>
              <a:rPr sz="6600"/>
            </a:br>
            <a:br>
              <a:rPr sz="2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1128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казки в загадках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дидактическое пособие по безопасности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полнила: Чубаева Е.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Джонни Яблочное Семечко и маленький гном. - 2006 Сумашедший портал!"/>
          <p:cNvPicPr/>
          <p:nvPr/>
        </p:nvPicPr>
        <p:blipFill>
          <a:blip r:embed="rId1"/>
          <a:stretch/>
        </p:blipFill>
        <p:spPr>
          <a:xfrm>
            <a:off x="108000" y="2997360"/>
            <a:ext cx="2544840" cy="36176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Сюрприз о_О - Форум - ролевая по Наруто- naruto-silver.ru"/>
          <p:cNvPicPr/>
          <p:nvPr/>
        </p:nvPicPr>
        <p:blipFill>
          <a:blip r:embed="rId2"/>
          <a:stretch/>
        </p:blipFill>
        <p:spPr>
          <a:xfrm>
            <a:off x="900000" y="115920"/>
            <a:ext cx="7128000" cy="86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Этот герой попал в беду, потому что отправился один гулять без взрослы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Итоги конкурса для детей &quot;Дай новую жизнь героям сказки &quot;Колобок"/>
          <p:cNvPicPr/>
          <p:nvPr/>
        </p:nvPicPr>
        <p:blipFill>
          <a:blip r:embed="rId1"/>
          <a:stretch/>
        </p:blipFill>
        <p:spPr>
          <a:xfrm>
            <a:off x="4500720" y="2133720"/>
            <a:ext cx="4038480" cy="33321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8360" y="1989000"/>
            <a:ext cx="190440" cy="1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 этой сказке их съели, потому что они открыли ему дверь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Скачать бесплатно Стереограммы &quot; АртГрафика - дизайнерский портал, где можно скачать бесплатно картинки, шаблоны, клипарты, фута"/>
          <p:cNvPicPr/>
          <p:nvPr/>
        </p:nvPicPr>
        <p:blipFill>
          <a:blip r:embed="rId1"/>
          <a:stretch/>
        </p:blipFill>
        <p:spPr>
          <a:xfrm>
            <a:off x="4284720" y="1628640"/>
            <a:ext cx="4174920" cy="45370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8388360" y="1484280"/>
            <a:ext cx="190440" cy="19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" restart="whenNotActive" nodeType="interactiveSeq" fill="hold">
                <p:stCondLst>
                  <p:cond evt="onClick">
                    <p:tgtEl>
                      <p:spTgt spid="50"/>
                    </p:tgtEl>
                  </p:cond>
                </p:stCondLst>
                <p:childTnLst>
                  <p:par>
                    <p:cTn id="18" fill="hold">
                      <p:stCondLst>
                        <p:cond evt="onClick">
                          <p:tgtEl>
                            <p:spTgt spid="50"/>
                          </p:tgtEl>
                        </p:cond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" dur="4745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го украла лиса, потому что он стал разговаривать с незнакомкой, а спасал его кот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Ягодны годжи сказка лиса и волк слушать онлайн Похудение - форум"/>
          <p:cNvPicPr/>
          <p:nvPr/>
        </p:nvPicPr>
        <p:blipFill>
          <a:blip r:embed="rId1"/>
          <a:stretch/>
        </p:blipFill>
        <p:spPr>
          <a:xfrm>
            <a:off x="4876920" y="1600200"/>
            <a:ext cx="3581280" cy="45259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8459640" y="1484280"/>
            <a:ext cx="190800" cy="19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" restart="whenNotActive" nodeType="interactiveSeq" fill="hold">
                <p:stCondLst>
                  <p:cond evt="onClick">
                    <p:tgtEl>
                      <p:spTgt spid="53"/>
                    </p:tgtEl>
                  </p:cond>
                </p:stCondLst>
                <p:childTnLst>
                  <p:par>
                    <p:cTn id="31" fill="hold">
                      <p:stCondLst>
                        <p:cond evt="onClick">
                          <p:tgtEl>
                            <p:spTgt spid="53"/>
                          </p:tgtEl>
                        </p:cond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" dur="4745" fill="hold"/>
                                        <p:tgtEl>
                                          <p:spTgt spid="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 этот герой поверил обманщикам коту Базилио, лисе Алис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Николай Сванидзе поручил таганрогскому суду разобраться с Буратино VDNEWS Новости Волгодонска"/>
          <p:cNvPicPr/>
          <p:nvPr/>
        </p:nvPicPr>
        <p:blipFill>
          <a:blip r:embed="rId1">
            <a:lum bright="2000"/>
            <a:alphaModFix amt="96000"/>
          </a:blip>
          <a:stretch/>
        </p:blipFill>
        <p:spPr>
          <a:xfrm>
            <a:off x="4716360" y="1197000"/>
            <a:ext cx="3430800" cy="45259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7885080" y="1557360"/>
            <a:ext cx="190440" cy="19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" restart="whenNotActive" nodeType="interactiveSeq" fill="hold">
                <p:stCondLst>
                  <p:cond evt="onClick">
                    <p:tgtEl>
                      <p:spTgt spid="56"/>
                    </p:tgtEl>
                  </p:cond>
                </p:stCondLst>
                <p:childTnLst>
                  <p:par>
                    <p:cTn id="44" fill="hold">
                      <p:stCondLst>
                        <p:cond evt="onClick">
                          <p:tgtEl>
                            <p:spTgt spid="56"/>
                          </p:tgtEl>
                        </p:cond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7" dur="4745" fill="hold"/>
                                        <p:tgtEl>
                                          <p:spTgt spid="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 в этой сказке сестра оставила брата без присмотра, а сама ушла гулять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Урок путешествие в сказку &quot;Гуси-лебеди&quot; по теме: &quot;Счёт в пределах 20. Сравнение чисел и выражений. Решение примеров&quot;"/>
          <p:cNvPicPr/>
          <p:nvPr/>
        </p:nvPicPr>
        <p:blipFill>
          <a:blip r:embed="rId1"/>
          <a:stretch/>
        </p:blipFill>
        <p:spPr>
          <a:xfrm>
            <a:off x="3995640" y="1557360"/>
            <a:ext cx="4686480" cy="43243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8604360" y="1413000"/>
            <a:ext cx="190440" cy="19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" restart="whenNotActive" nodeType="interactiveSeq" fill="hold">
                <p:stCondLst>
                  <p:cond evt="onClick">
                    <p:tgtEl>
                      <p:spTgt spid="59"/>
                    </p:tgtEl>
                  </p:cond>
                </p:stCondLst>
                <p:childTnLst>
                  <p:par>
                    <p:cTn id="57" fill="hold">
                      <p:stCondLst>
                        <p:cond evt="onClick">
                          <p:tgtEl>
                            <p:spTgt spid="59"/>
                          </p:tgtEl>
                        </p:cond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4745" fill="hold"/>
                                        <p:tgtEl>
                                          <p:spTgt spid="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Героине этой сказки попала в беду, потому что разговаривала с волком и рассказала, где живет бабушк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Афиша Читы: кино, спектакли, вечеринки, выставки, концерты - ИА ЗАБМЕДИА"/>
          <p:cNvPicPr/>
          <p:nvPr/>
        </p:nvPicPr>
        <p:blipFill>
          <a:blip r:embed="rId1"/>
          <a:stretch/>
        </p:blipFill>
        <p:spPr>
          <a:xfrm>
            <a:off x="4956120" y="1600200"/>
            <a:ext cx="3422880" cy="45259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7236000" y="1773360"/>
            <a:ext cx="190440" cy="19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" restart="whenNotActive" nodeType="interactiveSeq" fill="hold">
                <p:stCondLst>
                  <p:cond evt="onClick">
                    <p:tgtEl>
                      <p:spTgt spid="62"/>
                    </p:tgtEl>
                  </p:cond>
                </p:stCondLst>
                <p:childTnLst>
                  <p:par>
                    <p:cTn id="70" fill="hold">
                      <p:stCondLst>
                        <p:cond evt="onClick">
                          <p:tgtEl>
                            <p:spTgt spid="62"/>
                          </p:tgtEl>
                        </p:cond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3" dur="4745" fill="hold"/>
                                        <p:tgtEl>
                                          <p:spTgt spid="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Открытки спасибо - на каждые день - бесплатные открытки анимации спасибо - анимированные GIF открытки спасибо - отправить в гост"/>
          <p:cNvPicPr/>
          <p:nvPr/>
        </p:nvPicPr>
        <p:blipFill>
          <a:blip r:embed="rId1"/>
          <a:stretch/>
        </p:blipFill>
        <p:spPr>
          <a:xfrm>
            <a:off x="1238400" y="1047600"/>
            <a:ext cx="6667200" cy="47628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7524720" y="2565360"/>
            <a:ext cx="190440" cy="19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restart="whenNotActive" nodeType="interactiveSeq" fill="hold">
                <p:stCondLst>
                  <p:cond evt="onClick">
                    <p:tgtEl>
                      <p:spTgt spid="64"/>
                    </p:tgtEl>
                  </p:cond>
                </p:stCondLst>
                <p:childTnLst>
                  <p:par>
                    <p:cTn id="76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9" dur="4745" fill="hold"/>
                                        <p:tgtEl>
                                          <p:spTgt spid="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писок интернет - источник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.http://yandex.ru/images/search?img_url=http%3A%2F%2Fs19.rimg.info%2F33bb20e0cd8b26c9211ce02712157b7e.gif&amp;uinfo=sw-1920-sh-1080-ww-1177-wh-559-pd-1.6041666269302368-wp-2x3_640x960&amp;text=картинка%20колобка%20%20из%20сказки%20на%20прозрачном%20фоне&amp;noreask=1&amp;pos=2&amp;lr=51&amp;rpt=simage&amp;pin=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.и%20семеро%20козлят%20%20из%20сказки%20на%20прозрачном%20фоне&amp;uinfo=sw-1920-sh-1080-ww-1177-wh-559-pd-1.6041666269302368-wp-2x3_640x96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.142441025409700239810333&amp;viewport=wide&amp;text=картинка%20по%20сказке%20кот%20петух%20и%20лиса%20на%20прозрачном%20фоне&amp;pos=1&amp;rpt=sim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4._reqid=88815338142441025410254684124575&amp;viewport=wide&amp;text=картинка%20по%20сказке%20Буратино%20на%20прозрачном%20фоне&amp;pos=10&amp;rpt=sim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5.reqid=88815338142441025411591949855577&amp;viewport=wide&amp;text=картинка%20по%20сказке%20гуси-лебеди%20на%20прозрачном%20фоне&amp;pos=4&amp;rpt=sim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6.15338142441025412660695223990&amp;viewport=wide&amp;text=картинка%20по%20сказке%20красная%20шапочка%20на%20прозрачном%20фоне&amp;pos=26&amp;rpt=sim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7.88815338142441025414480568829305&amp;p=3&amp;viewport=wide&amp;text=картинка%20спасибо%20за%20внимание%20на%20прозрачном%20фоне&amp;pos=108&amp;rpt=sim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28T16:06:25Z</dcterms:created>
  <dc:creator>алекс</dc:creator>
  <dc:description/>
  <dc:language>en-US</dc:language>
  <cp:lastModifiedBy>алекс</cp:lastModifiedBy>
  <dcterms:modified xsi:type="dcterms:W3CDTF">2015-03-01T06:48:50Z</dcterms:modified>
  <cp:revision>5</cp:revision>
  <dc:subject/>
  <dc:title>Мультимедийное дидактическое пособие для старших дошкольников</dc:title>
</cp:coreProperties>
</file>