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4AE-DE62-41F3-938C-A19C61B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D77-ADC7-4D8B-B7D5-97B5792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692-A0E3-4B07-89BE-3AEE2F9C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E4C-8F68-46F1-92E4-47A98599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D3E-E8C2-4389-81C0-7A10A9B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538-A31C-46D7-A390-902FCB93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F68-EE66-44BB-8E4E-DE4352C9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3E1-6795-4C14-B780-710FAEB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9DB-C0DA-4776-9A76-C8A889AA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1C6-A2B5-4293-B8EB-BA1FA40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72E-A229-40A9-B3C9-A555778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59C-6F11-45A5-B228-D518DB5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0FF-0623-4475-AF1E-38830CC1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5373720"/>
            <a:ext cx="2519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К «Гармо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5608800"/>
            <a:ext cx="403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580536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нова Т. Н.  МОУ СОШ №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692280"/>
            <a:ext cx="705672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кружающий  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згадай, о  каком  веществе  идёт  реч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рались ребятиш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рёнки и братиш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д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ь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 Рос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ая  Дожди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идим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3168720" cy="51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6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2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90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620640"/>
            <a:ext cx="77770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Превращения  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260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ВОДА -  ИСТОЧНИК    ЖИЗНИ    НА    ЗЕМЛЕ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6840720" cy="508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66960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ccff"/>
                </a:solidFill>
                <a:latin typeface="Arial"/>
              </a:rPr>
              <a:t>Испарение  воды</a:t>
            </a:r>
            <a:r>
              <a:rPr b="1" i="1" lang="en-US" sz="4400" spc="-1" strike="noStrike">
                <a:solidFill>
                  <a:srgbClr val="33c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cc"/>
                </a:solidFill>
                <a:latin typeface="Arial"/>
              </a:rPr>
              <a:t>Замерзание  во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Состояние  в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00000" y="1728360"/>
            <a:ext cx="7499520" cy="4426200"/>
            <a:chOff x="900000" y="1728360"/>
            <a:chExt cx="7499520" cy="4426200"/>
          </a:xfrm>
        </p:grpSpPr>
        <p:sp>
          <p:nvSpPr>
            <p:cNvPr id="60" name="_s13324"/>
            <p:cNvSpPr/>
            <p:nvPr/>
          </p:nvSpPr>
          <p:spPr>
            <a:xfrm>
              <a:off x="3287880" y="1728360"/>
              <a:ext cx="2735280" cy="24498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25"/>
            <p:cNvSpPr/>
            <p:nvPr/>
          </p:nvSpPr>
          <p:spPr>
            <a:xfrm>
              <a:off x="3719520" y="2304720"/>
              <a:ext cx="1697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3322"/>
            <p:cNvSpPr/>
            <p:nvPr/>
          </p:nvSpPr>
          <p:spPr>
            <a:xfrm>
              <a:off x="5735520" y="3457440"/>
              <a:ext cx="2664000" cy="26971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23"/>
            <p:cNvSpPr/>
            <p:nvPr/>
          </p:nvSpPr>
          <p:spPr>
            <a:xfrm>
              <a:off x="5724720" y="450828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3320"/>
            <p:cNvSpPr/>
            <p:nvPr/>
          </p:nvSpPr>
          <p:spPr>
            <a:xfrm>
              <a:off x="900000" y="3357360"/>
              <a:ext cx="2735280" cy="27684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21"/>
            <p:cNvSpPr/>
            <p:nvPr/>
          </p:nvSpPr>
          <p:spPr>
            <a:xfrm>
              <a:off x="1403280" y="443664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2195640" y="1413000"/>
            <a:ext cx="1008000" cy="180000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1484280"/>
            <a:ext cx="863640" cy="187344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125360"/>
            <a:ext cx="0" cy="432000"/>
          </a:xfrm>
          <a:prstGeom prst="line">
            <a:avLst/>
          </a:prstGeom>
          <a:ln w="63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39840" y="6230880"/>
            <a:ext cx="65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Соедините   стрелками   названия   процес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Испарение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1989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ение воды в л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85264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Замерза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85264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ение пара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365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Тая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429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ение воды в п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4450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Конденсация   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544500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ение льда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495400">
            <a:off x="2050560" y="3141720"/>
            <a:ext cx="3421080" cy="358560"/>
          </a:xfrm>
          <a:prstGeom prst="rightArrow">
            <a:avLst>
              <a:gd name="adj1" fmla="val 50000"/>
              <a:gd name="adj2" fmla="val 2385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083800">
            <a:off x="2687400" y="2541600"/>
            <a:ext cx="2376360" cy="360360"/>
          </a:xfrm>
          <a:prstGeom prst="rightArrow">
            <a:avLst>
              <a:gd name="adj1" fmla="val 50000"/>
              <a:gd name="adj2" fmla="val 1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429800">
            <a:off x="2741400" y="4896000"/>
            <a:ext cx="2341440" cy="358560"/>
          </a:xfrm>
          <a:prstGeom prst="rightArrow">
            <a:avLst>
              <a:gd name="adj1" fmla="val 50000"/>
              <a:gd name="adj2" fmla="val 1632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967200">
            <a:off x="2268360" y="4292280"/>
            <a:ext cx="3224520" cy="422280"/>
          </a:xfrm>
          <a:prstGeom prst="rightArrow">
            <a:avLst>
              <a:gd name="adj1" fmla="val 50000"/>
              <a:gd name="adj2" fmla="val 1908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08:52:08Z</dcterms:created>
  <dc:creator>Пользователь2</dc:creator>
  <dc:description/>
  <dc:language>en-US</dc:language>
  <cp:lastModifiedBy>Администратор</cp:lastModifiedBy>
  <dcterms:modified xsi:type="dcterms:W3CDTF">2006-08-17T02:28:21Z</dcterms:modified>
  <cp:revision>27</cp:revision>
  <dc:subject/>
  <dc:title>Окружающий  мир</dc:title>
</cp:coreProperties>
</file>