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E92-4755-4CE2-8E05-EC76272F1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E524-46B3-43B7-B3AA-70C2E693C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B581-ABE2-4414-B932-EBEB9539F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F6B-DE0E-41F8-8428-D6F60EF3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ADE-2CB4-4235-A514-1954369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B1A-9B7D-4DD5-B28E-8FBD41B0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4BF-C602-4D73-BDD1-1B065DB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3AB-2325-4E72-9520-0828399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178-96CE-4F25-88F8-69C94CB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B74-037A-445C-8740-676471F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9AB-0AD2-4E5F-8ADA-3D320BC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BA5-6481-4DC8-8940-6337A0C2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CC0-A686-4AFB-AE68-434C15B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5FD-E804-4E38-9F2C-C80F854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806-8AAC-4B63-B2B5-A1FE5E23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D1E-8C5C-482F-9C55-11B10D350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93b"/>
            </a:gs>
            <a:gs pos="100000">
              <a:srgbClr val="ff7c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5c9"/>
          <p:cNvPicPr/>
          <p:nvPr/>
        </p:nvPicPr>
        <p:blipFill>
          <a:blip r:embed="rId1"/>
          <a:stretch/>
        </p:blipFill>
        <p:spPr>
          <a:xfrm>
            <a:off x="160020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038480" y="3886200"/>
            <a:ext cx="472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ставила: 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ell MT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квалифик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тегории МБОУ «ДООШ» Ефремова О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44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 в 4 года в Греции в город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лимп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ходили Олимпийские иг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первые они были проведены в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77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оду до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лимпийские игры посвящались богу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ев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здник в Олимпии проходил в течени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ми видами состязаний были бег, метание диска и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пь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прыжки, борь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44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ритерии оцен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5» - нет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4» -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3» - 2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- 3 и более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44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ва 198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olymp"/>
          <p:cNvPicPr/>
          <p:nvPr/>
        </p:nvPicPr>
        <p:blipFill>
          <a:blip r:embed="rId2"/>
          <a:stretch/>
        </p:blipFill>
        <p:spPr>
          <a:xfrm>
            <a:off x="4876920" y="1523880"/>
            <a:ext cx="353988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8" descr="1980s_emblem_b"/>
          <p:cNvPicPr/>
          <p:nvPr/>
        </p:nvPicPr>
        <p:blipFill>
          <a:blip r:embed="rId3"/>
          <a:stretch/>
        </p:blipFill>
        <p:spPr>
          <a:xfrm>
            <a:off x="685800" y="1752480"/>
            <a:ext cx="3524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lay-sochi2014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92b0404c7815"/>
          <p:cNvPicPr/>
          <p:nvPr/>
        </p:nvPicPr>
        <p:blipFill>
          <a:blip r:embed="rId1"/>
          <a:stretch/>
        </p:blipFill>
        <p:spPr>
          <a:xfrm>
            <a:off x="1450800" y="228600"/>
            <a:ext cx="6221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13372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33, стр. 149-154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йти информацию о значении каждого кольца из олимпийской симво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5c9"/>
          <p:cNvPicPr/>
          <p:nvPr/>
        </p:nvPicPr>
        <p:blipFill>
          <a:blip r:embed="rId1"/>
          <a:stretch/>
        </p:blipFill>
        <p:spPr>
          <a:xfrm>
            <a:off x="1523880" y="0"/>
            <a:ext cx="606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92b0404c7815"/>
          <p:cNvPicPr/>
          <p:nvPr/>
        </p:nvPicPr>
        <p:blipFill>
          <a:blip r:embed="rId1"/>
          <a:stretch/>
        </p:blipFill>
        <p:spPr>
          <a:xfrm>
            <a:off x="2209680" y="990720"/>
            <a:ext cx="462780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1371600" y="380880"/>
            <a:ext cx="7086600" cy="312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252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Благодарю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762120" y="4419720"/>
            <a:ext cx="80769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сотрудничест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908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комимся с историей возникновения и проведения Олимпийских иг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м развивать навыки самостоятельной работы с учеб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им усвоение изученного материала с помощью теста, в результате взаимопроверки вы сами оцените знания друг друга по теме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еюсь каждый из вас понимает необходимость ведения здорового образа жизни, уважения старших и друг друга и необходимость быть патриотом своей страны и уважать представителей других государ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13372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sportabra.ru/index.php?newsid=1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www.raskrashkirus.ru/risunki-i-kartinki-na-temu-olimpiyskie-igri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turuhansk-region.ru/news/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2014-olympiad.ru/1/1/olimpiada-2014-vikipediy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www.privetsochi.ru/comments/page27296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http://clubs.ya.ru/4611686018427405468/replies.xml?item_no=12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908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а «Чистая дос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спортивные состязания в Греции получили название «Олимпийски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гда состоялись первые Олимпийски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му богу были посвящены Олимпийски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Олимпийские игры получили название «Праздник объединения эллинов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 мог участвовать в состяза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 такие атл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2971800" y="44956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2956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 rot="389400">
            <a:off x="1447560" y="-228600"/>
            <a:ext cx="6324480" cy="654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80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76 г. до. н.э. - пер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лимпий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19520" y="0"/>
            <a:ext cx="378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666880"/>
            <a:ext cx="9172440" cy="10362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Олимпийские игры продолжались 5 д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день – атлеты приносили жертвы богам, давали клятву бороться честно. Судьи клялись выносить справедливые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4  - проходили спортивные состя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день – награждали побе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908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Основные виды спор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етание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етание коп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ры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орь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Кулачный 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оревнование колес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71720" cy="1752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121788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rcRect l="15778" t="7842" r="68447" b="73534"/>
          <a:stretch/>
        </p:blipFill>
        <p:spPr>
          <a:xfrm>
            <a:off x="3733920" y="129528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3657600" y="2971800"/>
            <a:ext cx="1762200" cy="15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n8vhd1_cont"/>
          <p:cNvPicPr/>
          <p:nvPr/>
        </p:nvPicPr>
        <p:blipFill>
          <a:blip r:embed="rId6"/>
          <a:stretch/>
        </p:blipFill>
        <p:spPr>
          <a:xfrm>
            <a:off x="7391520" y="2743200"/>
            <a:ext cx="130176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7"/>
          <a:srcRect l="51028" t="64220" r="3183" b="10787"/>
          <a:stretch/>
        </p:blipFill>
        <p:spPr>
          <a:xfrm>
            <a:off x="4495680" y="4648320"/>
            <a:ext cx="28958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8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38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84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384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384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384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84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384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384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384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84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384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384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384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a5c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440" y="-1828800"/>
            <a:ext cx="9172440" cy="10363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 в 4 года в Греции в городе … проходили Олимпийские иг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первые они были проведены в … году до н.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лимпийские игры посвящались богу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здник в Олимпии проходил в течение … д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ми видами состязаний были бег, метание диска и …, прыжки, борь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3T17:04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